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10.png" ContentType="image/png"/>
  <Override PartName="/ppt/media/image2.png" ContentType="image/pn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BC7-718E-4BAA-A7B3-A24A2109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1A0-A1C4-4C0E-ADC6-374B8D43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78A-3483-4A1D-87BF-97257F8D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031-CB53-4227-8E68-D5F9988B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3F5-B1DA-463D-8EDE-11D414E4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C0F-B5DF-44D5-83ED-8083CCF7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B50-70AB-44AD-8319-617878F0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11A-5327-41B8-ABAC-CA81755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7DD-5C46-4739-B45D-F9C55524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7D9-4ACB-4304-93BA-C348F376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F5A-CD4F-4D53-8A73-ED40B10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E8D-12DB-4254-80AE-6E0D96D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DED8-A0A7-4957-AC9D-CE2E8BEB10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372600" y="762120"/>
            <a:ext cx="373392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19320" y="5181480"/>
            <a:ext cx="693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8"/>
          <p:cNvGraphicFramePr/>
          <p:nvPr/>
        </p:nvGraphicFramePr>
        <p:xfrm>
          <a:off x="0" y="-565200"/>
          <a:ext cx="9144000" cy="74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65200"/>
                    <a:ext cx="9144000" cy="74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9"/>
          <p:cNvSpPr/>
          <p:nvPr/>
        </p:nvSpPr>
        <p:spPr>
          <a:xfrm>
            <a:off x="5334120" y="2209680"/>
            <a:ext cx="25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067280" y="1981080"/>
            <a:ext cx="5076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Желнов Дани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7 клас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МБОУ-СОШ с.Кистен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924360" y="3333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5ffe0"/>
                </a:solidFill>
                <a:latin typeface="Times New Roman"/>
              </a:rPr>
              <a:t>Саванн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6461280" y="439560"/>
            <a:ext cx="2225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57200" y="7477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95880" y="152280"/>
            <a:ext cx="3048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рафы защищаются от врагов бегством, а иногда им помогает скрыться пятнистая окраска. Несмотря на неуклюжий вид они бегают быстрее лошад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0" y="0"/>
            <a:ext cx="3124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ые высокие в мире - жирафы (до 6 м. ). Они питаются листьями и побегами деревьев, которые легко достают благодаря высокому рост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чтобы взять корм с земли, им приходится либо становиться на колени, либо сильно расставлять ног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429000" y="6094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66"/>
                </a:solidFill>
                <a:latin typeface="Times New Roman"/>
              </a:rPr>
              <a:t>Почв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2095560" y="3352680"/>
          <a:ext cx="495288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3352680"/>
                    <a:ext cx="49528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4"/>
          <p:cNvSpPr/>
          <p:nvPr/>
        </p:nvSpPr>
        <p:spPr>
          <a:xfrm>
            <a:off x="525600" y="167652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аваннах преобладают красно-бурые почвы с толщиной плодородного слоя до 30 см. Он быстро вымывается в период дождей, если почва не закреплена раститель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228600" y="1522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66"/>
                </a:solidFill>
                <a:latin typeface="Times New Roman"/>
              </a:rPr>
              <a:t>Хозяйственная деятельность люде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152280" y="4191120"/>
          <a:ext cx="27432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191120"/>
                    <a:ext cx="2743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6248520" y="4191120"/>
          <a:ext cx="259056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191120"/>
                    <a:ext cx="25905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3048120" y="4210200"/>
          <a:ext cx="3047760" cy="24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210200"/>
                    <a:ext cx="304776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8"/>
          <p:cNvSpPr/>
          <p:nvPr/>
        </p:nvSpPr>
        <p:spPr>
          <a:xfrm>
            <a:off x="190440" y="1295280"/>
            <a:ext cx="895356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тели саванны издавна занимаются скотоводством и земледелием. Они расчищают новые участки саванн, выжигая при этом естественну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и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щивают кукурузу, африканское просо – сорго, кофейное дерево, земляной орех. Для туристов проводят экскур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819520" y="53352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66"/>
                </a:solidFill>
                <a:latin typeface="Times New Roman"/>
              </a:rPr>
              <a:t>Источники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14400" y="19810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87280" y="177336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енко В.Г. Экология животных. 7 класс. М.:Вентана-Граф,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116000" y="2633760"/>
            <a:ext cx="651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инская В. А. и др. География материков и океанов: Учебник для 7 кл. сред. шк.-М.: Просвещение, 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галерея «Животный мир» -тематическая подборка и программная оболоч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 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352680" y="5335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66"/>
                </a:solidFill>
                <a:latin typeface="Times New Roman"/>
              </a:rPr>
              <a:t>ПЛ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85800" y="1752480"/>
            <a:ext cx="6019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матические усло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зяйственная деятельность лю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5105520" y="1828800"/>
          <a:ext cx="37335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828800"/>
                    <a:ext cx="37335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09480" y="1522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66"/>
                </a:solidFill>
                <a:latin typeface="Times New Roman"/>
              </a:rPr>
              <a:t>Географическое полож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257800" y="243828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ванны занимают почти 40% площади материка,  расположены вокруг влажных экваториальных ле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267440" cy="401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79_arrow1rightred"/>
          <p:cNvPicPr/>
          <p:nvPr/>
        </p:nvPicPr>
        <p:blipFill>
          <a:blip r:embed="rId2"/>
          <a:stretch/>
        </p:blipFill>
        <p:spPr>
          <a:xfrm>
            <a:off x="826920" y="2997360"/>
            <a:ext cx="5716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9366E-007 C 0.05868 0.00394 0.11771 -3.7936600000006E-007 0.17639 0.00139 C 0.20538 0.00648 0.21285 0.00671 0.24931 0.00764 C 0.26111 0.00717 0.27292 0.00764 0.28455 0.00625 C 0.29063 0.00555 0.29844 0.00116 0.30469 -3.79366E-007 C 0.31424 0.00093 0.31771 -0.00023 0.32465 0.00625 C 0.32604 0.01134 0.32813 0.01527 0.32934 0.02036 C 0.33038 0.03031 0.33004 0.03447 0.33403 0.0421 C 0.33629 0.05112 0.33889 0.05413 0.34583 0.05621 C 0.3592 0.05529 0.37517 0.05205 0.3882 0.05783 C 0.39566 0.07379 0.38785 0.08721 0.38229 0.10178 C 0.37952 0.10895 0.37708 0.11659 0.37292 0.12214 C 0.37118 0.13139 0.36597 0.13579 0.36111 0.1425 C 0.35469 0.15106 0.34861 0.15938 0.34219 0.16771 C 0.33767 0.17372 0.33403 0.18251 0.33056 0.18945 C 0.31979 0.21074 0.33333 0.18344 0.32344 0.20056 C 0.31858 0.20912 0.31528 0.21929 0.31163 0.22878 C 0.30938 0.24289 0.30955 0.24567 0.31059 0.26325 C 0.31007 0.27898 0.31267 0.31414 0.3 0.32593 C 0.29809 0.3331 0.29514 0.3331 0.29045 0.33681 C 0.27795 0.34629 0.26493 0.3449 0.25052 0.34629 C 0.23056 0.3449 0.21406 0.34143 0.1941 0.34004 C 0.1882 0.33496 0.18802 0.32663 0.18559 0.31807 C 0.1849 0.3146 0.1816 0.3109 0.17986 0.30858 C 0.17865 0.3035 0.17379 0.29447 0.17379 0.29447 C 0.17049 0.27921 0.17361 0.26278 0.16702 0.24914 C 0.16563 0.23965 0.16511 0.23086 0.16111 0.22253 C 0.16493 0.18784 0.19479 0.20148 0.21736 0.20056 C 0.23906 0.19454 0.24358 0.19547 0.27396 0.19431 C 0.27639 0.18969 0.27761 0.18483 0.27986 0.1802 C 0.28073 0.16956 0.28212 0.15938 0.28351 0.14874 C 0.28316 0.13671 0.28368 0.12445 0.28229 0.11266 C 0.28177 0.10803 0.27327 0.10363 0.27049 0.1034 C 0.24705 0.10248 0.22344 0.10225 0.2 0.10178 C 0.19375 0.1004 0.1882 0.09785 0.18229 0.09554 C 0.17899 0.09438 0.17292 0.0923 0.17292 0.0923 C 0.15434 0.09346 0.14045 0.09415 0.12344 0.10016 C 0.1191 0.0997 0.11458 0.10063 0.11059 0.09855 C 0.10851 0.09739 0.10365 0.08397 0.10226 0.08143 C 0.09896 0.07541 0.0974 0.07611 0.09167 0.07356 C 0.07083 0.06408 0.01077 0.06894 0.00816 0.06894 C 0.00747 0.06847 0.00087 0.06408 2.77778E-007 0.06269 C -0.00087 0.0613 -0.00069 0.05945 -0.00121 0.05783 C -0.00191 0.05621 -0.00278 0.05459 -0.00364 0.05321 C -0.0059 0.04997 -0.01059 0.04372 -0.01059 0.04372 C -0.0118 0.03771 -0.01389 0.03262 -0.01545 0.0266 C -0.01389 0.00926 -0.01614 0.0162 -0.00955 0.00301 C -0.00868 0.00139 -0.00851 -0.00185 -0.00712 -0.00162 C -0.00469 -0.00115 -0.00243 -0.00046 2.77778E-007 -3.79366E-007 Z">
                                      <p:cBhvr>
                                        <p:cTn id="3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52560" y="5335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66"/>
                </a:solidFill>
                <a:latin typeface="Times New Roman"/>
              </a:rPr>
              <a:t>Климатические услов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80880" y="1828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65040" y="14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79280" y="155736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ванны находятся в субэкваториальном поясе. В саваннах  два резко выраженных сезона – сухая и жаркая зима и дождливое, жаркое лето. Средняя температура июля и января +22С. Средне годовое количество осадков от 500 до 2000 мм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субэкв"/>
          <p:cNvPicPr/>
          <p:nvPr/>
        </p:nvPicPr>
        <p:blipFill>
          <a:blip r:embed="rId1"/>
          <a:srcRect l="5216" t="7589" r="3668" b="3789"/>
          <a:stretch/>
        </p:blipFill>
        <p:spPr>
          <a:xfrm>
            <a:off x="2987640" y="3357720"/>
            <a:ext cx="2100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905120" y="3808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66"/>
                </a:solidFill>
                <a:latin typeface="Times New Roman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66760" y="1371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аваннах произрастают высокие до 3 метров травы. Деревья, например, акации, баобабы здесь растут в одиночку или отдельными групп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4067280" y="2565360"/>
          <a:ext cx="44956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565360"/>
                    <a:ext cx="44956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5"/>
          <p:cNvSpPr/>
          <p:nvPr/>
        </p:nvSpPr>
        <p:spPr>
          <a:xfrm>
            <a:off x="3048120" y="3429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eren.avi" descr=""/>
          <p:cNvPicPr/>
          <p:nvPr/>
        </p:nvPicPr>
        <p:blipFill>
          <a:blip r:embed="rId3"/>
          <a:stretch/>
        </p:blipFill>
        <p:spPr>
          <a:xfrm>
            <a:off x="179280" y="3525840"/>
            <a:ext cx="35290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3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572000" y="0"/>
            <a:ext cx="4419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обаб по праву считается одним из символов Африки южнее Сахары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дерево живёт 4-5 тыс.лет, высота его редко превышает 25 м, зато в обхвате –  до 40 м. Баобабы не боятся пожаров, но их врагами являются слоны. Они объедают влажную кору. Плодами дерева лакомятся обезья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5447" t="0" r="6240" b="0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248520" y="90360"/>
            <a:ext cx="26668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онтичная акация. Словно огромные зонтики  среди высоких трав поднимаются ветвистые акации. Но под этим зонтиком не найти тени. Мелкие листочки акации, расположенные ребром к солнцу, пропускают отвесно падающие лучи. Если встать под зонтик акации и посмотреть вверх, то зелёная крона на фоне ярко-синего неба покажется кружевн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0" y="6858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66"/>
                </a:solidFill>
                <a:latin typeface="Times New Roman"/>
              </a:rPr>
              <a:t>Животный ми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7238880" y="1676520"/>
          <a:ext cx="19051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676520"/>
                    <a:ext cx="19051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304920" y="1676520"/>
          <a:ext cx="21333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76520"/>
                    <a:ext cx="2133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7"/>
          <p:cNvGraphicFramePr/>
          <p:nvPr/>
        </p:nvGraphicFramePr>
        <p:xfrm>
          <a:off x="3162240" y="4724280"/>
          <a:ext cx="281952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62240" y="472428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8"/>
          <p:cNvGraphicFramePr/>
          <p:nvPr/>
        </p:nvGraphicFramePr>
        <p:xfrm>
          <a:off x="6858000" y="4038480"/>
          <a:ext cx="213372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4038480"/>
                    <a:ext cx="2133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0"/>
          <p:cNvGraphicFramePr/>
          <p:nvPr/>
        </p:nvGraphicFramePr>
        <p:xfrm>
          <a:off x="304920" y="4038480"/>
          <a:ext cx="213336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0384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2"/>
          <p:cNvSpPr/>
          <p:nvPr/>
        </p:nvSpPr>
        <p:spPr>
          <a:xfrm>
            <a:off x="2590920" y="2057400"/>
            <a:ext cx="4647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й мир саванн очень разнообразен.Траву поедают термиты, муравьи, растительноядные грызуны.Но главные любители трав – жвачные животные, на которых охотятся крупные хищники – львы ,гепарды, гиены. В саваннах Африки живут настоящие великаны - слоны и носоро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"/>
          <p:cNvSpPr/>
          <p:nvPr/>
        </p:nvSpPr>
        <p:spPr>
          <a:xfrm>
            <a:off x="152280" y="228600"/>
            <a:ext cx="2438640" cy="87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фриканский слон- самое крупное наземное животное, его масса 5 тонн, высота 3,5м, длина туловища 4,5м.  Раньше африканские слоны жили на всём материке. Теперь их осталось мало. Они истреблены из-за ценной слоновой кости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вн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Сейчас для сохранения слонов созданы заповедники. Но восстановить поголовье слонов трудно, так как только к 10-15 годам молодые слоны становятся взрослы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12760" y="26676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0i</cp:lastModifiedBy>
  <dcterms:modified xsi:type="dcterms:W3CDTF">2014-11-02T17:19:52Z</dcterms:modified>
  <cp:revision>20</cp:revision>
  <dc:subject/>
  <dc:title>PowerPoint Presentation</dc:title>
</cp:coreProperties>
</file>