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FC1-3B33-4EB2-8F2B-42F0EF64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38E-FC31-4DB1-BD63-68B6DCBB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0DA-0D3F-44B9-BBBE-8A7FFEF4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554-FB12-4D5D-B187-D01700DB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6232-44DC-4A8E-81F8-C4A0E664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1F27-834E-45D6-9597-14DDDBC0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0B62-9E08-4B21-B35D-6D67C5EF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05F7-9350-4C30-90B7-3FD68DFF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0AA6-B846-464F-89C5-11DE8D4E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6007-CD57-40F7-B209-6E2C14BB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4065-BD85-4400-8744-F877ECB9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F7E-EB05-4093-97FE-E2F1F6B0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2135-2037-40D8-9D8C-38C90D0D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7E4E-144C-4511-84E8-2400C14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D3B4-DEBC-490B-88EF-C98299ED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EB82-538B-4208-A202-26308EDA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2A70-4DEF-47A9-8C30-30427858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D22-8820-4389-9AA8-A8085F1D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DC5-FCC9-4AF0-9274-74BAD696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534-F3EA-4C89-B2BC-60118899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6FF-5874-41FB-9A32-C6A332F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FA2-9DFE-412E-9315-DA49D274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31B-7A89-4734-BB22-78338A99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364-DF2F-4D58-A164-CCE319CA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4861-5E15-40BA-8D92-DA86134D1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7901-3822-4584-9F89-2ACB7FA21B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Направление :Презентации в образовательном процессе.</a:t>
            </a:r>
            <a:br>
              <a:rPr sz="2000"/>
            </a:br>
            <a:r>
              <a:rPr b="1" i="1" lang="ru-RU" sz="2000" spc="-1" strike="noStrike">
                <a:solidFill>
                  <a:srgbClr val="ffffb7"/>
                </a:solidFill>
                <a:latin typeface="Arial Black"/>
              </a:rPr>
              <a:t>Номинация :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Презентации в работе с детьми.</a:t>
            </a:r>
            <a:br>
              <a:rPr sz="2000"/>
            </a:br>
            <a:br>
              <a:rPr sz="40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истема работы с педагогическими кадрами по теме « Взаимодействие педагогов и родителей в воспитании и обучении»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Андреичева Марина Дмитриевна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тарший воспитатель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ГБОУ СОШ № 12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ндивидуальные педагогические беседы с родителям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беседы-обмен мнениями по вопросам воспитания, ее особенность –активное участие воспитателя и роди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начинается с общих вопросов, надо приводить факты положительно характеризующие ребенка. Затем можно спросить родителя как они добиваются положительных результатов в воспитании. Далее можно тактично остановиться на проблемах воспитания ребенка, которые на взгляд воспитателя, еще необходимо доработать. Можно дать конкретные рекоменд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Досуговые формы организации общен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дение совместных праздников, досуг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ие родителей и детей в выставк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местное участие родителей и детей в спортивных соревнован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матические выставк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ходят совместно с родителями на определенную тематик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Осенняя фантазия» ( из природного материал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ушка-з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Встречи за круглым столо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ор тем для обсуждения обуславливается интересами и запросами родителей (проводится анкет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выбранной теме воспитатель готовит полезную и интересную информацию, приглашает специалис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ни открытых двер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тели в этот день имеют возмож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накомиться с жизнью ребенка в детском са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идеть как ребенок занимается и отдых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общаться с его друзьями и воспитате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участвовать в играх и занят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увидеть своего ребенка в условиях отличных от домашних, способствует пересмотру родителями своих методов и приемов вос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дительские собр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ьские собрания являются важнейшей формой взаимодействия, средством повышения эффективности воспитательно-образовательного процес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актические рекомендации по подготовке к родительскому собранию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кетирование родителей по теме собр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ее определяется форма проведения и его содерж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ираются наглядные сре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говаривается тема со специалистами и их учас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навливается день и время пр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тся поме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словие успешного проведения собр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важать права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ренне выражать чувства, уметь управлять 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имательно и чутко относиться к эмоциональному состоянию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оставлять возможность родителям рассказывать о возникающих трудностях в воспитании ребенка, при этом быть уверенным, что тебя услышат и квалифицированно помо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торопиться с выводами и рекомендациями, а стремиться к пониманию и совместному решению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авила поведения педагога на собра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мите собственное напряжение и тревогу перед встречей с род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йте родителям почувствовать ваше уважение и внимание к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бедите родителей в том, что у сада и семьи одни проблемы, одни задачи, одни д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арайтесь понять родителей, правильно определите наиболее волнующие пробл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вом и делом помогите родителям находить оптимальные пути и способы решения проблемных ситуаций, формируйте у них уверенность в том, что в воспитании детей они всегда могут рассчитывать на Вашу поддерж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говаривайте с родителями спокойно, доброжелательно, заинтересова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, чтобы родители всех воспитанников: благополучных и трудновоспитуемых ушли с собрания с верой в своего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гите время родителей, с этой целью установите регламент собрания и следите за его соблюд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48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стема работы с педагогическими кадрами по теме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 Взаимодействие педагогов и родителей в воспитании и обучени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дение родительского собр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одная часть- создание атмосферы доброжелательности и доверия, замотивировать на совместное решение проб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 – выступление воспитателя  других специалистов по рассматриваемой проблеме. Сообщения должны быть короткими. Главное, чтобы родители не были пассивными слушателями, нужно задавать вопросы им, приводить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ительная часть – обсуждается организация совместных меропри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кончании собрания необходимо подвести итог встречи, перечислив принятые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дведение итогов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эффективного взаимодействия нужно, чтобы педагоги участвовали в психолого-педагогическом просвещении родителей; изучали семьи, их воспитательные возможности; обязательно вовлекали родителей в образовательную работу детского с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оль семьи в личностном воспитании дошколь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ребёнка семья — это среда, в которой складываются условия его физического, психического, эмоционального и интеллектуального развития. Современная семья является источником самых разнообразных психолого-педагогических проблем. Далеко не каждая семья может предложить своему ребенку грамотную и эффективную систему личностного воспитания дошкольника. Поэтому детский сад призван скорректировать эту пробл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облемы взаимодействия семьи и детского сад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 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ссивность родител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различное отношение к своему ребен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резмерная занятость родителей, недоверие родителей к педагогам, нежелание идти на контак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грессивное восприятие информации, идущей от воспитател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Методы выявления педагогической культуры и степени участия родителей в воспитан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кетирование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видуальные беседы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видуальные беседы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ещение семьи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людение за ребенком в сюжетно-ролевой игре « Семь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людение воспитателем за взаимоотношением родителей и детей во время приема и ух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дачи работы воспитателя по взаимодействию с родителям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новить партнерские отношения с семьей каждого воспитан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ть атмосферу взаимопонимания, общности интересов, эмоциональной взаимоподдер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изировать и обогащать воспитательные умения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ть их уверенность в собственных педагогических возможност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правление работы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ржание семейного воспитания и вопросы повышения педагогической культуры родителей в детском са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ческие рекомендации воспитателям относительно содержания, форм и методов работы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ие педагогических умений воспит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Формы и методы взаимодействия с родителям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лядно-информационные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видуальные педагогические беседы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уговые формы организации об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ческие вы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тречи за круглым сто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ни открытых двер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ские собр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«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глядно-информационные методы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solidFill>
            <a:srgbClr val="ffff99">
              <a:alpha val="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овые стенды « Для вас родител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пка « Родительский клуб» рекомендации от разных специалистов по разным вопрос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тические выставки касающиеся различных аспектов воспитания « Мы трудимся», « Мы и природа», « Поздравим родителей с празднико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9:40:40Z</dcterms:created>
  <dc:creator>пользователь</dc:creator>
  <dc:description/>
  <dc:language>en-US</dc:language>
  <cp:lastModifiedBy>Руслан</cp:lastModifiedBy>
  <dcterms:modified xsi:type="dcterms:W3CDTF">2014-06-18T13:07:42Z</dcterms:modified>
  <cp:revision>47</cp:revision>
  <dc:subject/>
  <dc:title>      Система работы с педагогическими кадрами по теме « Взаимодействие дошкольного учреждения и родителей в воспитании и обучении»</dc:title>
</cp:coreProperties>
</file>