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FBD-412D-4BC2-A11A-BC585E79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0B6-B619-467E-AE0B-5D90280D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21E-D8A2-432C-8BA8-4A956CBD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8F0-166D-48B4-A59B-2C01F9A5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B0F-34C1-4CF9-91E3-376FF1D8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288-FA19-48DC-863D-7C03B397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F23-C892-4BEC-8F23-C83D8004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E5D-1A36-42C4-8B91-225C18F5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8B4-B841-45EE-B630-8B77A766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1ED-6EC8-48E1-B0C3-B32E809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CAC-DBE4-4AE3-BC7E-CDDAB3AE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792-3AF4-4792-98E4-B3B2893E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B839-023C-48C3-9018-8D4D208C2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ыявить предметы, применяемые в быту, у которых имеется заклёпочное соедин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 чём отличие этих соединений от тех, которые выполнили в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единение заклёп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единить корпус и ручку с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3284640"/>
            <a:ext cx="5219640" cy="26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3078" t="0" r="58857" b="0"/>
          <a:stretch/>
        </p:blipFill>
        <p:spPr>
          <a:xfrm>
            <a:off x="611280" y="2349360"/>
            <a:ext cx="2352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единение листового металла заклёп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16397"/>
          <a:stretch/>
        </p:blipFill>
        <p:spPr>
          <a:xfrm>
            <a:off x="1042920" y="1989000"/>
            <a:ext cx="72723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апы получения заклёпочного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22747"/>
          <a:stretch/>
        </p:blipFill>
        <p:spPr>
          <a:xfrm>
            <a:off x="1187280" y="1916280"/>
            <a:ext cx="71298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 какой целью применяются эти приспособл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9080" y="1600200"/>
            <a:ext cx="4290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фессия «Слесарь - сборщ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85776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267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менение заклёпочного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4696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ёмы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полнения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клёпочного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24360" y="404640"/>
            <a:ext cx="44989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6:39:56Z</dcterms:created>
  <dc:creator>User</dc:creator>
  <dc:description/>
  <dc:language>en-US</dc:language>
  <cp:lastModifiedBy>User</cp:lastModifiedBy>
  <dcterms:modified xsi:type="dcterms:W3CDTF">2014-03-12T17:23:54Z</dcterms:modified>
  <cp:revision>18</cp:revision>
  <dc:subject/>
  <dc:title>Слайд 1</dc:title>
</cp:coreProperties>
</file>