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26C-8EC3-4D81-97D4-1E1FB674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D39-D77B-4856-AC90-F1F249C0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256-0A61-4620-8537-B6C2ABA9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77B-D46D-47DA-B3B5-467C09DE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32BE-7861-47E6-9585-7C78EFC2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F6F3-FD61-4A61-911F-F55DD5AB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1ADF-3AA5-4D7D-8F45-C9436224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DF78-6E82-4174-B750-A205914A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7B05-1EFA-456A-A4C5-C21916C4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9447-115E-46DB-85B8-0B0B7C92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9126-62A7-4B00-BACA-44AC7E9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970-59FD-4FE2-A4F9-89745F6D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68F8-9519-4E24-8237-D35BE631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332E-484B-4AD9-95B6-44906F12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31DB-3A05-4B7D-8613-88C18224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8605-3FC2-445F-BF64-4DCEA170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09E6-1DF7-4B3A-ACD8-C97EF6B4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B13-0578-45C5-9AC4-14A406D1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D47-B9B3-4158-BA26-B4647D0A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9F1-BF28-4A5A-A1E3-9D3F0EE4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99B-B698-4DAC-8BC0-5356969C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B1F-DCB6-4EAC-8C7C-52415C37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5D4-6B57-41A0-9559-451D027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9D1A-9885-4E7E-BF44-FC64FAB7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66B5-C8A8-4356-82A0-262AC7E112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548E-BF3A-47B5-880D-8D31E111AC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Times New Roman"/>
              </a:rPr>
              <a:t>Создание ситуации успеха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aeaea"/>
                </a:solidFill>
                <a:latin typeface="Times New Roman"/>
              </a:rPr>
              <a:t>Ситуация успеха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Это проживание субъектом своих личных достиж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Приемы создания ситуации успех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Снятие страх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Скрытая инструк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Авансиров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ерсональная исключитель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едагогическое внуш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Высокая оценка дета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Ты на верном пути.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Ты ловко это делаешь.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Я тобой горжусь.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Я сам не смог бы сделать лучше.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Поразительно.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Как в сказке. 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Это трогает меня до глубины души.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Ты на верном пути.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Удивительно.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Поздравляю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7969320" cy="27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«Если ребенку удастся добиться успеха в школе, у него есть все шансы на успех в жизни»,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- У. Глассе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349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Работать с вами – было одно удовольствие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6:33:00Z</dcterms:created>
  <dc:creator>NATALY</dc:creator>
  <dc:description/>
  <dc:language>en-US</dc:language>
  <cp:lastModifiedBy>NATALY</cp:lastModifiedBy>
  <dcterms:modified xsi:type="dcterms:W3CDTF">2008-12-14T17:17:22Z</dcterms:modified>
  <cp:revision>3</cp:revision>
  <dc:subject/>
  <dc:title>Создание ситуации успеха</dc:title>
</cp:coreProperties>
</file>