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10.gif" ContentType="image/gif"/>
  <Override PartName="/ppt/media/image13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11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gif" ContentType="image/gif"/>
  <Override PartName="/ppt/media/image9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9712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550188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31413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971280" y="3257640"/>
            <a:ext cx="777060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-360" y="651204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5501880" y="651204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6D83-8C00-4033-8BE4-F410F1D01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5502240" y="6512040"/>
            <a:ext cx="4210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9A2C-B727-4660-B169-CA9022909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31417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71280" y="3257640"/>
            <a:ext cx="7770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96. 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5502240" y="6512040"/>
            <a:ext cx="4210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CEC-0A33-491C-BCB1-7FB270FA6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31417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71280" y="3257640"/>
            <a:ext cx="7770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43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200-AF11-4148-90BF-F46F4686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EF0-3E41-4249-BB2F-0DDA1812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A1958-05D4-46D3-B8E3-97B50289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7FA1A-C976-4EB8-B863-4DF9A0DE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188AB-E195-4C09-B05C-BEC48000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CF2AE-78A6-4193-83EE-0BFA3A9B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9ABCD-03EA-4C28-AEBC-0B5F4E7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69E0E-84CD-420B-8D99-97C0180D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27D71-46DD-4084-84AB-41C8D1DE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B8B48-5C70-4027-BBEF-8F282B9D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67ACA-9672-43E1-AB75-2E539569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6931E-B506-470D-A0F8-DCF83B94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B82-C1DC-4EA7-AE1E-9F871706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3C0F1-B626-4717-B35D-182EE55F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702C8-966B-4D44-B3B2-02A64F4B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F94E5-B161-4687-A38E-42938D6E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A626B-F143-4A11-B5E5-8DA43D5A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56D51-F6D5-4E44-B79A-1B8A85EC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9D283-68F6-4C81-8FD7-9A8EEDE0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DCF1E-91A8-41E9-BEA8-42F42E0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B0C73-24C5-460E-A63C-2350F04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239F7-2329-4E13-8851-F49F12A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3D7AE-E07F-4491-B22E-425DB5E4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04A-1350-4894-9A51-542D1885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818CB-18E0-4722-813E-7D9ED9D2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3D046-51AF-4B05-83A9-F4C6240B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847DF-33E6-4052-88D7-6E5A396C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BAC71-27FC-4F7D-A9B6-36E0731B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A52A8-EC6D-421E-A064-8BBB4163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25185-7C5D-444D-9FAA-11541787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91613-2D8B-428D-9F92-2A08D94E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DC07D-FEE7-42A5-A692-F765572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2FA6F-4893-45CD-A459-6761B1A7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69966-FA58-4CCB-B487-08B062C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92D0-C7F2-48EF-9E14-D168AA7F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38520-F7DD-4F55-B9B0-D781FADB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175BB-74ED-4B16-8F78-B42F0DC4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E9E16-659D-4CD5-953C-CF341CE9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B4A62-2AE7-4397-9822-C611AB76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B14E1-A31B-4890-A815-3C7DF09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B9051-D851-41C3-86B3-71035DD1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65A64-A120-4484-AF91-A5DBCC9E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69B6A-E41D-4EF0-A22F-6763AFB7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69F6B-1A1B-4A92-8E98-F89A378F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E5BAE-EBE9-4CC8-ACFB-181C22A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E314-3C5C-4E88-B70B-52A3854E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4A5FC-DCC3-4ABC-A6EA-9F38EE58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B92D2-DF82-448B-B202-FFA75273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37AB4-9CF5-43A9-BF01-76B38CD0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53355-A314-46AA-BEE9-3C2D9BE0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58A61-29DB-4310-A715-4670FEF6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B39B5-CB17-4CC1-AED2-D49C9318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F7CC0-C242-400C-AACF-DAE5B29A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8A980-CDDB-480D-A65C-516FB648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DFDF2-A6F2-4C9D-A03B-6C78EB6D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0F076-1AE2-4BD0-BEE2-CCDE474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53D7-ABD0-4433-84ED-63025140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FDE88-C994-4516-AC83-3BAB677E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EB067-7219-470C-AB01-9AFCD49A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8910B-6C7A-4253-B91C-520731D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51027-226E-4678-A187-64A2AE4A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06A35-68F0-4EE3-911F-9BE70297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08CAD-42FE-4D02-8821-1024557F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238A7-3053-459E-9E03-F5CF543B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0D433-A6B5-45EB-81F6-A8021DAC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1162A-715B-4ED9-B964-1CC935A5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34866-DC14-422C-87A5-947818A0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3020-BAEF-4E89-8A3E-EDEF56FF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00001-EE7F-4B0F-946B-1545EB5D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29E8B-353A-4737-ABA9-8DF10B96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FD5FA-671C-443D-91AB-062FC16A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FA262-BCEA-43A2-A399-C014095F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3DF8B-DB6F-4D2F-97EA-CC1F2CD1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4368E-DE96-43DB-8674-325DB02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D36A8-AAA8-4598-A3A8-0A286B71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4921B-AB24-4FD6-8303-F1F6EFF9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002C2-63E4-4B58-8930-DD9C741D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37512-E45E-4DD8-961B-1564A6C0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8591-6899-46E3-A661-85773EEC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D9E12-02BD-40F0-AA9B-D189655F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9CFB8-374B-4A11-B387-C75ED171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ACBB4-8072-4261-AA90-F075798D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04045-A3DA-4C20-A698-A2E53277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15CCB-AF98-474B-AFCF-A47D317E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426E2-272B-4904-BC5A-AE9141D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EBEDD-4A37-4D4C-8CE3-645A8433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9108A-39FC-4197-BCAC-23079D0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6EC0C-19F5-4CE0-9809-7A85F1C0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F2798-2253-432F-BBFC-55DEE302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134B-D80C-486B-A469-CE8A698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40CFC-7E5D-4A63-B2C2-4168FCC4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4E563-8AEE-4043-962B-A494AB4E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B4747-D4ED-4F45-A908-8BF02E23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C9E52-E224-4C79-A299-2BF35FCB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F00DE-E1AB-4BE1-991F-FD08F1FD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10FF9-2832-4CF8-A5D5-B0BAF426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B5CE7-CE94-4392-8485-19AB217A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F743E-F88F-43E7-B2BC-24F5DD1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678D0-4143-4043-90AA-3681949D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C0558-0512-4B88-A7EB-326E894F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8729-F385-482E-B177-396C3051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47556-0D8F-4088-B5D1-23D654FE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A81E0-B63E-45A8-8CB0-E75B9ABA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B51C1-7358-4FE7-ABCA-15A7BD32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052-9F55-4BF2-B4BF-31A417EE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8C82-1290-4CD6-B95A-F69E4B1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B48C-1794-4193-9307-9CC89272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0FB0-3C09-4F29-B95D-82316AE5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BEBF-FD4D-437B-9EB9-1FE9A025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3438-DF9F-443F-91DB-25F5A009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0B33-45B6-4464-8B28-A448490B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8818-2CEA-47AF-9346-2BDEEFC8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EFB6-8FB3-4F41-A10E-1376306A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710D-DA60-4A03-A989-B6ED217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61AB-AD3A-40AE-93DD-E9BD2E6D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CD6-5AC8-4673-9253-F8C5F229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59D7-633C-43CC-94DA-B88AC78E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C663-5E36-4846-8C2B-54EE3A28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5C77-3F76-402B-9914-D8EF7EE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E9D9-28AB-495F-BE05-6B83DD7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0448-08F7-4506-9A8E-32429DB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E530-3E1A-463C-BD45-7FD521BF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A7A1-E662-4168-9CB7-2284B1E7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A7EF4-D760-44A9-AB07-AA1D7694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2380-66BA-41C7-902F-0FB022DE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774EE-E690-4091-BCEC-14D4ABE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C6F-B8B8-4E91-A5CF-1EC58502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2E65-7AA4-4D24-BBEA-3B2C0239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4F75-7FF0-4D36-B9BF-FAD69575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BB6A-2E73-4D8A-9A11-81C7CA2D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B7EE3-C275-4ACC-B77B-4A1D95E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C194-70AA-4FB9-8381-937FED48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A447-4403-4ED2-9938-84D6A08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C91EF-875A-4EC6-B990-E55682FA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3A4F-9027-4537-BB40-DB685DFF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2F87-BBB9-45B9-9572-1FCC5BE9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3856C-F66D-474B-95EE-B0C08EDE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5B7-18E2-4CB5-9DF0-E18FFE9B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B754-0321-4194-AA93-E3F730B8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4D07F-40D2-4ED7-B60D-1BED1C27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D8811-A1AC-4BC0-9EA0-230BDB1A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3E5D7-CA52-4F36-ABF1-3DEF52FA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4F30-C3CD-4849-B1FA-D4BA5822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9DBCB-0E78-4F65-AA03-78459CAE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8ECD-B839-46F1-9845-11812D21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BFC3-58BB-453E-88BD-52943CAA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DD75-2FCC-437C-AFB4-0102D8EC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56C92-F0E8-470F-8DFD-CAC76AE5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D45-75CA-4895-88D7-0BD03625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D060-C87B-413A-97EF-0CFB480C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63312-3B6E-4D44-A105-B7975256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9756E-8A7B-444A-A1A5-625E2DD0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D4C7C-8548-4D5F-B821-ADC17531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DFCCA-C114-4461-9763-36017927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B98B-058E-4835-9535-288A11A5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371B4-FB1E-4F10-A84D-0C7DCB00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38A44-AF45-4D13-88E9-34271C3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1030B-02B9-4B1A-BBA1-E64DB4B9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A687-E2F1-4409-A1C5-8CC5F1B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625-521D-42AF-8B7A-D5534D7F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467D-949E-4C2F-87DC-4084704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46EFD-F16D-4B08-A06A-83ED1C56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3044-C67A-4FFB-BFFF-D24D61BC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A514F-3B5C-4700-B58F-67805B7C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9206E-5C9E-467C-9768-E3913BFF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57C8-82CA-4188-BC7A-CBF5497C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03764-7D92-472B-8ADF-1EFB0E5F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ABF34-71C9-4166-865C-6405EFD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43496-FFA8-4349-8D08-95BE9161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A623F-1BD7-4203-A1AC-8FB2219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50B-03A5-4A8D-B3EF-D20FD8B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551AB-AFE1-49C9-B33D-9291499E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A9A5D-7893-4FD0-88D2-52C5B841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27EB1-07CD-4C4D-8455-BEBFC081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B1520-997D-4685-AEA0-BA5E898E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3C430-2D2C-458E-A567-9641D6E8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BC847-CAED-4544-B2E7-48DF1AF6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82AD8-8FCB-463C-B518-CC7847B9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956E6-E3D3-4BE0-AF67-CBE2F84D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C3E73-D96C-4086-98CA-23127587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E0229-F71B-4BB7-BF55-A760CE7F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091-80BF-4677-9CE6-4A097D7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48A7E-30D3-47A4-87E0-E4E9B5D5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B99FB-9D09-4DAE-95BA-B2628C56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76CAE-9F1D-43B1-8BF6-14DE947E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BC1CF-FDF5-4AB2-90A0-65E9858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C384-8917-415C-9AF9-38DC83A5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0F054-3AAD-47CA-94F9-C6CCC52C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CB8C8-64B1-4BE5-B3FA-3AF86194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E5152-B42B-485B-88FE-9DB3E090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1A788-2F76-4674-BD7E-51BD2A82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540E9-CB9A-4BEB-835E-736E2732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E5C9-E5CD-4FB8-B2A6-CCC63494FEE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78EB-1778-4130-87DA-ED09D72F7F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38A-ED99-45E1-BDBD-CC7068162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6B7E-735E-444D-B710-97D8640853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8E61-604D-4C9B-BB57-F3D08830D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4EA6-FFC6-4E63-AEC0-90424989F5E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D938-A1A3-4BEB-B3F1-5D70C7E02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A166-A21D-4521-96F5-6157A18241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72A0-A4A8-43A3-A331-9D87EB7FF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67DB-1245-4AC4-ADE2-B41A1A2B58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556C-C3B8-4F67-A928-384F73E10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6F94-0F91-4686-B87A-E6955F5FA9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6239-0C53-4FFF-81AD-F9B854716C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0532-8BAF-49B6-8DDC-5777F28178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30D6-1111-464D-84D0-3DB3526A9E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C531-4249-451D-803F-9D3F046F545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3BDB-2E5C-4E89-9201-44C1DB2D8A1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F8E-1A8C-4711-8EAD-17E0A339A4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BA2-8AA4-44D1-B885-3776FFB7B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C451-8214-4D06-BCE3-660E05372BD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D85-F9AD-4044-BBBE-611B4EEEDC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0CA5-EBCA-4A20-80BE-4DA2ED33C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8F91-474B-4962-9953-C7088E4960B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86A3-D7B7-4F36-9E37-7FCCA6AA8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A1EE-7810-49A2-BCC9-3F1947D804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960-288C-45DA-BE65-F19966634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2C11-0C66-42D1-BD08-066422541D8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3BD6-0D03-4369-BEF0-875D00544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7.gif"/><Relationship Id="rId12" Type="http://schemas.openxmlformats.org/officeDocument/2006/relationships/image" Target="../media/image9.gif"/><Relationship Id="rId13" Type="http://schemas.openxmlformats.org/officeDocument/2006/relationships/image" Target="../media/image8.gi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4"/>
          <p:cNvSpPr/>
          <p:nvPr/>
        </p:nvSpPr>
        <p:spPr>
          <a:xfrm>
            <a:off x="1116000" y="981000"/>
            <a:ext cx="7201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410920" y="475920"/>
            <a:ext cx="5905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у-ка, проверь дружок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ы готов начать уро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ё ль на мест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ё ль в порядк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учка, книжка и тетрад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е ли правильно сидя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е ль внимательно глядя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аждый хочет получ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олька лишь оценку пя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" descr=""/>
          <p:cNvPicPr/>
          <p:nvPr/>
        </p:nvPicPr>
        <p:blipFill>
          <a:blip r:embed="rId2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"/>
          <p:cNvPicPr/>
          <p:nvPr/>
        </p:nvPicPr>
        <p:blipFill>
          <a:blip r:embed="rId3"/>
          <a:stretch/>
        </p:blipFill>
        <p:spPr>
          <a:xfrm>
            <a:off x="108000" y="2997360"/>
            <a:ext cx="2682720" cy="3392280"/>
          </a:xfrm>
          <a:prstGeom prst="rect">
            <a:avLst/>
          </a:prstGeom>
          <a:ln w="0">
            <a:noFill/>
          </a:ln>
        </p:spPr>
      </p:pic>
      <p:sp>
        <p:nvSpPr>
          <p:cNvPr id="698" name="Oval 5"/>
          <p:cNvSpPr/>
          <p:nvPr/>
        </p:nvSpPr>
        <p:spPr>
          <a:xfrm>
            <a:off x="3419640" y="299736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6588000" y="270828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8172360" y="4653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nt"/>
          <p:cNvSpPr/>
          <p:nvPr/>
        </p:nvSpPr>
        <p:spPr>
          <a:xfrm>
            <a:off x="3348000" y="48690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2" name="Picture 9" descr="2f1[1]"/>
          <p:cNvPicPr/>
          <p:nvPr/>
        </p:nvPicPr>
        <p:blipFill>
          <a:blip r:embed="rId4"/>
          <a:stretch/>
        </p:blipFill>
        <p:spPr>
          <a:xfrm>
            <a:off x="3492360" y="4076640"/>
            <a:ext cx="1511280" cy="1871640"/>
          </a:xfrm>
          <a:prstGeom prst="rect">
            <a:avLst/>
          </a:prstGeom>
          <a:ln w="0">
            <a:noFill/>
          </a:ln>
        </p:spPr>
      </p:pic>
      <p:sp>
        <p:nvSpPr>
          <p:cNvPr id="703" name="plant"/>
          <p:cNvSpPr/>
          <p:nvPr/>
        </p:nvSpPr>
        <p:spPr>
          <a:xfrm>
            <a:off x="5003640" y="5048280"/>
            <a:ext cx="1810080" cy="1809720"/>
          </a:xfrm>
          <a:custGeom>
            <a:avLst/>
            <a:gdLst>
              <a:gd name="textAreaLeft" fmla="*/ 595080 w 1810080"/>
              <a:gd name="textAreaRight" fmla="*/ 1218960 w 181008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4" name="Picture 11" descr="2f2[1]"/>
          <p:cNvPicPr/>
          <p:nvPr/>
        </p:nvPicPr>
        <p:blipFill>
          <a:blip r:embed="rId5"/>
          <a:stretch/>
        </p:blipFill>
        <p:spPr>
          <a:xfrm>
            <a:off x="5219640" y="4508640"/>
            <a:ext cx="1584360" cy="1873080"/>
          </a:xfrm>
          <a:prstGeom prst="rect">
            <a:avLst/>
          </a:prstGeom>
          <a:ln w="0">
            <a:noFill/>
          </a:ln>
        </p:spPr>
      </p:pic>
      <p:sp>
        <p:nvSpPr>
          <p:cNvPr id="705" name="plant"/>
          <p:cNvSpPr/>
          <p:nvPr/>
        </p:nvSpPr>
        <p:spPr>
          <a:xfrm>
            <a:off x="6948360" y="46530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6" name="Picture 13" descr="2f3[1]"/>
          <p:cNvPicPr/>
          <p:nvPr/>
        </p:nvPicPr>
        <p:blipFill>
          <a:blip r:embed="rId6"/>
          <a:stretch/>
        </p:blipFill>
        <p:spPr>
          <a:xfrm>
            <a:off x="7020000" y="4292640"/>
            <a:ext cx="1800000" cy="1747800"/>
          </a:xfrm>
          <a:prstGeom prst="rect">
            <a:avLst/>
          </a:prstGeom>
          <a:ln w="0">
            <a:noFill/>
          </a:ln>
        </p:spPr>
      </p:pic>
      <p:sp>
        <p:nvSpPr>
          <p:cNvPr id="707" name="plant"/>
          <p:cNvSpPr/>
          <p:nvPr/>
        </p:nvSpPr>
        <p:spPr>
          <a:xfrm>
            <a:off x="4500720" y="4149720"/>
            <a:ext cx="1809720" cy="86508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404280 h 865080"/>
              <a:gd name="textAreaBottom" fmla="*/ 543600 h 865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nt"/>
          <p:cNvSpPr/>
          <p:nvPr/>
        </p:nvSpPr>
        <p:spPr>
          <a:xfrm rot="21408000">
            <a:off x="6300720" y="3715920"/>
            <a:ext cx="1809720" cy="86508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404280 h 865080"/>
              <a:gd name="textAreaBottom" fmla="*/ 543600 h 865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nt"/>
          <p:cNvSpPr/>
          <p:nvPr/>
        </p:nvSpPr>
        <p:spPr>
          <a:xfrm rot="21408000">
            <a:off x="7334280" y="2852280"/>
            <a:ext cx="1809720" cy="86544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404280 h 865440"/>
              <a:gd name="textAreaBottom" fmla="*/ 543960 h 8654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nt"/>
          <p:cNvSpPr/>
          <p:nvPr/>
        </p:nvSpPr>
        <p:spPr>
          <a:xfrm rot="21408000">
            <a:off x="5076720" y="3141360"/>
            <a:ext cx="1809720" cy="86508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404280 h 865080"/>
              <a:gd name="textAreaBottom" fmla="*/ 543600 h 865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nt"/>
          <p:cNvSpPr/>
          <p:nvPr/>
        </p:nvSpPr>
        <p:spPr>
          <a:xfrm rot="21408000">
            <a:off x="6443640" y="1988640"/>
            <a:ext cx="1809720" cy="86544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404280 h 865440"/>
              <a:gd name="textAreaBottom" fmla="*/ 543960 h 8654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nt"/>
          <p:cNvSpPr/>
          <p:nvPr/>
        </p:nvSpPr>
        <p:spPr>
          <a:xfrm rot="21408000">
            <a:off x="7522920" y="969480"/>
            <a:ext cx="1449360" cy="865440"/>
          </a:xfrm>
          <a:custGeom>
            <a:avLst/>
            <a:gdLst>
              <a:gd name="textAreaLeft" fmla="*/ 476280 w 1449360"/>
              <a:gd name="textAreaRight" fmla="*/ 975960 w 1449360"/>
              <a:gd name="textAreaTop" fmla="*/ 404280 h 865440"/>
              <a:gd name="textAreaBottom" fmla="*/ 543960 h 8654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3" name="Picture 20" descr="7a2[1]"/>
          <p:cNvPicPr/>
          <p:nvPr/>
        </p:nvPicPr>
        <p:blipFill>
          <a:blip r:embed="rId7"/>
          <a:stretch/>
        </p:blipFill>
        <p:spPr>
          <a:xfrm>
            <a:off x="6372360" y="134136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21" descr="2f1[1]"/>
          <p:cNvPicPr/>
          <p:nvPr/>
        </p:nvPicPr>
        <p:blipFill>
          <a:blip r:embed="rId8"/>
          <a:stretch/>
        </p:blipFill>
        <p:spPr>
          <a:xfrm>
            <a:off x="7740720" y="40464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2" descr="2f2[1]"/>
          <p:cNvPicPr/>
          <p:nvPr/>
        </p:nvPicPr>
        <p:blipFill>
          <a:blip r:embed="rId9"/>
          <a:stretch/>
        </p:blipFill>
        <p:spPr>
          <a:xfrm>
            <a:off x="7559640" y="213372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23" descr="2f3[1]"/>
          <p:cNvPicPr/>
          <p:nvPr/>
        </p:nvPicPr>
        <p:blipFill>
          <a:blip r:embed="rId10"/>
          <a:stretch/>
        </p:blipFill>
        <p:spPr>
          <a:xfrm>
            <a:off x="6659640" y="1700280"/>
            <a:ext cx="1152360" cy="8650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4" descr="2f1[1]"/>
          <p:cNvPicPr/>
          <p:nvPr/>
        </p:nvPicPr>
        <p:blipFill>
          <a:blip r:embed="rId11"/>
          <a:stretch/>
        </p:blipFill>
        <p:spPr>
          <a:xfrm>
            <a:off x="6732720" y="3141720"/>
            <a:ext cx="1008000" cy="12240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5" descr="2f3[1]"/>
          <p:cNvPicPr/>
          <p:nvPr/>
        </p:nvPicPr>
        <p:blipFill>
          <a:blip r:embed="rId12"/>
          <a:stretch/>
        </p:blipFill>
        <p:spPr>
          <a:xfrm>
            <a:off x="4859280" y="3933720"/>
            <a:ext cx="1152720" cy="8654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6" descr="2f2[1]"/>
          <p:cNvPicPr/>
          <p:nvPr/>
        </p:nvPicPr>
        <p:blipFill>
          <a:blip r:embed="rId13"/>
          <a:stretch/>
        </p:blipFill>
        <p:spPr>
          <a:xfrm>
            <a:off x="5292720" y="2637000"/>
            <a:ext cx="1584360" cy="122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324000" y="692280"/>
            <a:ext cx="2087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5,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6888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Line 3"/>
          <p:cNvSpPr/>
          <p:nvPr/>
        </p:nvSpPr>
        <p:spPr>
          <a:xfrm>
            <a:off x="395280" y="2060640"/>
            <a:ext cx="1368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Line 4"/>
          <p:cNvSpPr/>
          <p:nvPr/>
        </p:nvSpPr>
        <p:spPr>
          <a:xfrm>
            <a:off x="395280" y="3429000"/>
            <a:ext cx="15127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250920" y="126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0" y="2421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2627280" y="620640"/>
            <a:ext cx="208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1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6888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Line 8"/>
          <p:cNvSpPr/>
          <p:nvPr/>
        </p:nvSpPr>
        <p:spPr>
          <a:xfrm>
            <a:off x="2843280" y="2060640"/>
            <a:ext cx="136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Line 9"/>
          <p:cNvSpPr/>
          <p:nvPr/>
        </p:nvSpPr>
        <p:spPr>
          <a:xfrm>
            <a:off x="2771640" y="3429000"/>
            <a:ext cx="1513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2484360" y="126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11"/>
          <p:cNvSpPr/>
          <p:nvPr/>
        </p:nvSpPr>
        <p:spPr>
          <a:xfrm>
            <a:off x="2268360" y="242100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Text Box 12"/>
          <p:cNvSpPr/>
          <p:nvPr/>
        </p:nvSpPr>
        <p:spPr>
          <a:xfrm>
            <a:off x="4859280" y="620640"/>
            <a:ext cx="19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57,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1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6888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Line 13"/>
          <p:cNvSpPr/>
          <p:nvPr/>
        </p:nvSpPr>
        <p:spPr>
          <a:xfrm>
            <a:off x="5003640" y="198900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Line 14"/>
          <p:cNvSpPr/>
          <p:nvPr/>
        </p:nvSpPr>
        <p:spPr>
          <a:xfrm>
            <a:off x="5003640" y="3357720"/>
            <a:ext cx="15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Text Box 15"/>
          <p:cNvSpPr/>
          <p:nvPr/>
        </p:nvSpPr>
        <p:spPr>
          <a:xfrm>
            <a:off x="4716360" y="119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Text Box 16"/>
          <p:cNvSpPr/>
          <p:nvPr/>
        </p:nvSpPr>
        <p:spPr>
          <a:xfrm>
            <a:off x="4572000" y="2421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Text Box 17"/>
          <p:cNvSpPr/>
          <p:nvPr/>
        </p:nvSpPr>
        <p:spPr>
          <a:xfrm>
            <a:off x="6948360" y="620640"/>
            <a:ext cx="19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57,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0,1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6888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Line 18"/>
          <p:cNvSpPr/>
          <p:nvPr/>
        </p:nvSpPr>
        <p:spPr>
          <a:xfrm>
            <a:off x="7093080" y="3357720"/>
            <a:ext cx="1512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Line 19"/>
          <p:cNvSpPr/>
          <p:nvPr/>
        </p:nvSpPr>
        <p:spPr>
          <a:xfrm>
            <a:off x="7093080" y="2060640"/>
            <a:ext cx="1439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Text Box 20"/>
          <p:cNvSpPr/>
          <p:nvPr/>
        </p:nvSpPr>
        <p:spPr>
          <a:xfrm>
            <a:off x="680400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Text Box 21"/>
          <p:cNvSpPr/>
          <p:nvPr/>
        </p:nvSpPr>
        <p:spPr>
          <a:xfrm>
            <a:off x="6659640" y="2421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Text Box 22"/>
          <p:cNvSpPr/>
          <p:nvPr/>
        </p:nvSpPr>
        <p:spPr>
          <a:xfrm>
            <a:off x="792000" y="3968640"/>
            <a:ext cx="9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Text Box 23"/>
          <p:cNvSpPr/>
          <p:nvPr/>
        </p:nvSpPr>
        <p:spPr>
          <a:xfrm>
            <a:off x="3132000" y="3968640"/>
            <a:ext cx="9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Text Box 24"/>
          <p:cNvSpPr/>
          <p:nvPr/>
        </p:nvSpPr>
        <p:spPr>
          <a:xfrm>
            <a:off x="5111640" y="3968640"/>
            <a:ext cx="9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Text Box 25"/>
          <p:cNvSpPr/>
          <p:nvPr/>
        </p:nvSpPr>
        <p:spPr>
          <a:xfrm>
            <a:off x="7451640" y="3968640"/>
            <a:ext cx="9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AutoShape 26"/>
          <p:cNvSpPr/>
          <p:nvPr/>
        </p:nvSpPr>
        <p:spPr>
          <a:xfrm>
            <a:off x="1438200" y="3824280"/>
            <a:ext cx="179640" cy="358920"/>
          </a:xfrm>
          <a:prstGeom prst="diamond">
            <a:avLst/>
          </a:prstGeom>
          <a:solidFill>
            <a:srgbClr val="f1fa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AutoShape 27"/>
          <p:cNvSpPr/>
          <p:nvPr/>
        </p:nvSpPr>
        <p:spPr>
          <a:xfrm>
            <a:off x="1042920" y="3824280"/>
            <a:ext cx="179280" cy="358920"/>
          </a:xfrm>
          <a:prstGeom prst="diamond">
            <a:avLst/>
          </a:prstGeom>
          <a:solidFill>
            <a:srgbClr val="f1fa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AutoShape 28"/>
          <p:cNvSpPr/>
          <p:nvPr/>
        </p:nvSpPr>
        <p:spPr>
          <a:xfrm>
            <a:off x="719280" y="3824280"/>
            <a:ext cx="179280" cy="358920"/>
          </a:xfrm>
          <a:prstGeom prst="diamond">
            <a:avLst/>
          </a:prstGeom>
          <a:solidFill>
            <a:srgbClr val="f1fa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AutoShape 29"/>
          <p:cNvSpPr/>
          <p:nvPr/>
        </p:nvSpPr>
        <p:spPr>
          <a:xfrm>
            <a:off x="2986200" y="3753000"/>
            <a:ext cx="179280" cy="358560"/>
          </a:xfrm>
          <a:prstGeom prst="diamond">
            <a:avLst/>
          </a:prstGeom>
          <a:solidFill>
            <a:srgbClr val="dcf4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AutoShape 30"/>
          <p:cNvSpPr/>
          <p:nvPr/>
        </p:nvSpPr>
        <p:spPr>
          <a:xfrm>
            <a:off x="3346560" y="3753000"/>
            <a:ext cx="179280" cy="358560"/>
          </a:xfrm>
          <a:prstGeom prst="diamond">
            <a:avLst/>
          </a:prstGeom>
          <a:solidFill>
            <a:srgbClr val="dcf4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AutoShape 31"/>
          <p:cNvSpPr/>
          <p:nvPr/>
        </p:nvSpPr>
        <p:spPr>
          <a:xfrm>
            <a:off x="3706920" y="3753000"/>
            <a:ext cx="179280" cy="358560"/>
          </a:xfrm>
          <a:prstGeom prst="diamond">
            <a:avLst/>
          </a:prstGeom>
          <a:solidFill>
            <a:srgbClr val="dcf4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Rectangle 32"/>
          <p:cNvSpPr/>
          <p:nvPr/>
        </p:nvSpPr>
        <p:spPr>
          <a:xfrm rot="6448200">
            <a:off x="161280" y="5678280"/>
            <a:ext cx="7207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Rectangle 33"/>
          <p:cNvSpPr/>
          <p:nvPr/>
        </p:nvSpPr>
        <p:spPr>
          <a:xfrm rot="6448200">
            <a:off x="521640" y="5678280"/>
            <a:ext cx="7207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Rectangle 34"/>
          <p:cNvSpPr/>
          <p:nvPr/>
        </p:nvSpPr>
        <p:spPr>
          <a:xfrm rot="6448200">
            <a:off x="2499840" y="5678280"/>
            <a:ext cx="7207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35"/>
          <p:cNvSpPr/>
          <p:nvPr/>
        </p:nvSpPr>
        <p:spPr>
          <a:xfrm rot="6448200">
            <a:off x="2863080" y="5677200"/>
            <a:ext cx="720720" cy="182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AutoShape 36"/>
          <p:cNvSpPr/>
          <p:nvPr/>
        </p:nvSpPr>
        <p:spPr>
          <a:xfrm>
            <a:off x="5221440" y="3753000"/>
            <a:ext cx="179280" cy="358560"/>
          </a:xfrm>
          <a:prstGeom prst="diamond">
            <a:avLst/>
          </a:prstGeom>
          <a:solidFill>
            <a:srgbClr val="fed6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tangle 37"/>
          <p:cNvSpPr/>
          <p:nvPr/>
        </p:nvSpPr>
        <p:spPr>
          <a:xfrm rot="6448200">
            <a:off x="4662720" y="5677560"/>
            <a:ext cx="720720" cy="182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AutoShape 38"/>
          <p:cNvSpPr/>
          <p:nvPr/>
        </p:nvSpPr>
        <p:spPr>
          <a:xfrm>
            <a:off x="5576760" y="3753000"/>
            <a:ext cx="179640" cy="358560"/>
          </a:xfrm>
          <a:prstGeom prst="diamond">
            <a:avLst/>
          </a:prstGeom>
          <a:solidFill>
            <a:srgbClr val="fed6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Rectangle 39"/>
          <p:cNvSpPr/>
          <p:nvPr/>
        </p:nvSpPr>
        <p:spPr>
          <a:xfrm rot="6448200">
            <a:off x="5023080" y="5677560"/>
            <a:ext cx="720720" cy="182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AutoShape 40"/>
          <p:cNvSpPr/>
          <p:nvPr/>
        </p:nvSpPr>
        <p:spPr>
          <a:xfrm>
            <a:off x="5937120" y="3753000"/>
            <a:ext cx="179640" cy="358560"/>
          </a:xfrm>
          <a:prstGeom prst="diamond">
            <a:avLst/>
          </a:prstGeom>
          <a:solidFill>
            <a:srgbClr val="fed6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AutoShape 41"/>
          <p:cNvSpPr/>
          <p:nvPr/>
        </p:nvSpPr>
        <p:spPr>
          <a:xfrm>
            <a:off x="7308720" y="3753000"/>
            <a:ext cx="179640" cy="358560"/>
          </a:xfrm>
          <a:prstGeom prst="diamond">
            <a:avLst/>
          </a:prstGeom>
          <a:solidFill>
            <a:srgbClr val="d8fc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AutoShape 42"/>
          <p:cNvSpPr/>
          <p:nvPr/>
        </p:nvSpPr>
        <p:spPr>
          <a:xfrm>
            <a:off x="7667640" y="3716280"/>
            <a:ext cx="179280" cy="358920"/>
          </a:xfrm>
          <a:prstGeom prst="diamond">
            <a:avLst/>
          </a:prstGeom>
          <a:solidFill>
            <a:srgbClr val="d8fc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Rectangle 43"/>
          <p:cNvSpPr/>
          <p:nvPr/>
        </p:nvSpPr>
        <p:spPr>
          <a:xfrm rot="6448200">
            <a:off x="6823440" y="5498280"/>
            <a:ext cx="720720" cy="182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AutoShape 44"/>
          <p:cNvSpPr/>
          <p:nvPr/>
        </p:nvSpPr>
        <p:spPr>
          <a:xfrm>
            <a:off x="8028000" y="3753000"/>
            <a:ext cx="214200" cy="358560"/>
          </a:xfrm>
          <a:prstGeom prst="diamond">
            <a:avLst/>
          </a:prstGeom>
          <a:solidFill>
            <a:srgbClr val="d8fc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Rectangle 45"/>
          <p:cNvSpPr/>
          <p:nvPr/>
        </p:nvSpPr>
        <p:spPr>
          <a:xfrm rot="6448200">
            <a:off x="7182000" y="5498280"/>
            <a:ext cx="720720" cy="182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1332000" y="260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вь запятую в нужное мест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8844E-006 L 0.0099 -0.14798 E">
                                      <p:cBhvr>
                                        <p:cTn id="359" dur="1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388" nodeType="clickEffect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8844E-006 L 0.0493 -0.14798 E">
                                      <p:cBhvr>
                                        <p:cTn id="393" dur="1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98844E-006 L 0.02969 -0.14798 E">
                                      <p:cBhvr>
                                        <p:cTn id="409" dur="1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8844E-006 L -0.02934 -0.14798 E">
                                      <p:cBhvr>
                                        <p:cTn id="425" dur="1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4"/>
          <p:cNvSpPr/>
          <p:nvPr/>
        </p:nvSpPr>
        <p:spPr>
          <a:xfrm>
            <a:off x="1116000" y="278136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Verdana"/>
              </a:rPr>
              <a:t>27,4   0,63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3535200" y="2780640"/>
            <a:ext cx="84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2268360" y="692280"/>
            <a:ext cx="2737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27,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0,6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82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164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1726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2916360" y="2637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2411280" y="4581360"/>
            <a:ext cx="208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Text Box 7"/>
          <p:cNvSpPr/>
          <p:nvPr/>
        </p:nvSpPr>
        <p:spPr>
          <a:xfrm>
            <a:off x="262728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5940360" y="404640"/>
            <a:ext cx="2592360" cy="64800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5796000" y="1557360"/>
            <a:ext cx="2592360" cy="64764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5148360" y="4005360"/>
            <a:ext cx="3744720" cy="647640"/>
          </a:xfrm>
          <a:prstGeom prst="wedgeRectCallout">
            <a:avLst>
              <a:gd name="adj1" fmla="val -81708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+2=3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12"/>
          <p:cNvSpPr/>
          <p:nvPr/>
        </p:nvSpPr>
        <p:spPr>
          <a:xfrm>
            <a:off x="4140360" y="465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2916360" y="479736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116000" y="278136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Verdana"/>
              </a:rPr>
              <a:t>85,8   3,2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3535200" y="2780640"/>
            <a:ext cx="84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2"/>
          <p:cNvSpPr/>
          <p:nvPr/>
        </p:nvSpPr>
        <p:spPr>
          <a:xfrm>
            <a:off x="2340000" y="549360"/>
            <a:ext cx="2736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85,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3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1716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2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27456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"/>
          <p:cNvSpPr/>
          <p:nvPr/>
        </p:nvSpPr>
        <p:spPr>
          <a:xfrm>
            <a:off x="2771640" y="2565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Line 4"/>
          <p:cNvSpPr/>
          <p:nvPr/>
        </p:nvSpPr>
        <p:spPr>
          <a:xfrm>
            <a:off x="2411280" y="4653000"/>
            <a:ext cx="208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2556000" y="126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AutoShape 6"/>
          <p:cNvSpPr/>
          <p:nvPr/>
        </p:nvSpPr>
        <p:spPr>
          <a:xfrm>
            <a:off x="5219640" y="631800"/>
            <a:ext cx="2521080" cy="647640"/>
          </a:xfrm>
          <a:prstGeom prst="wedgeRectCallout">
            <a:avLst>
              <a:gd name="adj1" fmla="val -97782"/>
              <a:gd name="adj2" fmla="val 441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AutoShape 7"/>
          <p:cNvSpPr/>
          <p:nvPr/>
        </p:nvSpPr>
        <p:spPr>
          <a:xfrm>
            <a:off x="5148360" y="1844640"/>
            <a:ext cx="2592360" cy="647640"/>
          </a:xfrm>
          <a:prstGeom prst="wedgeRectCallout">
            <a:avLst>
              <a:gd name="adj1" fmla="val -97453"/>
              <a:gd name="adj2" fmla="val 7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AutoShape 8"/>
          <p:cNvSpPr/>
          <p:nvPr/>
        </p:nvSpPr>
        <p:spPr>
          <a:xfrm>
            <a:off x="4643280" y="4869000"/>
            <a:ext cx="3745080" cy="647640"/>
          </a:xfrm>
          <a:prstGeom prst="wedgeRectCallout">
            <a:avLst>
              <a:gd name="adj1" fmla="val -77601"/>
              <a:gd name="adj2" fmla="val 124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+1=2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4140360" y="465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3419640" y="472428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1116000" y="278136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Verdana"/>
              </a:rPr>
              <a:t>0,569   0,13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4111200" y="2780640"/>
            <a:ext cx="84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692360" y="765000"/>
            <a:ext cx="338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0,569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0,1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1707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007397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Line 3"/>
          <p:cNvSpPr/>
          <p:nvPr/>
        </p:nvSpPr>
        <p:spPr>
          <a:xfrm>
            <a:off x="2916360" y="2565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Line 4"/>
          <p:cNvSpPr/>
          <p:nvPr/>
        </p:nvSpPr>
        <p:spPr>
          <a:xfrm>
            <a:off x="2556000" y="429264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2050920" y="155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AutoShape 6"/>
          <p:cNvSpPr/>
          <p:nvPr/>
        </p:nvSpPr>
        <p:spPr>
          <a:xfrm>
            <a:off x="5508720" y="836640"/>
            <a:ext cx="2592360" cy="64764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AutoShape 7"/>
          <p:cNvSpPr/>
          <p:nvPr/>
        </p:nvSpPr>
        <p:spPr>
          <a:xfrm>
            <a:off x="5435640" y="1628640"/>
            <a:ext cx="2592360" cy="64800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AutoShape 8"/>
          <p:cNvSpPr/>
          <p:nvPr/>
        </p:nvSpPr>
        <p:spPr>
          <a:xfrm>
            <a:off x="4295880" y="4941720"/>
            <a:ext cx="3816360" cy="648000"/>
          </a:xfrm>
          <a:prstGeom prst="wedgeRectCallout">
            <a:avLst>
              <a:gd name="adj1" fmla="val -93574"/>
              <a:gd name="adj2" fmla="val -350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3+2=5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4140360" y="465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1979640" y="4502160"/>
            <a:ext cx="2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547920" y="1531800"/>
            <a:ext cx="29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Arial"/>
              </a:rPr>
              <a:t>14</a:t>
            </a: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1f497d"/>
                </a:solidFill>
                <a:latin typeface="Arial"/>
              </a:rPr>
              <a:t>8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м/ч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9" name="Group 3"/>
          <p:cNvGrpSpPr/>
          <p:nvPr/>
        </p:nvGrpSpPr>
        <p:grpSpPr>
          <a:xfrm>
            <a:off x="5808600" y="401760"/>
            <a:ext cx="2712600" cy="2017800"/>
            <a:chOff x="5808600" y="401760"/>
            <a:chExt cx="2712600" cy="2017800"/>
          </a:xfrm>
        </p:grpSpPr>
        <p:sp>
          <p:nvSpPr>
            <p:cNvPr id="800" name="Freeform 4"/>
            <p:cNvSpPr/>
            <p:nvPr/>
          </p:nvSpPr>
          <p:spPr>
            <a:xfrm rot="19272600">
              <a:off x="7324560" y="598680"/>
              <a:ext cx="986760" cy="101628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1016280"/>
                <a:gd name="textAreaBottom" fmla="*/ 1016280 h 1016280"/>
              </a:gdLst>
              <a:ahLst/>
              <a:rect l="textAreaLeft" t="textAreaTop" r="textAreaRight" b="textAreaBottom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1" name="Freeform 5"/>
            <p:cNvSpPr/>
            <p:nvPr/>
          </p:nvSpPr>
          <p:spPr>
            <a:xfrm rot="19272600">
              <a:off x="6551640" y="885960"/>
              <a:ext cx="1155600" cy="9828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982800"/>
                <a:gd name="textAreaBottom" fmla="*/ 982800 h 982800"/>
              </a:gdLst>
              <a:ahLst/>
              <a:rect l="textAreaLeft" t="textAreaTop" r="textAreaRight" b="textAreaBottom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2" name="Freeform 6"/>
            <p:cNvSpPr/>
            <p:nvPr/>
          </p:nvSpPr>
          <p:spPr>
            <a:xfrm rot="19272600">
              <a:off x="5943240" y="1374120"/>
              <a:ext cx="1056960" cy="8028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802800"/>
                <a:gd name="textAreaBottom" fmla="*/ 803160 h 802800"/>
              </a:gdLst>
              <a:ahLst/>
              <a:rect l="textAreaLeft" t="textAreaTop" r="textAreaRight" b="textAreaBottom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3" name="Group 7"/>
          <p:cNvGrpSpPr/>
          <p:nvPr/>
        </p:nvGrpSpPr>
        <p:grpSpPr>
          <a:xfrm>
            <a:off x="1139760" y="-55440"/>
            <a:ext cx="2712600" cy="2017800"/>
            <a:chOff x="1139760" y="-55440"/>
            <a:chExt cx="2712600" cy="2017800"/>
          </a:xfrm>
        </p:grpSpPr>
        <p:sp>
          <p:nvSpPr>
            <p:cNvPr id="804" name="Freeform 8"/>
            <p:cNvSpPr/>
            <p:nvPr/>
          </p:nvSpPr>
          <p:spPr>
            <a:xfrm rot="19272600">
              <a:off x="2655720" y="141480"/>
              <a:ext cx="986760" cy="101628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1016280"/>
                <a:gd name="textAreaBottom" fmla="*/ 1016280 h 1016280"/>
              </a:gdLst>
              <a:ahLst/>
              <a:rect l="textAreaLeft" t="textAreaTop" r="textAreaRight" b="textAreaBottom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5" name="Freeform 9"/>
            <p:cNvSpPr/>
            <p:nvPr/>
          </p:nvSpPr>
          <p:spPr>
            <a:xfrm rot="19272600">
              <a:off x="1882800" y="428760"/>
              <a:ext cx="1155600" cy="9828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982800"/>
                <a:gd name="textAreaBottom" fmla="*/ 982800 h 982800"/>
              </a:gdLst>
              <a:ahLst/>
              <a:rect l="textAreaLeft" t="textAreaTop" r="textAreaRight" b="textAreaBottom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6" name="Freeform 10"/>
            <p:cNvSpPr/>
            <p:nvPr/>
          </p:nvSpPr>
          <p:spPr>
            <a:xfrm rot="19272600">
              <a:off x="1274400" y="916920"/>
              <a:ext cx="1056960" cy="8028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802800"/>
                <a:gd name="textAreaBottom" fmla="*/ 803160 h 802800"/>
              </a:gdLst>
              <a:ahLst/>
              <a:rect l="textAreaLeft" t="textAreaTop" r="textAreaRight" b="textAreaBottom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11"/>
          <p:cNvGrpSpPr/>
          <p:nvPr/>
        </p:nvGrpSpPr>
        <p:grpSpPr>
          <a:xfrm>
            <a:off x="2992320" y="484200"/>
            <a:ext cx="2712600" cy="2017800"/>
            <a:chOff x="2992320" y="484200"/>
            <a:chExt cx="2712600" cy="2017800"/>
          </a:xfrm>
        </p:grpSpPr>
        <p:sp>
          <p:nvSpPr>
            <p:cNvPr id="808" name="Freeform 12"/>
            <p:cNvSpPr/>
            <p:nvPr/>
          </p:nvSpPr>
          <p:spPr>
            <a:xfrm rot="19272600">
              <a:off x="4508280" y="681120"/>
              <a:ext cx="986760" cy="101628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1016280"/>
                <a:gd name="textAreaBottom" fmla="*/ 1016280 h 1016280"/>
              </a:gdLst>
              <a:ahLst/>
              <a:rect l="textAreaLeft" t="textAreaTop" r="textAreaRight" b="textAreaBottom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Freeform 13"/>
            <p:cNvSpPr/>
            <p:nvPr/>
          </p:nvSpPr>
          <p:spPr>
            <a:xfrm rot="19272600">
              <a:off x="3735360" y="968400"/>
              <a:ext cx="1155600" cy="9828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982800"/>
                <a:gd name="textAreaBottom" fmla="*/ 982800 h 982800"/>
              </a:gdLst>
              <a:ahLst/>
              <a:rect l="textAreaLeft" t="textAreaTop" r="textAreaRight" b="textAreaBottom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Freeform 14"/>
            <p:cNvSpPr/>
            <p:nvPr/>
          </p:nvSpPr>
          <p:spPr>
            <a:xfrm rot="19272600">
              <a:off x="3126960" y="1456560"/>
              <a:ext cx="1056960" cy="8028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802800"/>
                <a:gd name="textAreaBottom" fmla="*/ 803160 h 802800"/>
              </a:gdLst>
              <a:ahLst/>
              <a:rect l="textAreaLeft" t="textAreaTop" r="textAreaRight" b="textAreaBottom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1" name="AutoShape 15"/>
          <p:cNvSpPr/>
          <p:nvPr/>
        </p:nvSpPr>
        <p:spPr>
          <a:xfrm>
            <a:off x="6845400" y="252360"/>
            <a:ext cx="2154240" cy="676440"/>
          </a:xfrm>
          <a:prstGeom prst="cloudCallout">
            <a:avLst>
              <a:gd name="adj1" fmla="val -14703"/>
              <a:gd name="adj2" fmla="val 4342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Line 16"/>
          <p:cNvSpPr/>
          <p:nvPr/>
        </p:nvSpPr>
        <p:spPr>
          <a:xfrm>
            <a:off x="806400" y="2316240"/>
            <a:ext cx="18176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3" name="Group 17"/>
          <p:cNvGrpSpPr/>
          <p:nvPr/>
        </p:nvGrpSpPr>
        <p:grpSpPr>
          <a:xfrm>
            <a:off x="-133200" y="4175280"/>
            <a:ext cx="9277560" cy="2682720"/>
            <a:chOff x="-133200" y="4175280"/>
            <a:chExt cx="9277560" cy="2682720"/>
          </a:xfrm>
        </p:grpSpPr>
        <p:grpSp>
          <p:nvGrpSpPr>
            <p:cNvPr id="814" name="Group 18"/>
            <p:cNvGrpSpPr/>
            <p:nvPr/>
          </p:nvGrpSpPr>
          <p:grpSpPr>
            <a:xfrm>
              <a:off x="-73080" y="4175280"/>
              <a:ext cx="9217440" cy="248760"/>
              <a:chOff x="-73080" y="4175280"/>
              <a:chExt cx="9217440" cy="248760"/>
            </a:xfrm>
          </p:grpSpPr>
          <p:sp>
            <p:nvSpPr>
              <p:cNvPr id="815" name="Freeform 19"/>
              <p:cNvSpPr/>
              <p:nvPr/>
            </p:nvSpPr>
            <p:spPr>
              <a:xfrm flipH="1" rot="27600">
                <a:off x="-72360" y="4184640"/>
                <a:ext cx="2323440" cy="17640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6" name="Freeform 20"/>
              <p:cNvSpPr/>
              <p:nvPr/>
            </p:nvSpPr>
            <p:spPr>
              <a:xfrm flipH="1" rot="27600">
                <a:off x="2228040" y="4202280"/>
                <a:ext cx="2323440" cy="17640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7" name="Freeform 21"/>
              <p:cNvSpPr/>
              <p:nvPr/>
            </p:nvSpPr>
            <p:spPr>
              <a:xfrm flipH="1" rot="27600">
                <a:off x="4516920" y="4220280"/>
                <a:ext cx="2322000" cy="176400"/>
              </a:xfrm>
              <a:custGeom>
                <a:avLst/>
                <a:gdLst>
                  <a:gd name="textAreaLeft" fmla="*/ 360 w 2322000"/>
                  <a:gd name="textAreaRight" fmla="*/ 2322720 w 232200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8" name="Freeform 22"/>
              <p:cNvSpPr/>
              <p:nvPr/>
            </p:nvSpPr>
            <p:spPr>
              <a:xfrm flipH="1" rot="27600">
                <a:off x="6819840" y="4238280"/>
                <a:ext cx="2323440" cy="17640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19" name="Freeform 23"/>
            <p:cNvSpPr/>
            <p:nvPr/>
          </p:nvSpPr>
          <p:spPr>
            <a:xfrm>
              <a:off x="-133200" y="4324680"/>
              <a:ext cx="9275040" cy="253332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2533320"/>
                <a:gd name="textAreaBottom" fmla="*/ 2533680 h 253332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20" name="Picture 24" descr="sailboat"/>
          <p:cNvPicPr/>
          <p:nvPr/>
        </p:nvPicPr>
        <p:blipFill>
          <a:blip r:embed="rId2"/>
          <a:stretch/>
        </p:blipFill>
        <p:spPr>
          <a:xfrm flipH="1" rot="21552000">
            <a:off x="1440" y="2755800"/>
            <a:ext cx="2554560" cy="188640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25"/>
          <p:cNvSpPr/>
          <p:nvPr/>
        </p:nvSpPr>
        <p:spPr>
          <a:xfrm>
            <a:off x="0" y="5214960"/>
            <a:ext cx="700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р, собственная скорость которого 14,8км/ч, шел по реке по течению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3,5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против течени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4,2ч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Какой путь проделал катер за все это время, если скорость течения 2,3 км/ч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2" name="Picture 26" descr="sailboat"/>
          <p:cNvPicPr/>
          <p:nvPr/>
        </p:nvPicPr>
        <p:blipFill>
          <a:blip r:embed="rId3"/>
          <a:stretch/>
        </p:blipFill>
        <p:spPr>
          <a:xfrm rot="48000">
            <a:off x="6519960" y="2800440"/>
            <a:ext cx="2554200" cy="1886040"/>
          </a:xfrm>
          <a:prstGeom prst="rect">
            <a:avLst/>
          </a:prstGeom>
          <a:ln w="0">
            <a:noFill/>
          </a:ln>
        </p:spPr>
      </p:pic>
      <p:sp>
        <p:nvSpPr>
          <p:cNvPr id="823" name="Rectangle 27"/>
          <p:cNvSpPr/>
          <p:nvPr/>
        </p:nvSpPr>
        <p:spPr>
          <a:xfrm flipH="1">
            <a:off x="6115320" y="1606680"/>
            <a:ext cx="29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Arial"/>
              </a:rPr>
              <a:t>14</a:t>
            </a: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1f497d"/>
                </a:solidFill>
                <a:latin typeface="Arial"/>
              </a:rPr>
              <a:t>8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м/ч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Line 28"/>
          <p:cNvSpPr/>
          <p:nvPr/>
        </p:nvSpPr>
        <p:spPr>
          <a:xfrm flipH="1">
            <a:off x="6792480" y="2443320"/>
            <a:ext cx="18176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AutoShape 29"/>
          <p:cNvSpPr/>
          <p:nvPr/>
        </p:nvSpPr>
        <p:spPr>
          <a:xfrm>
            <a:off x="6473880" y="5500800"/>
            <a:ext cx="2471760" cy="641160"/>
          </a:xfrm>
          <a:custGeom>
            <a:avLst/>
            <a:gdLst>
              <a:gd name="textAreaLeft" fmla="*/ 41400 w 2471760"/>
              <a:gd name="textAreaRight" fmla="*/ 2430360 w 2471760"/>
              <a:gd name="textAreaTop" fmla="*/ 41400 h 641160"/>
              <a:gd name="textAreaBottom" fmla="*/ 599760 h 641160"/>
            </a:gdLst>
            <a:ahLst/>
            <a:rect l="textAreaLeft" t="textAreaTop" r="textAreaRight" b="textAreaBottom"/>
            <a:pathLst>
              <a:path w="83236" h="21600">
                <a:moveTo>
                  <a:pt x="0" y="0"/>
                </a:moveTo>
                <a:lnTo>
                  <a:pt x="83236" y="0"/>
                </a:lnTo>
                <a:lnTo>
                  <a:pt x="83236" y="21600"/>
                </a:lnTo>
                <a:lnTo>
                  <a:pt x="0" y="21600"/>
                </a:lnTo>
                <a:close/>
              </a:path>
              <a:path fill="lightenLess" w="83236" h="21600">
                <a:moveTo>
                  <a:pt x="0" y="0"/>
                </a:moveTo>
                <a:lnTo>
                  <a:pt x="83236" y="0"/>
                </a:lnTo>
                <a:lnTo>
                  <a:pt x="81836" y="1400"/>
                </a:lnTo>
                <a:lnTo>
                  <a:pt x="1400" y="1400"/>
                </a:lnTo>
                <a:close/>
              </a:path>
              <a:path fill="darken" w="83236" h="21600">
                <a:moveTo>
                  <a:pt x="83236" y="0"/>
                </a:moveTo>
                <a:lnTo>
                  <a:pt x="83236" y="21600"/>
                </a:lnTo>
                <a:lnTo>
                  <a:pt x="81836" y="20200"/>
                </a:lnTo>
                <a:lnTo>
                  <a:pt x="81836" y="1400"/>
                </a:lnTo>
                <a:close/>
              </a:path>
              <a:path fill="darkenLess" w="83236" h="21600">
                <a:moveTo>
                  <a:pt x="8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36" y="20200"/>
                </a:lnTo>
                <a:close/>
              </a:path>
              <a:path fill="lighten" w="8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ротив т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AutoShape 30"/>
          <p:cNvSpPr/>
          <p:nvPr/>
        </p:nvSpPr>
        <p:spPr>
          <a:xfrm>
            <a:off x="6883560" y="4830840"/>
            <a:ext cx="2050920" cy="531720"/>
          </a:xfrm>
          <a:custGeom>
            <a:avLst/>
            <a:gdLst>
              <a:gd name="textAreaLeft" fmla="*/ 34200 w 2050920"/>
              <a:gd name="textAreaRight" fmla="*/ 2016720 w 2050920"/>
              <a:gd name="textAreaTop" fmla="*/ 34200 h 531720"/>
              <a:gd name="textAreaBottom" fmla="*/ 497520 h 531720"/>
            </a:gdLst>
            <a:ahLst/>
            <a:rect l="textAreaLeft" t="textAreaTop" r="textAreaRight" b="textAreaBottom"/>
            <a:pathLst>
              <a:path w="83273" h="21600">
                <a:moveTo>
                  <a:pt x="0" y="0"/>
                </a:moveTo>
                <a:lnTo>
                  <a:pt x="83273" y="0"/>
                </a:lnTo>
                <a:lnTo>
                  <a:pt x="83273" y="21600"/>
                </a:lnTo>
                <a:lnTo>
                  <a:pt x="0" y="21600"/>
                </a:lnTo>
                <a:close/>
              </a:path>
              <a:path fill="lightenLess" w="83273" h="21600">
                <a:moveTo>
                  <a:pt x="0" y="0"/>
                </a:moveTo>
                <a:lnTo>
                  <a:pt x="83273" y="0"/>
                </a:lnTo>
                <a:lnTo>
                  <a:pt x="81873" y="1400"/>
                </a:lnTo>
                <a:lnTo>
                  <a:pt x="1400" y="1400"/>
                </a:lnTo>
                <a:close/>
              </a:path>
              <a:path fill="darken" w="83273" h="21600">
                <a:moveTo>
                  <a:pt x="83273" y="0"/>
                </a:moveTo>
                <a:lnTo>
                  <a:pt x="83273" y="21600"/>
                </a:lnTo>
                <a:lnTo>
                  <a:pt x="81873" y="20200"/>
                </a:lnTo>
                <a:lnTo>
                  <a:pt x="81873" y="1400"/>
                </a:lnTo>
                <a:close/>
              </a:path>
              <a:path fill="darkenLess" w="83273" h="21600">
                <a:moveTo>
                  <a:pt x="83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73" y="20200"/>
                </a:lnTo>
                <a:close/>
              </a:path>
              <a:path fill="lighten" w="83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о тече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31"/>
          <p:cNvSpPr/>
          <p:nvPr/>
        </p:nvSpPr>
        <p:spPr>
          <a:xfrm flipH="1">
            <a:off x="3322440" y="4675320"/>
            <a:ext cx="1611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Rectangle 32"/>
          <p:cNvSpPr/>
          <p:nvPr/>
        </p:nvSpPr>
        <p:spPr>
          <a:xfrm>
            <a:off x="3038400" y="4500720"/>
            <a:ext cx="245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2,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м/ч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AutoShape 33">
            <a:hlinkClick r:id="" action="ppaction://hlinkshowjump?jump=nextslide"/>
          </p:cNvPr>
          <p:cNvSpPr/>
          <p:nvPr/>
        </p:nvSpPr>
        <p:spPr>
          <a:xfrm>
            <a:off x="8415360" y="621648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Rectangle 34"/>
          <p:cNvSpPr/>
          <p:nvPr/>
        </p:nvSpPr>
        <p:spPr>
          <a:xfrm flipH="1">
            <a:off x="7468560" y="963720"/>
            <a:ext cx="227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t=3</a:t>
            </a: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,5ч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Rectangle 35"/>
          <p:cNvSpPr/>
          <p:nvPr/>
        </p:nvSpPr>
        <p:spPr>
          <a:xfrm flipH="1">
            <a:off x="976320" y="900000"/>
            <a:ext cx="22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t=</a:t>
            </a: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4,2ч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116 L -0.16979 0.00231 E">
                                      <p:cBhvr>
                                        <p:cTn id="627" dur="5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79 0.00232 L -0.325 -0.00324 E">
                                      <p:cBhvr>
                                        <p:cTn id="630" dur="5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 -0.00324 L -0.4842 -0.00509 E">
                                      <p:cBhvr>
                                        <p:cTn id="633" dur="5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00509 L -0.63038 -0.0088 E">
                                      <p:cBhvr>
                                        <p:cTn id="636" dur="5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38 -0.0088 L -0.74879 -0.0088 E">
                                      <p:cBhvr>
                                        <p:cTn id="639" dur="5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41875 -0.00139 E">
                                      <p:cBhvr>
                                        <p:cTn id="667" dur="5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875 -0.00139 L 1.08489 -0.00879 E">
                                      <p:cBhvr>
                                        <p:cTn id="670" dur="5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-1.04184 0.00394 E">
                                      <p:cBhvr>
                                        <p:cTn id="698" dur="5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4"/>
          <p:cNvSpPr/>
          <p:nvPr/>
        </p:nvSpPr>
        <p:spPr>
          <a:xfrm>
            <a:off x="0" y="234936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324000" y="162864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1"/>
          <p:cNvSpPr/>
          <p:nvPr/>
        </p:nvSpPr>
        <p:spPr>
          <a:xfrm>
            <a:off x="2301840" y="584280"/>
            <a:ext cx="2376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14,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2,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17,1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59,8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00ff"/>
                </a:solidFill>
                <a:uFillTx/>
                <a:latin typeface="Arial"/>
              </a:rPr>
              <a:t> </a:t>
            </a:r>
            <a:r>
              <a:rPr b="0" lang="ru-RU" sz="4400" spc="-1" strike="noStrike" u="sng">
                <a:solidFill>
                  <a:srgbClr val="6600ff"/>
                </a:solidFill>
                <a:uFillTx/>
                <a:latin typeface="Arial"/>
              </a:rPr>
              <a:t>52,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112,3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16"/>
          <p:cNvSpPr/>
          <p:nvPr/>
        </p:nvSpPr>
        <p:spPr>
          <a:xfrm>
            <a:off x="2665440" y="2060640"/>
            <a:ext cx="154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Text Box 18"/>
          <p:cNvSpPr/>
          <p:nvPr/>
        </p:nvSpPr>
        <p:spPr>
          <a:xfrm>
            <a:off x="324000" y="692280"/>
            <a:ext cx="208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14,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2,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12,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4572000" y="584280"/>
            <a:ext cx="208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17,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85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51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59,85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Text Box 21"/>
          <p:cNvSpPr/>
          <p:nvPr/>
        </p:nvSpPr>
        <p:spPr>
          <a:xfrm>
            <a:off x="6659640" y="620640"/>
            <a:ext cx="208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12,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4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52,50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Line 22"/>
          <p:cNvSpPr/>
          <p:nvPr/>
        </p:nvSpPr>
        <p:spPr>
          <a:xfrm>
            <a:off x="395280" y="2060640"/>
            <a:ext cx="1368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Line 24"/>
          <p:cNvSpPr/>
          <p:nvPr/>
        </p:nvSpPr>
        <p:spPr>
          <a:xfrm>
            <a:off x="5003640" y="198900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25"/>
          <p:cNvSpPr/>
          <p:nvPr/>
        </p:nvSpPr>
        <p:spPr>
          <a:xfrm>
            <a:off x="4716360" y="335772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26"/>
          <p:cNvSpPr/>
          <p:nvPr/>
        </p:nvSpPr>
        <p:spPr>
          <a:xfrm>
            <a:off x="6659640" y="3357720"/>
            <a:ext cx="1800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27"/>
          <p:cNvSpPr/>
          <p:nvPr/>
        </p:nvSpPr>
        <p:spPr>
          <a:xfrm>
            <a:off x="7093080" y="2060640"/>
            <a:ext cx="1439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29"/>
          <p:cNvSpPr/>
          <p:nvPr/>
        </p:nvSpPr>
        <p:spPr>
          <a:xfrm>
            <a:off x="250920" y="126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Text Box 30"/>
          <p:cNvSpPr/>
          <p:nvPr/>
        </p:nvSpPr>
        <p:spPr>
          <a:xfrm>
            <a:off x="2484360" y="126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Text Box 31"/>
          <p:cNvSpPr/>
          <p:nvPr/>
        </p:nvSpPr>
        <p:spPr>
          <a:xfrm>
            <a:off x="4716360" y="119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Text Box 32"/>
          <p:cNvSpPr/>
          <p:nvPr/>
        </p:nvSpPr>
        <p:spPr>
          <a:xfrm>
            <a:off x="6659640" y="1125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Text Box 35"/>
          <p:cNvSpPr/>
          <p:nvPr/>
        </p:nvSpPr>
        <p:spPr>
          <a:xfrm>
            <a:off x="4572000" y="2421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65964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2197080" y="3726000"/>
            <a:ext cx="630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684000" y="549360"/>
            <a:ext cx="8002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Найдите ошибки в вычислениях и объясните их появление: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</a:rPr>
              <a:t>21,8·10=2180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</a:rPr>
              <a:t>0,001·5=0,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</a:rPr>
              <a:t>0,27·100=2,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</a:rPr>
              <a:t>0,5·6=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</a:rPr>
              <a:t>10,4·2=2,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79280" y="1628640"/>
          <a:ext cx="8229600" cy="15843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111320"/>
                <a:gridCol w="946080"/>
                <a:gridCol w="1028880"/>
                <a:gridCol w="1120680"/>
                <a:gridCol w="1224000"/>
                <a:gridCol w="7412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57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6600"/>
                          </a:solidFill>
                          <a:latin typeface="Times New Roman"/>
                          <a:ea typeface="MS Mincho"/>
                        </a:rPr>
                        <a:t>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6600"/>
                          </a:solidFill>
                          <a:latin typeface="Times New Roman"/>
                          <a:ea typeface="MS Mincho"/>
                        </a:rPr>
                        <a:t>0,7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6600"/>
                          </a:solidFill>
                          <a:latin typeface="Times New Roman"/>
                          <a:ea typeface="MS Mincho"/>
                        </a:rPr>
                        <a:t>3,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66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3366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6600"/>
                          </a:solidFill>
                          <a:latin typeface="Times New Roman"/>
                          <a:ea typeface="MS Mincho"/>
                        </a:rPr>
                        <a:t>0,0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6600"/>
                          </a:solidFill>
                          <a:latin typeface="Times New Roman"/>
                          <a:ea typeface="MS Mincho"/>
                        </a:rPr>
                        <a:t>41,0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М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д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ц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!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4"/>
          <p:cNvSpPr/>
          <p:nvPr/>
        </p:nvSpPr>
        <p:spPr>
          <a:xfrm>
            <a:off x="0" y="234936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Text Box 5"/>
          <p:cNvSpPr/>
          <p:nvPr/>
        </p:nvSpPr>
        <p:spPr>
          <a:xfrm>
            <a:off x="324000" y="162864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Text Box 11"/>
          <p:cNvSpPr/>
          <p:nvPr/>
        </p:nvSpPr>
        <p:spPr>
          <a:xfrm>
            <a:off x="2627280" y="620640"/>
            <a:ext cx="208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1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688,8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Line 16"/>
          <p:cNvSpPr/>
          <p:nvPr/>
        </p:nvSpPr>
        <p:spPr>
          <a:xfrm>
            <a:off x="2843280" y="2060640"/>
            <a:ext cx="136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Line 17"/>
          <p:cNvSpPr/>
          <p:nvPr/>
        </p:nvSpPr>
        <p:spPr>
          <a:xfrm>
            <a:off x="2771640" y="3429000"/>
            <a:ext cx="1513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18"/>
          <p:cNvSpPr/>
          <p:nvPr/>
        </p:nvSpPr>
        <p:spPr>
          <a:xfrm>
            <a:off x="324000" y="692280"/>
            <a:ext cx="2087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6888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Text Box 19"/>
          <p:cNvSpPr/>
          <p:nvPr/>
        </p:nvSpPr>
        <p:spPr>
          <a:xfrm>
            <a:off x="4859280" y="620640"/>
            <a:ext cx="19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57,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1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68,88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Text Box 21"/>
          <p:cNvSpPr/>
          <p:nvPr/>
        </p:nvSpPr>
        <p:spPr>
          <a:xfrm>
            <a:off x="6948360" y="620640"/>
            <a:ext cx="19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57,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0,1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6,888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22"/>
          <p:cNvSpPr/>
          <p:nvPr/>
        </p:nvSpPr>
        <p:spPr>
          <a:xfrm>
            <a:off x="395280" y="2060640"/>
            <a:ext cx="1368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23"/>
          <p:cNvSpPr/>
          <p:nvPr/>
        </p:nvSpPr>
        <p:spPr>
          <a:xfrm>
            <a:off x="395280" y="3429000"/>
            <a:ext cx="15127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Line 24"/>
          <p:cNvSpPr/>
          <p:nvPr/>
        </p:nvSpPr>
        <p:spPr>
          <a:xfrm>
            <a:off x="5003640" y="198900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25"/>
          <p:cNvSpPr/>
          <p:nvPr/>
        </p:nvSpPr>
        <p:spPr>
          <a:xfrm>
            <a:off x="5003640" y="3357720"/>
            <a:ext cx="15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26"/>
          <p:cNvSpPr/>
          <p:nvPr/>
        </p:nvSpPr>
        <p:spPr>
          <a:xfrm>
            <a:off x="7093080" y="3357720"/>
            <a:ext cx="1512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27"/>
          <p:cNvSpPr/>
          <p:nvPr/>
        </p:nvSpPr>
        <p:spPr>
          <a:xfrm>
            <a:off x="7093080" y="2060640"/>
            <a:ext cx="1439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Text Box 29"/>
          <p:cNvSpPr/>
          <p:nvPr/>
        </p:nvSpPr>
        <p:spPr>
          <a:xfrm>
            <a:off x="250920" y="126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Text Box 30"/>
          <p:cNvSpPr/>
          <p:nvPr/>
        </p:nvSpPr>
        <p:spPr>
          <a:xfrm>
            <a:off x="2484360" y="126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Text Box 31"/>
          <p:cNvSpPr/>
          <p:nvPr/>
        </p:nvSpPr>
        <p:spPr>
          <a:xfrm>
            <a:off x="4716360" y="119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Text Box 32"/>
          <p:cNvSpPr/>
          <p:nvPr/>
        </p:nvSpPr>
        <p:spPr>
          <a:xfrm>
            <a:off x="680400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33"/>
          <p:cNvSpPr/>
          <p:nvPr/>
        </p:nvSpPr>
        <p:spPr>
          <a:xfrm>
            <a:off x="0" y="2421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Text Box 34"/>
          <p:cNvSpPr/>
          <p:nvPr/>
        </p:nvSpPr>
        <p:spPr>
          <a:xfrm>
            <a:off x="2268360" y="242100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Text Box 35"/>
          <p:cNvSpPr/>
          <p:nvPr/>
        </p:nvSpPr>
        <p:spPr>
          <a:xfrm>
            <a:off x="4572000" y="2421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Text Box 36"/>
          <p:cNvSpPr/>
          <p:nvPr/>
        </p:nvSpPr>
        <p:spPr>
          <a:xfrm>
            <a:off x="6659640" y="2421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4"/>
          <p:cNvSpPr/>
          <p:nvPr/>
        </p:nvSpPr>
        <p:spPr>
          <a:xfrm>
            <a:off x="2124000" y="260280"/>
            <a:ext cx="67690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1,27     3,5=  44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12,7  0,35=  44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12,7    3,5=  44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0,127  3,5=    44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0,127 0,35=      44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12,7  0,1 = 127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12,7  0,01=   127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8"/>
          <p:cNvSpPr/>
          <p:nvPr/>
        </p:nvSpPr>
        <p:spPr>
          <a:xfrm>
            <a:off x="3679200" y="34282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3750840" y="27075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Rectangle 10"/>
          <p:cNvSpPr/>
          <p:nvPr/>
        </p:nvSpPr>
        <p:spPr>
          <a:xfrm>
            <a:off x="3606120" y="19882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3463560" y="12675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3750840" y="4039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Text Box 13"/>
          <p:cNvSpPr/>
          <p:nvPr/>
        </p:nvSpPr>
        <p:spPr>
          <a:xfrm>
            <a:off x="6084720" y="3357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6084720" y="1844640"/>
            <a:ext cx="4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6084720" y="1125360"/>
            <a:ext cx="4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Text Box 17"/>
          <p:cNvSpPr/>
          <p:nvPr/>
        </p:nvSpPr>
        <p:spPr>
          <a:xfrm>
            <a:off x="6300720" y="33336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Text Box 18"/>
          <p:cNvSpPr/>
          <p:nvPr/>
        </p:nvSpPr>
        <p:spPr>
          <a:xfrm>
            <a:off x="5940360" y="263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Text Box 19"/>
          <p:cNvSpPr/>
          <p:nvPr/>
        </p:nvSpPr>
        <p:spPr>
          <a:xfrm>
            <a:off x="5364000" y="256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Text Box 20"/>
          <p:cNvSpPr/>
          <p:nvPr/>
        </p:nvSpPr>
        <p:spPr>
          <a:xfrm>
            <a:off x="5580000" y="4221000"/>
            <a:ext cx="4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Text Box 21"/>
          <p:cNvSpPr/>
          <p:nvPr/>
        </p:nvSpPr>
        <p:spPr>
          <a:xfrm flipH="1">
            <a:off x="5796000" y="270828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Rectangle 22"/>
          <p:cNvSpPr/>
          <p:nvPr/>
        </p:nvSpPr>
        <p:spPr>
          <a:xfrm>
            <a:off x="3419640" y="501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Rectangle 23"/>
          <p:cNvSpPr/>
          <p:nvPr/>
        </p:nvSpPr>
        <p:spPr>
          <a:xfrm>
            <a:off x="3390480" y="42202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Text Box 24"/>
          <p:cNvSpPr/>
          <p:nvPr/>
        </p:nvSpPr>
        <p:spPr>
          <a:xfrm>
            <a:off x="5724360" y="4149720"/>
            <a:ext cx="4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Text Box 25"/>
          <p:cNvSpPr/>
          <p:nvPr/>
        </p:nvSpPr>
        <p:spPr>
          <a:xfrm>
            <a:off x="5867280" y="4869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Text Box 26"/>
          <p:cNvSpPr/>
          <p:nvPr/>
        </p:nvSpPr>
        <p:spPr>
          <a:xfrm flipH="1">
            <a:off x="6226920" y="2708280"/>
            <a:ext cx="5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ритча.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Шел мудрец, а я на встречу ему три человека, которые везли под горячим солнцем тележки с камнями для строительства. Мудрец остановился и задал вопрос каждому. У первого спросил: «А что ты делал целый день?». И тот с ухмылкой ответил, что целый день возил проклятые камни. У второго мудрец спросил: «А что ты делал целый день?», и тот ответил: «А я добросовестно выполнил свою работ». А третий улыбнулся, его лицо засветилось радостью и удовольствием: «А я принимал участие в строительстве храма!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Box 6"/>
          <p:cNvSpPr/>
          <p:nvPr/>
        </p:nvSpPr>
        <p:spPr>
          <a:xfrm>
            <a:off x="755640" y="907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Verdana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TextBox 7"/>
          <p:cNvSpPr/>
          <p:nvPr/>
        </p:nvSpPr>
        <p:spPr>
          <a:xfrm>
            <a:off x="971640" y="1555920"/>
            <a:ext cx="71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f227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4f2270"/>
                </a:solidFill>
                <a:uFillTx/>
                <a:latin typeface="Times New Roman"/>
              </a:rPr>
              <a:t>Стр. 219,  № 1432(1,2), 143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f2270"/>
                </a:solidFill>
                <a:uFillTx/>
                <a:latin typeface="Times New Roman"/>
              </a:rPr>
              <a:t>Творческое задание: придумать задачу на умножение десятичных дробей (показать решение задач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27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MS Mincho"/>
              </a:rPr>
              <a:t>а) Упростит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MS Mincho"/>
              </a:rPr>
              <a:t>8,9 + 8,9 +8,9 +8,9 +8,9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MS Mincho"/>
              </a:rPr>
              <a:t>10,2 + 10,2 +10,2+10,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MS Mincho"/>
              </a:rPr>
              <a:t>б) Угадайте корень уравнени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MS Mincho"/>
              </a:rPr>
              <a:t>86,7у = 867;       3,2х = 3200;        0,38а = 380;       1,7в = 1,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2050560" y="692280"/>
            <a:ext cx="66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MS Mincho"/>
              </a:rPr>
              <a:t>0,05 ∙0,1=0,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MS Mincho"/>
              </a:rPr>
              <a:t>56 ∙ 0,01=0,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MS Mincho"/>
              </a:rPr>
              <a:t>125,6 ∙ 0,01=1,2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MS Mincho"/>
              </a:rPr>
              <a:t>580 ∙ 0,001=0,5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MS Mincho"/>
              </a:rPr>
              <a:t>47 ∙ 0,001=0,04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3"/>
          <p:cNvSpPr/>
          <p:nvPr/>
        </p:nvSpPr>
        <p:spPr>
          <a:xfrm>
            <a:off x="468360" y="981000"/>
            <a:ext cx="7993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Чтобы умножить число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0</a:t>
            </a:r>
            <a:r>
              <a:rPr b="1" i="1" lang="ru-RU" sz="3200" spc="-1" strike="noStrike">
                <a:solidFill>
                  <a:srgbClr val="6600ff"/>
                </a:solidFill>
                <a:latin typeface="Verdana"/>
              </a:rPr>
              <a:t>,1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i="1" lang="ru-RU" sz="32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0</a:t>
            </a:r>
            <a:r>
              <a:rPr b="1" i="1" lang="ru-RU" sz="3200" spc="-1" strike="noStrike">
                <a:solidFill>
                  <a:srgbClr val="6600ff"/>
                </a:solidFill>
                <a:latin typeface="Verdana"/>
              </a:rPr>
              <a:t>,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0</a:t>
            </a:r>
            <a:r>
              <a:rPr b="1" i="1" lang="ru-RU" sz="3200" spc="-1" strike="noStrike">
                <a:solidFill>
                  <a:srgbClr val="6600ff"/>
                </a:solidFill>
                <a:latin typeface="Verdana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i="1" lang="ru-RU" sz="32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0</a:t>
            </a:r>
            <a:r>
              <a:rPr b="1" i="1" lang="ru-RU" sz="3200" spc="-1" strike="noStrike">
                <a:solidFill>
                  <a:srgbClr val="6600ff"/>
                </a:solidFill>
                <a:latin typeface="Verdana"/>
              </a:rPr>
              <a:t>,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00</a:t>
            </a:r>
            <a:r>
              <a:rPr b="1" i="1" lang="ru-RU" sz="3200" spc="-1" strike="noStrike">
                <a:solidFill>
                  <a:srgbClr val="6600ff"/>
                </a:solidFill>
                <a:latin typeface="Verdana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и т.д. для этого надо 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перенести запятую влево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на столько цифр, сколько 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нулей стоит перед единицей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в множител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755640" y="549360"/>
            <a:ext cx="3097080" cy="1942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4211640" y="404640"/>
            <a:ext cx="288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=0,5 д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0,3 д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403280" y="278136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=2(а+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258920" y="328464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=2(0,5+0,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1332000" y="3860640"/>
            <a:ext cx="50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=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0" y="443700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=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5дм  0,3дм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Rectangle 9"/>
          <p:cNvSpPr/>
          <p:nvPr/>
        </p:nvSpPr>
        <p:spPr>
          <a:xfrm>
            <a:off x="4932360" y="465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Rectangle 10"/>
          <p:cNvSpPr/>
          <p:nvPr/>
        </p:nvSpPr>
        <p:spPr>
          <a:xfrm flipH="1">
            <a:off x="2050200" y="458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7" name="Object 13"/>
          <p:cNvGraphicFramePr/>
          <p:nvPr/>
        </p:nvGraphicFramePr>
        <p:xfrm>
          <a:off x="7524720" y="4149720"/>
          <a:ext cx="1728720" cy="116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149720"/>
                    <a:ext cx="1728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14"/>
          <p:cNvGraphicFramePr/>
          <p:nvPr/>
        </p:nvGraphicFramePr>
        <p:xfrm>
          <a:off x="5867280" y="5373720"/>
          <a:ext cx="1729080" cy="116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373720"/>
                    <a:ext cx="17290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Text Box 15"/>
          <p:cNvSpPr/>
          <p:nvPr/>
        </p:nvSpPr>
        <p:spPr>
          <a:xfrm>
            <a:off x="4500720" y="328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2 0,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Text Box 16"/>
          <p:cNvSpPr/>
          <p:nvPr/>
        </p:nvSpPr>
        <p:spPr>
          <a:xfrm>
            <a:off x="6156360" y="328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1,6 (д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Text Box 17"/>
          <p:cNvSpPr/>
          <p:nvPr/>
        </p:nvSpPr>
        <p:spPr>
          <a:xfrm>
            <a:off x="6012000" y="4508640"/>
            <a:ext cx="244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15см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3708360" y="4508640"/>
            <a:ext cx="266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5см 3см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3851280" y="4941720"/>
            <a:ext cx="251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0,15д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Text Box 21"/>
          <p:cNvSpPr/>
          <p:nvPr/>
        </p:nvSpPr>
        <p:spPr>
          <a:xfrm>
            <a:off x="7596360" y="450864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Line 22"/>
          <p:cNvSpPr/>
          <p:nvPr/>
        </p:nvSpPr>
        <p:spPr>
          <a:xfrm>
            <a:off x="755640" y="5013360"/>
            <a:ext cx="287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Line 23"/>
          <p:cNvSpPr/>
          <p:nvPr/>
        </p:nvSpPr>
        <p:spPr>
          <a:xfrm>
            <a:off x="4211640" y="6237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Rectangle 10"/>
          <p:cNvSpPr/>
          <p:nvPr/>
        </p:nvSpPr>
        <p:spPr>
          <a:xfrm flipH="1">
            <a:off x="5148360" y="335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395280" y="981000"/>
            <a:ext cx="7921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ема урока «</a:t>
            </a:r>
            <a:r>
              <a:rPr b="1" i="1" lang="ru-RU" sz="5400" spc="-1" strike="noStrike">
                <a:solidFill>
                  <a:srgbClr val="800000"/>
                </a:solidFill>
                <a:latin typeface="Times New Roman"/>
                <a:ea typeface="Aharoni"/>
              </a:rPr>
              <a:t>УМНОЖЕНИЕ  ДЕСЯТИЧНЫХ </a:t>
            </a:r>
            <a:br>
              <a:rPr sz="5400"/>
            </a:br>
            <a:r>
              <a:rPr b="1" i="1" lang="ru-RU" sz="5400" spc="-1" strike="noStrike">
                <a:solidFill>
                  <a:srgbClr val="800000"/>
                </a:solidFill>
                <a:latin typeface="Times New Roman"/>
                <a:ea typeface="Aharoni"/>
              </a:rPr>
              <a:t>ДРОБЕЙ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4"/>
          <p:cNvSpPr/>
          <p:nvPr/>
        </p:nvSpPr>
        <p:spPr>
          <a:xfrm>
            <a:off x="684360" y="189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Чтобы умножить одну десятичную дробь на другую надо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971640" y="1484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 Перемножить их не обращая внимания на запяты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971640" y="2637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 Отделить запятой в произведении столько цифр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СПРАВА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, сколько их стоит после запятой в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ОБОИХ МНОЖИТЕЛЯХ ВМЕС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403280" y="259920"/>
            <a:ext cx="66960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Один, два, три, четыре, пя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Все умеем мы счит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Отдыхать умеем тож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Руки за спину полож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Голову поднимем выш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И легко – легко подыш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Все ребята дружно вс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И на месте зашаг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На носочки, потяну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И друг к другу повернули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Как пружинки мы присел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MS Mincho"/>
              </a:rPr>
              <a:t>А потом тихонько сел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9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9" dur="500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9" dur="500"/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6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6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7:20:22Z</dcterms:created>
  <dc:creator>Ирина</dc:creator>
  <dc:description/>
  <dc:language>en-US</dc:language>
  <cp:lastModifiedBy>Учитель</cp:lastModifiedBy>
  <dcterms:modified xsi:type="dcterms:W3CDTF">2014-02-21T09:34:40Z</dcterms:modified>
  <cp:revision>127</cp:revision>
  <dc:subject/>
  <dc:title>Слайд 1</dc:title>
</cp:coreProperties>
</file>