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9D8-78E8-4F62-80E9-EAD84A8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AA9-6B61-460F-84DF-5F6EEF3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BBD-0392-4C3B-835C-603272A3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653-844C-4642-AB20-DF7DDD51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A4C-BEC6-4EF7-B55A-604E7E7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ACF-6BC4-4BCB-AB5E-6F77104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8B5-B721-41EF-B4FF-7C4AC90D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192-B65A-4CC2-ABC5-253362A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4C9-DD06-427C-9860-ABE07ED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526-79D2-4987-BAB7-954912D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B05-BF04-4F2E-924F-9DF189B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932-7034-4D88-9915-722B339C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0FB-7D28-45AD-A2B7-0B999A548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5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dventure"/>
              </a:rPr>
              <a:t>Богатырская сказка – </a:t>
            </a:r>
            <a:br>
              <a:rPr sz="5400"/>
            </a:br>
            <a:r>
              <a:rPr b="1" lang="ru-RU" sz="5400" spc="-1" strike="noStrike">
                <a:solidFill>
                  <a:srgbClr val="003300"/>
                </a:solidFill>
                <a:latin typeface="Adventure"/>
              </a:rPr>
              <a:t>жанр устного народного</a:t>
            </a:r>
            <a:br>
              <a:rPr sz="5400"/>
            </a:br>
            <a:r>
              <a:rPr b="1" lang="ru-RU" sz="5400" spc="-1" strike="noStrike">
                <a:solidFill>
                  <a:srgbClr val="003300"/>
                </a:solidFill>
                <a:latin typeface="Adventure"/>
              </a:rPr>
              <a:t>творч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ч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081680" y="652464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шанина О.Л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Книги о богаты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162163"/>
          <p:cNvPicPr/>
          <p:nvPr/>
        </p:nvPicPr>
        <p:blipFill>
          <a:blip r:embed="rId1"/>
          <a:stretch/>
        </p:blipFill>
        <p:spPr>
          <a:xfrm>
            <a:off x="1476360" y="1268280"/>
            <a:ext cx="2112840" cy="34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946615"/>
          <p:cNvPicPr/>
          <p:nvPr/>
        </p:nvPicPr>
        <p:blipFill>
          <a:blip r:embed="rId2"/>
          <a:stretch/>
        </p:blipFill>
        <p:spPr>
          <a:xfrm>
            <a:off x="6372360" y="1341360"/>
            <a:ext cx="193500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1000254041"/>
          <p:cNvPicPr/>
          <p:nvPr/>
        </p:nvPicPr>
        <p:blipFill>
          <a:blip r:embed="rId3"/>
          <a:stretch/>
        </p:blipFill>
        <p:spPr>
          <a:xfrm>
            <a:off x="1692360" y="3933720"/>
            <a:ext cx="2076480" cy="2730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000496337"/>
          <p:cNvPicPr/>
          <p:nvPr/>
        </p:nvPicPr>
        <p:blipFill>
          <a:blip r:embed="rId4"/>
          <a:stretch/>
        </p:blipFill>
        <p:spPr>
          <a:xfrm>
            <a:off x="6300720" y="3573360"/>
            <a:ext cx="229068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big"/>
          <p:cNvPicPr/>
          <p:nvPr/>
        </p:nvPicPr>
        <p:blipFill>
          <a:blip r:embed="rId5"/>
          <a:stretch/>
        </p:blipFill>
        <p:spPr>
          <a:xfrm>
            <a:off x="3995640" y="198900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Богатырская «Сказка про Илью Муром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_ilya_01_b_104"/>
          <p:cNvPicPr/>
          <p:nvPr/>
        </p:nvPicPr>
        <p:blipFill>
          <a:blip r:embed="rId1"/>
          <a:stretch/>
        </p:blipFill>
        <p:spPr>
          <a:xfrm>
            <a:off x="5003640" y="1628640"/>
            <a:ext cx="372924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11280" y="1700280"/>
            <a:ext cx="413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т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лья Муроме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куда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57358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pic_folk"/>
          <p:cNvPicPr/>
          <p:nvPr/>
        </p:nvPicPr>
        <p:blipFill>
          <a:blip r:embed="rId2"/>
          <a:stretch/>
        </p:blipFill>
        <p:spPr>
          <a:xfrm>
            <a:off x="6464160" y="2637000"/>
            <a:ext cx="2374920" cy="3528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9"/>
          <p:cNvSpPr/>
          <p:nvPr/>
        </p:nvSpPr>
        <p:spPr>
          <a:xfrm rot="16200000">
            <a:off x="3059640" y="-675720"/>
            <a:ext cx="1800360" cy="3383280"/>
          </a:xfrm>
          <a:prstGeom prst="wedgeRoundRectCallout">
            <a:avLst>
              <a:gd name="adj1" fmla="val -68078"/>
              <a:gd name="adj2" fmla="val 86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751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74480" y="26028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вали отца и мать Иль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горчило родител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5400360" cy="395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ic_folk"/>
          <p:cNvPicPr/>
          <p:nvPr/>
        </p:nvPicPr>
        <p:blipFill>
          <a:blip r:embed="rId2"/>
          <a:stretch/>
        </p:blipFill>
        <p:spPr>
          <a:xfrm>
            <a:off x="6443640" y="2708280"/>
            <a:ext cx="2374920" cy="35290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/>
          <p:cNvSpPr/>
          <p:nvPr/>
        </p:nvSpPr>
        <p:spPr>
          <a:xfrm>
            <a:off x="2340000" y="404640"/>
            <a:ext cx="3816360" cy="1513080"/>
          </a:xfrm>
          <a:prstGeom prst="wedgeRoundRectCallout">
            <a:avLst>
              <a:gd name="adj1" fmla="val 57319"/>
              <a:gd name="adj2" fmla="val 104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481120" y="666720"/>
            <a:ext cx="348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онимает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ть сы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 никуда не годя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такой стран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5616720" cy="321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ic_folk"/>
          <p:cNvPicPr/>
          <p:nvPr/>
        </p:nvPicPr>
        <p:blipFill>
          <a:blip r:embed="rId2"/>
          <a:stretch/>
        </p:blipFill>
        <p:spPr>
          <a:xfrm>
            <a:off x="6438960" y="2637000"/>
            <a:ext cx="232560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6"/>
          <p:cNvSpPr/>
          <p:nvPr/>
        </p:nvSpPr>
        <p:spPr>
          <a:xfrm rot="10800000">
            <a:off x="1186920" y="333000"/>
            <a:ext cx="4032360" cy="1943280"/>
          </a:xfrm>
          <a:prstGeom prst="wedgeRoundRectCallout">
            <a:avLst>
              <a:gd name="adj1" fmla="val -73819"/>
              <a:gd name="adj2" fmla="val -578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671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87640" y="76500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мать с отцом уз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силе своего сы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5372280" cy="366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ic_folk"/>
          <p:cNvPicPr/>
          <p:nvPr/>
        </p:nvPicPr>
        <p:blipFill>
          <a:blip r:embed="rId2"/>
          <a:stretch/>
        </p:blipFill>
        <p:spPr>
          <a:xfrm>
            <a:off x="6367320" y="2637000"/>
            <a:ext cx="2374920" cy="35287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 rot="16200000">
            <a:off x="2607840" y="-439560"/>
            <a:ext cx="2160720" cy="3560760"/>
          </a:xfrm>
          <a:prstGeom prst="wedgeRoundRectCallout">
            <a:avLst>
              <a:gd name="adj1" fmla="val -64402"/>
              <a:gd name="adj2" fmla="val 84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319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910160" y="357120"/>
            <a:ext cx="33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и зачи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ывок к да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«Есть еще  на Руси, кому постоять за землю Русскую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04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н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ходит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рекослов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 спо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ы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бор из бревен или жер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х топ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упая сторона то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собл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мо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pic_folk"/>
          <p:cNvPicPr/>
          <p:nvPr/>
        </p:nvPicPr>
        <p:blipFill>
          <a:blip r:embed="rId1"/>
          <a:stretch/>
        </p:blipFill>
        <p:spPr>
          <a:xfrm>
            <a:off x="5508720" y="1484280"/>
            <a:ext cx="33512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ic_folk"/>
          <p:cNvPicPr/>
          <p:nvPr/>
        </p:nvPicPr>
        <p:blipFill>
          <a:blip r:embed="rId1"/>
          <a:stretch/>
        </p:blipFill>
        <p:spPr>
          <a:xfrm>
            <a:off x="6300720" y="2276640"/>
            <a:ext cx="2632320" cy="3911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 rot="10800000">
            <a:off x="2050560" y="764640"/>
            <a:ext cx="3529080" cy="3816360"/>
          </a:xfrm>
          <a:prstGeom prst="wedgeEllipseCallout">
            <a:avLst>
              <a:gd name="adj1" fmla="val -74787"/>
              <a:gd name="adj2" fmla="val -15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265120" y="1700280"/>
            <a:ext cx="3209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 сказке правди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ымышле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сказка про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долгий пут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умер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3"/>
          <p:cNvGrpSpPr/>
          <p:nvPr/>
        </p:nvGrpSpPr>
        <p:grpSpPr>
          <a:xfrm>
            <a:off x="684360" y="1332720"/>
            <a:ext cx="8148960" cy="3585960"/>
            <a:chOff x="684360" y="1332720"/>
            <a:chExt cx="8148960" cy="358596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499720" y="2016000"/>
              <a:ext cx="712800" cy="2194200"/>
            </a:xfrm>
            <a:prstGeom prst="bentConnector3">
              <a:avLst>
                <a:gd name="adj1" fmla="val 160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3305520" y="2015640"/>
              <a:ext cx="712800" cy="2195280"/>
            </a:xfrm>
            <a:prstGeom prst="bentConnector3">
              <a:avLst>
                <a:gd name="adj1" fmla="val 160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0"/>
            <p:cNvSpPr/>
            <p:nvPr/>
          </p:nvSpPr>
          <p:spPr>
            <a:xfrm>
              <a:off x="2878920" y="1332720"/>
              <a:ext cx="3760920" cy="142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Народ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Автор - на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684360" y="3469680"/>
              <a:ext cx="3760920" cy="144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Уст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Из уст в ус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2"/>
            <p:cNvSpPr/>
            <p:nvPr/>
          </p:nvSpPr>
          <p:spPr>
            <a:xfrm>
              <a:off x="5072400" y="3469680"/>
              <a:ext cx="3760920" cy="144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00"/>
                  </a:solidFill>
                  <a:latin typeface="Arial"/>
                </a:rPr>
                <a:t>Творче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0066"/>
                  </a:solidFill>
                  <a:latin typeface="Arial"/>
                </a:rPr>
                <a:t>Жанры</a:t>
              </a:r>
              <a:r>
                <a:rPr b="1" i="1" lang="en-US" sz="1900" spc="-1" strike="noStrike">
                  <a:solidFill>
                    <a:srgbClr val="ff0066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Песн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загад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пословиц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Былины и т.д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0"/>
          <p:cNvSpPr/>
          <p:nvPr/>
        </p:nvSpPr>
        <p:spPr>
          <a:xfrm>
            <a:off x="260280" y="260280"/>
            <a:ext cx="86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dventure"/>
              </a:rPr>
              <a:t>Устное народное твор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_folk"/>
          <p:cNvPicPr/>
          <p:nvPr/>
        </p:nvPicPr>
        <p:blipFill>
          <a:blip r:embed="rId1"/>
          <a:stretch/>
        </p:blipFill>
        <p:spPr>
          <a:xfrm>
            <a:off x="5753160" y="1241280"/>
            <a:ext cx="339084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6200000">
            <a:off x="1979280" y="656640"/>
            <a:ext cx="3203640" cy="3635280"/>
          </a:xfrm>
          <a:prstGeom prst="wedgeRoundRectCallout">
            <a:avLst>
              <a:gd name="adj1" fmla="val 20611"/>
              <a:gd name="adj2" fmla="val 66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765800" y="1268280"/>
            <a:ext cx="390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ылины – это 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устного народ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s4"/>
          <p:cNvPicPr/>
          <p:nvPr/>
        </p:nvPicPr>
        <p:blipFill>
          <a:blip r:embed="rId1"/>
          <a:stretch/>
        </p:blipFill>
        <p:spPr>
          <a:xfrm>
            <a:off x="4568760" y="3419640"/>
            <a:ext cx="4680" cy="17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18900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Былины исполнялись на праздниках и пирах особыми людьми – сказителями. Они играли на гуслях (старинном музыкальном инструмен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гусляры"/>
          <p:cNvPicPr/>
          <p:nvPr/>
        </p:nvPicPr>
        <p:blipFill>
          <a:blip r:embed="rId2"/>
          <a:stretch/>
        </p:blipFill>
        <p:spPr>
          <a:xfrm>
            <a:off x="395280" y="2781360"/>
            <a:ext cx="626436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ic_folk"/>
          <p:cNvPicPr/>
          <p:nvPr/>
        </p:nvPicPr>
        <p:blipFill>
          <a:blip r:embed="rId3"/>
          <a:stretch/>
        </p:blipFill>
        <p:spPr>
          <a:xfrm>
            <a:off x="6594480" y="2637000"/>
            <a:ext cx="2549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_3698"/>
          <p:cNvPicPr/>
          <p:nvPr/>
        </p:nvPicPr>
        <p:blipFill>
          <a:blip r:embed="rId1"/>
          <a:stretch/>
        </p:blipFill>
        <p:spPr>
          <a:xfrm>
            <a:off x="5724360" y="692280"/>
            <a:ext cx="327348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593640" y="496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pic_folk"/>
          <p:cNvPicPr/>
          <p:nvPr/>
        </p:nvPicPr>
        <p:blipFill>
          <a:blip r:embed="rId2"/>
          <a:stretch/>
        </p:blipFill>
        <p:spPr>
          <a:xfrm>
            <a:off x="3564000" y="2565360"/>
            <a:ext cx="2049480" cy="30463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2"/>
          <p:cNvSpPr/>
          <p:nvPr/>
        </p:nvSpPr>
        <p:spPr>
          <a:xfrm rot="16200000">
            <a:off x="971640" y="117000"/>
            <a:ext cx="2521080" cy="3095640"/>
          </a:xfrm>
          <a:prstGeom prst="wedgeRoundRectCallout">
            <a:avLst>
              <a:gd name="adj1" fmla="val -23231"/>
              <a:gd name="adj2" fmla="val 62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826920" y="620640"/>
            <a:ext cx="272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озникли бы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о вре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Киевской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_folk"/>
          <p:cNvPicPr/>
          <p:nvPr/>
        </p:nvPicPr>
        <p:blipFill>
          <a:blip r:embed="rId1"/>
          <a:stretch/>
        </p:blipFill>
        <p:spPr>
          <a:xfrm>
            <a:off x="6078600" y="2349360"/>
            <a:ext cx="2954160" cy="43912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 rot="16200000">
            <a:off x="1331640" y="1125360"/>
            <a:ext cx="4824720" cy="4103640"/>
          </a:xfrm>
          <a:prstGeom prst="wedgeRoundRectCallout">
            <a:avLst>
              <a:gd name="adj1" fmla="val -4199"/>
              <a:gd name="adj2" fmla="val 6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982520" y="1341360"/>
            <a:ext cx="394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Былины получ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вое название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лов «быль», «был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В них неизве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авторы рассказ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о событиях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действительно бы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о сражениях с враг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о победах русских во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ерои русских был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-web"/>
          <p:cNvPicPr/>
          <p:nvPr/>
        </p:nvPicPr>
        <p:blipFill>
          <a:blip r:embed="rId1"/>
          <a:stretch/>
        </p:blipFill>
        <p:spPr>
          <a:xfrm>
            <a:off x="900000" y="2924280"/>
            <a:ext cx="273708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r0282_01_big"/>
          <p:cNvPicPr/>
          <p:nvPr/>
        </p:nvPicPr>
        <p:blipFill>
          <a:blip r:embed="rId2"/>
          <a:stretch/>
        </p:blipFill>
        <p:spPr>
          <a:xfrm>
            <a:off x="4067280" y="2276640"/>
            <a:ext cx="2398680" cy="28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алеша"/>
          <p:cNvPicPr/>
          <p:nvPr/>
        </p:nvPicPr>
        <p:blipFill>
          <a:blip r:embed="rId3"/>
          <a:stretch/>
        </p:blipFill>
        <p:spPr>
          <a:xfrm>
            <a:off x="6804000" y="1773360"/>
            <a:ext cx="1854360" cy="4130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880560" y="236700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я Муро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996720" y="177336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ня 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711840" y="1406520"/>
            <a:ext cx="20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ша Поп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огатыр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7620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0" y="5589720"/>
            <a:ext cx="9144000" cy="105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Богатыри были героями и русских 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ic_folk"/>
          <p:cNvPicPr/>
          <p:nvPr/>
        </p:nvPicPr>
        <p:blipFill>
          <a:blip r:embed="rId1"/>
          <a:stretch/>
        </p:blipFill>
        <p:spPr>
          <a:xfrm>
            <a:off x="5753160" y="1241280"/>
            <a:ext cx="3390840" cy="5616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 rot="16200000">
            <a:off x="1708920" y="314640"/>
            <a:ext cx="2881080" cy="3635280"/>
          </a:xfrm>
          <a:prstGeom prst="wedgeRoundRectCallout">
            <a:avLst>
              <a:gd name="adj1" fmla="val 14407"/>
              <a:gd name="adj2" fmla="val 85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64720" y="1319040"/>
            <a:ext cx="33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казки о богатыр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аз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«богатырски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23:01Z</dcterms:created>
  <dc:creator>Гербер</dc:creator>
  <dc:description/>
  <dc:language>en-US</dc:language>
  <cp:lastModifiedBy>lena</cp:lastModifiedBy>
  <dcterms:modified xsi:type="dcterms:W3CDTF">2014-11-03T06:43:42Z</dcterms:modified>
  <cp:revision>5</cp:revision>
  <dc:subject/>
  <dc:title>Былина – фольклорный жанр</dc:title>
</cp:coreProperties>
</file>