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530-6853-436E-9F4B-223A8AC0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3C4-4123-4E6A-A8F0-5913B5EB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70F-BA35-4036-B483-F24BE9F2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A76-5C2E-492A-A572-CCC38E32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732-898F-4947-AC52-5B647972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364-7453-4DB8-91F5-BC89D88D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307-9651-4A80-ACA1-F370CC1D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81C-443E-4588-A9CE-3EC9722F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8BD-7FD8-450D-B823-6FD59E9C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4A4-AD42-4D43-B0F5-1FB5E48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8C3-A483-49BA-9DDA-1AB76B9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7A9-6214-40AF-89E5-1E11F134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1697-2063-41FD-8542-86BE8947C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pt4web.ru/biologija/fotosintez9.html" TargetMode="External"/><Relationship Id="rId2" Type="http://schemas.openxmlformats.org/officeDocument/2006/relationships/hyperlink" Target="http://tipslife.ru/41074-dlya-chego-nuzhny-problemy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28760" y="619200"/>
            <a:ext cx="817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биологии  в 6 классе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Дыхание растени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 мы должны вести себя по отношению к зелёным «лёгким планеты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осны, липы, ели не болели, зелен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новые леса поднимались в неб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должны их  охранять 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жить в одной сем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еть в одном полёт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те сохра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шку на л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вшинку на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люкву на бол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052640"/>
          <a:ext cx="8424720" cy="45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9383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0"/>
          <p:cNvSpPr/>
          <p:nvPr/>
        </p:nvSpPr>
        <p:spPr>
          <a:xfrm>
            <a:off x="2176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828360" y="1844640"/>
            <a:ext cx="20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х ж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613440" y="3573360"/>
            <a:ext cx="260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ды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лощ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ый г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3709800" y="220500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3781440" y="4076640"/>
            <a:ext cx="16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5867280" y="1628640"/>
            <a:ext cx="302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шит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чевичк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иц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невые вол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6085800" y="3789360"/>
            <a:ext cx="254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кис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Изучить § 29, раздел «Дыхание растений», ответить на вопрос 3 после парагра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писать мини-сочинение от имени молекулы кислорода «Мое путешествие по расте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736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4"/>
          <p:cNvSpPr/>
          <p:nvPr/>
        </p:nvSpPr>
        <p:spPr>
          <a:xfrm>
            <a:off x="3111120" y="46656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>
            <a:off x="250920" y="1916280"/>
            <a:ext cx="2448000" cy="27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3203640" y="1773360"/>
            <a:ext cx="2448000" cy="27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6084720" y="1844640"/>
            <a:ext cx="2448000" cy="273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826920" y="2852640"/>
            <a:ext cx="287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1908000" y="2852640"/>
            <a:ext cx="287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740720" y="2852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6659640" y="2852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2"/>
          <p:cNvSpPr/>
          <p:nvPr/>
        </p:nvSpPr>
        <p:spPr>
          <a:xfrm>
            <a:off x="4788000" y="27082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3"/>
          <p:cNvSpPr/>
          <p:nvPr/>
        </p:nvSpPr>
        <p:spPr>
          <a:xfrm>
            <a:off x="3780000" y="27082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4"/>
          <p:cNvSpPr/>
          <p:nvPr/>
        </p:nvSpPr>
        <p:spPr>
          <a:xfrm rot="16200000">
            <a:off x="1223280" y="3248640"/>
            <a:ext cx="576000" cy="136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5"/>
          <p:cNvSpPr/>
          <p:nvPr/>
        </p:nvSpPr>
        <p:spPr>
          <a:xfrm rot="5400000">
            <a:off x="7055280" y="3177360"/>
            <a:ext cx="57636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3924360" y="3716280"/>
            <a:ext cx="1152360" cy="289080"/>
          </a:xfrm>
          <a:prstGeom prst="rect">
            <a:avLst/>
          </a:pr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е сайты карти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pt4web.ru/biologija/fotosintez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ipslife.ru/41074-dlya-chego-nuzhny-problemy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26560" y="549360"/>
            <a:ext cx="813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ышат насеком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ого клеточн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дыхание при помощи жаб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дышит жабр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 позвоночные животные дыш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дыш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так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50920" y="1147680"/>
            <a:ext cx="40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ние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286000" y="3108240"/>
            <a:ext cx="567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дышу, а значит, я живу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С. Высо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1052640"/>
          <a:ext cx="8229600" cy="45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0"/>
          <p:cNvSpPr/>
          <p:nvPr/>
        </p:nvSpPr>
        <p:spPr>
          <a:xfrm>
            <a:off x="2176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1"/>
          <p:cNvSpPr/>
          <p:nvPr/>
        </p:nvSpPr>
        <p:spPr>
          <a:xfrm>
            <a:off x="828360" y="1844640"/>
            <a:ext cx="20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х ж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613440" y="3573360"/>
            <a:ext cx="260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ды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лощ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ый г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3709800" y="220500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4"/>
          <p:cNvSpPr/>
          <p:nvPr/>
        </p:nvSpPr>
        <p:spPr>
          <a:xfrm>
            <a:off x="3781440" y="4076640"/>
            <a:ext cx="16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5013000"/>
            <a:ext cx="34574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зеф Прист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a-VA" sz="2400" spc="-1" strike="noStrike">
                <a:solidFill>
                  <a:srgbClr val="000000"/>
                </a:solidFill>
                <a:latin typeface="Arial"/>
              </a:rPr>
              <a:t> 1733-180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64000" y="259920"/>
            <a:ext cx="5400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\Desktop\pristly24.jpg"/>
          <p:cNvPicPr/>
          <p:nvPr/>
        </p:nvPicPr>
        <p:blipFill>
          <a:blip r:embed="rId1"/>
          <a:stretch/>
        </p:blipFill>
        <p:spPr>
          <a:xfrm>
            <a:off x="250920" y="692280"/>
            <a:ext cx="3095640" cy="40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1\Desktop\1290128914_image001.jpg"/>
          <p:cNvPicPr/>
          <p:nvPr/>
        </p:nvPicPr>
        <p:blipFill>
          <a:blip r:embed="rId2"/>
          <a:srcRect l="0" t="0" r="0" b="49963"/>
          <a:stretch/>
        </p:blipFill>
        <p:spPr>
          <a:xfrm>
            <a:off x="4284720" y="2060640"/>
            <a:ext cx="435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погиб мышоно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пытах Прист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нам нужно сделать, чтобы решить эту пробл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знать, что так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что нужно для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что образуется в процессе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что вызвало гибель мышо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381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1\Desktop\1290128914_image001.jpg"/>
          <p:cNvPicPr/>
          <p:nvPr/>
        </p:nvPicPr>
        <p:blipFill>
          <a:blip r:embed="rId1"/>
          <a:stretch/>
        </p:blipFill>
        <p:spPr>
          <a:xfrm>
            <a:off x="4500720" y="765000"/>
            <a:ext cx="3895560" cy="5329440"/>
          </a:xfrm>
          <a:prstGeom prst="rect">
            <a:avLst/>
          </a:prstGeom>
          <a:ln w="0">
            <a:noFill/>
          </a:ln>
        </p:spPr>
      </p:pic>
      <p:sp>
        <p:nvSpPr>
          <p:cNvPr id="60" name="Текст 4"/>
          <p:cNvSpPr/>
          <p:nvPr/>
        </p:nvSpPr>
        <p:spPr>
          <a:xfrm>
            <a:off x="250920" y="260280"/>
            <a:ext cx="540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1\Desktop\pristly24.jpg"/>
          <p:cNvPicPr/>
          <p:nvPr/>
        </p:nvPicPr>
        <p:blipFill>
          <a:blip r:embed="rId2"/>
          <a:stretch/>
        </p:blipFill>
        <p:spPr>
          <a:xfrm>
            <a:off x="468360" y="119700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62" name="Текст 2"/>
          <p:cNvSpPr/>
          <p:nvPr/>
        </p:nvSpPr>
        <p:spPr>
          <a:xfrm>
            <a:off x="395280" y="5300640"/>
            <a:ext cx="345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зеф Прист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a-VA" sz="2400" spc="-1" strike="noStrike">
                <a:solidFill>
                  <a:srgbClr val="000000"/>
                </a:solidFill>
                <a:latin typeface="Arial"/>
              </a:rPr>
              <a:t> 1733-180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141120"/>
          <a:ext cx="8229600" cy="6616800"/>
        </p:xfrm>
        <a:graphic>
          <a:graphicData uri="http://schemas.openxmlformats.org/drawingml/2006/table">
            <a:tbl>
              <a:tblPr/>
              <a:tblGrid>
                <a:gridCol w="2665440"/>
                <a:gridCol w="282096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ы проце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их клетках происходи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газ поглощает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газ выделяется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е время суток происходи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 органическими веществам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е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92"/>
          <p:cNvSpPr/>
          <p:nvPr/>
        </p:nvSpPr>
        <p:spPr>
          <a:xfrm>
            <a:off x="2918160" y="907920"/>
            <a:ext cx="23738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а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опла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3"/>
          <p:cNvSpPr/>
          <p:nvPr/>
        </p:nvSpPr>
        <p:spPr>
          <a:xfrm>
            <a:off x="5941080" y="9810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сех жи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4"/>
          <p:cNvSpPr/>
          <p:nvPr/>
        </p:nvSpPr>
        <p:spPr>
          <a:xfrm>
            <a:off x="3203280" y="184464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5"/>
          <p:cNvSpPr/>
          <p:nvPr/>
        </p:nvSpPr>
        <p:spPr>
          <a:xfrm>
            <a:off x="6011640" y="270828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6"/>
          <p:cNvSpPr/>
          <p:nvPr/>
        </p:nvSpPr>
        <p:spPr>
          <a:xfrm>
            <a:off x="6085800" y="19162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7"/>
          <p:cNvSpPr/>
          <p:nvPr/>
        </p:nvSpPr>
        <p:spPr>
          <a:xfrm>
            <a:off x="3349080" y="28526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8"/>
          <p:cNvSpPr/>
          <p:nvPr/>
        </p:nvSpPr>
        <p:spPr>
          <a:xfrm>
            <a:off x="3494160" y="3860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9"/>
          <p:cNvSpPr/>
          <p:nvPr/>
        </p:nvSpPr>
        <p:spPr>
          <a:xfrm>
            <a:off x="6014520" y="38606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су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0"/>
          <p:cNvSpPr/>
          <p:nvPr/>
        </p:nvSpPr>
        <p:spPr>
          <a:xfrm>
            <a:off x="3277080" y="50846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1"/>
          <p:cNvSpPr/>
          <p:nvPr/>
        </p:nvSpPr>
        <p:spPr>
          <a:xfrm>
            <a:off x="5942520" y="501336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д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2"/>
          <p:cNvSpPr/>
          <p:nvPr/>
        </p:nvSpPr>
        <p:spPr>
          <a:xfrm>
            <a:off x="3206160" y="602136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3"/>
          <p:cNvSpPr/>
          <p:nvPr/>
        </p:nvSpPr>
        <p:spPr>
          <a:xfrm>
            <a:off x="6229440" y="60199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и у растений специальные органы для дых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7280" y="2637000"/>
            <a:ext cx="490680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с учебником: стр.108 пункт «Дыхание растений» 1 абзац и рис 5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736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8:21:40Z</dcterms:created>
  <dc:creator>User</dc:creator>
  <dc:description/>
  <dc:language>en-US</dc:language>
  <cp:lastModifiedBy>1</cp:lastModifiedBy>
  <dcterms:modified xsi:type="dcterms:W3CDTF">2014-10-23T17:52:40Z</dcterms:modified>
  <cp:revision>2</cp:revision>
  <dc:subject/>
  <dc:title>Слайд 1</dc:title>
</cp:coreProperties>
</file>