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511-E521-4D03-AA40-2FD837FD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B5D-25DA-4950-8637-4961F992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692-4E7E-4472-9C58-25340AF4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BCE-5E01-496C-A049-4CD2EFA5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BA6-1F16-40D4-BBD3-7716F4A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0C7-6DF3-42EA-B621-A3AD0C6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A40-AEB6-4205-9C3E-18B5CCF8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3CB-8E52-4309-97E9-832062F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7C3-45AB-44FB-8876-2AAD3AE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BDB-AA2A-4AF8-B1BD-EFCEC25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504-6A55-4ECD-8009-2BC6EB1B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BD3-DDCF-47CE-9D3C-2DB62309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A07-D926-4EA4-B663-E9E706F3E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pt4web.ru/biologija/fotosintez9.html" TargetMode="External"/><Relationship Id="rId2" Type="http://schemas.openxmlformats.org/officeDocument/2006/relationships/hyperlink" Target="http://tipslife.ru/41074-dlya-chego-nuzhny-problem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28760" y="619200"/>
            <a:ext cx="817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биологии  в 6 классе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Дыхание растени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 мы должны вести себя по отношению к зелёным «лёгким планеты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осны, липы, ели не болели, зелен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новые леса поднимались в неб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должны их  охранять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жить в одной сем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еть в одном полё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сохра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шку на л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вшинку на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люкву на бол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052640"/>
          <a:ext cx="842472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9383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0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5867280" y="1628640"/>
            <a:ext cx="30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шит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чевичк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иц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вые вол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6085800" y="3789360"/>
            <a:ext cx="25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кис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зучить § 29, раздел «Дыхание растений», ответить на вопрос 3 после параг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писать мини-сочинение от имени молекулы кислорода «Мое путешествие по расте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4"/>
          <p:cNvSpPr/>
          <p:nvPr/>
        </p:nvSpPr>
        <p:spPr>
          <a:xfrm>
            <a:off x="3111120" y="46656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250920" y="1916280"/>
            <a:ext cx="2448000" cy="27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203640" y="1773360"/>
            <a:ext cx="244800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6084720" y="1844640"/>
            <a:ext cx="2448000" cy="273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82692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190800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74072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665964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2"/>
          <p:cNvSpPr/>
          <p:nvPr/>
        </p:nvSpPr>
        <p:spPr>
          <a:xfrm>
            <a:off x="4788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3"/>
          <p:cNvSpPr/>
          <p:nvPr/>
        </p:nvSpPr>
        <p:spPr>
          <a:xfrm>
            <a:off x="3780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4"/>
          <p:cNvSpPr/>
          <p:nvPr/>
        </p:nvSpPr>
        <p:spPr>
          <a:xfrm rot="16200000">
            <a:off x="1223280" y="3248640"/>
            <a:ext cx="576000" cy="136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 rot="5400000">
            <a:off x="7055280" y="3177360"/>
            <a:ext cx="57636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3924360" y="3716280"/>
            <a:ext cx="1152360" cy="289080"/>
          </a:xfrm>
          <a:prstGeom prst="rect">
            <a:avLst/>
          </a:pr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е сайты карти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pt4web.ru/biologija/fotosintez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ipslife.ru/41074-dlya-chego-nuzhny-problemy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26560" y="549360"/>
            <a:ext cx="813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 насеко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ого клеточн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дыхание при помощи жаб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дышит жабр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 позвоночные живот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50920" y="1147680"/>
            <a:ext cx="40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ние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286000" y="3108240"/>
            <a:ext cx="56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дышу, а значит, я живу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С. Выс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1052640"/>
          <a:ext cx="822960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0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1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4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34574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64000" y="259920"/>
            <a:ext cx="5400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pristly24.jpg"/>
          <p:cNvPicPr/>
          <p:nvPr/>
        </p:nvPicPr>
        <p:blipFill>
          <a:blip r:embed="rId1"/>
          <a:stretch/>
        </p:blipFill>
        <p:spPr>
          <a:xfrm>
            <a:off x="250920" y="69228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1\Desktop\1290128914_image001.jpg"/>
          <p:cNvPicPr/>
          <p:nvPr/>
        </p:nvPicPr>
        <p:blipFill>
          <a:blip r:embed="rId2"/>
          <a:srcRect l="0" t="0" r="0" b="49963"/>
          <a:stretch/>
        </p:blipFill>
        <p:spPr>
          <a:xfrm>
            <a:off x="4284720" y="2060640"/>
            <a:ext cx="435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погиб мышоно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пытах Прист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нам нужно сделать, чтобы решить эту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знать, что так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нужно для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образуется в процессе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что вызвало гибель мышо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1\Desktop\1290128914_image001.jpg"/>
          <p:cNvPicPr/>
          <p:nvPr/>
        </p:nvPicPr>
        <p:blipFill>
          <a:blip r:embed="rId1"/>
          <a:stretch/>
        </p:blipFill>
        <p:spPr>
          <a:xfrm>
            <a:off x="4500720" y="765000"/>
            <a:ext cx="3895560" cy="5329440"/>
          </a:xfrm>
          <a:prstGeom prst="rect">
            <a:avLst/>
          </a:prstGeom>
          <a:ln w="0">
            <a:noFill/>
          </a:ln>
        </p:spPr>
      </p:pic>
      <p:sp>
        <p:nvSpPr>
          <p:cNvPr id="60" name="Текст 4"/>
          <p:cNvSpPr/>
          <p:nvPr/>
        </p:nvSpPr>
        <p:spPr>
          <a:xfrm>
            <a:off x="250920" y="260280"/>
            <a:ext cx="540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1\Desktop\pristly24.jpg"/>
          <p:cNvPicPr/>
          <p:nvPr/>
        </p:nvPicPr>
        <p:blipFill>
          <a:blip r:embed="rId2"/>
          <a:stretch/>
        </p:blipFill>
        <p:spPr>
          <a:xfrm>
            <a:off x="468360" y="119700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62" name="Текст 2"/>
          <p:cNvSpPr/>
          <p:nvPr/>
        </p:nvSpPr>
        <p:spPr>
          <a:xfrm>
            <a:off x="395280" y="5300640"/>
            <a:ext cx="345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41120"/>
          <a:ext cx="8229600" cy="6616800"/>
        </p:xfrm>
        <a:graphic>
          <a:graphicData uri="http://schemas.openxmlformats.org/drawingml/2006/table">
            <a:tbl>
              <a:tblPr/>
              <a:tblGrid>
                <a:gridCol w="2665440"/>
                <a:gridCol w="282096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ы проце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клетках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поглощае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выделяет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е время суток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 органическими веществам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е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92"/>
          <p:cNvSpPr/>
          <p:nvPr/>
        </p:nvSpPr>
        <p:spPr>
          <a:xfrm>
            <a:off x="2918160" y="907920"/>
            <a:ext cx="2373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а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опла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3"/>
          <p:cNvSpPr/>
          <p:nvPr/>
        </p:nvSpPr>
        <p:spPr>
          <a:xfrm>
            <a:off x="5941080" y="9810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сех жи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4"/>
          <p:cNvSpPr/>
          <p:nvPr/>
        </p:nvSpPr>
        <p:spPr>
          <a:xfrm>
            <a:off x="3203280" y="184464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5"/>
          <p:cNvSpPr/>
          <p:nvPr/>
        </p:nvSpPr>
        <p:spPr>
          <a:xfrm>
            <a:off x="6011640" y="270828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6"/>
          <p:cNvSpPr/>
          <p:nvPr/>
        </p:nvSpPr>
        <p:spPr>
          <a:xfrm>
            <a:off x="6085800" y="1916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7"/>
          <p:cNvSpPr/>
          <p:nvPr/>
        </p:nvSpPr>
        <p:spPr>
          <a:xfrm>
            <a:off x="3349080" y="28526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3494160" y="3860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9"/>
          <p:cNvSpPr/>
          <p:nvPr/>
        </p:nvSpPr>
        <p:spPr>
          <a:xfrm>
            <a:off x="6014520" y="38606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су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0"/>
          <p:cNvSpPr/>
          <p:nvPr/>
        </p:nvSpPr>
        <p:spPr>
          <a:xfrm>
            <a:off x="3277080" y="50846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1"/>
          <p:cNvSpPr/>
          <p:nvPr/>
        </p:nvSpPr>
        <p:spPr>
          <a:xfrm>
            <a:off x="5942520" y="50133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д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2"/>
          <p:cNvSpPr/>
          <p:nvPr/>
        </p:nvSpPr>
        <p:spPr>
          <a:xfrm>
            <a:off x="3206160" y="602136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3"/>
          <p:cNvSpPr/>
          <p:nvPr/>
        </p:nvSpPr>
        <p:spPr>
          <a:xfrm>
            <a:off x="6229440" y="60199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и у растений специальные органы для дых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7280" y="2637000"/>
            <a:ext cx="49068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учебником: стр.108 пункт «Дыхание растений» 1 абзац и рис 5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8:21:40Z</dcterms:created>
  <dc:creator>User</dc:creator>
  <dc:description/>
  <dc:language>en-US</dc:language>
  <cp:lastModifiedBy>1</cp:lastModifiedBy>
  <dcterms:modified xsi:type="dcterms:W3CDTF">2014-10-23T17:52:40Z</dcterms:modified>
  <cp:revision>2</cp:revision>
  <dc:subject/>
  <dc:title>Слайд 1</dc:title>
</cp:coreProperties>
</file>