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799-CC77-4A37-B386-55154622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9CB-5311-43BE-9D5F-952616E4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071-51ED-4767-87C4-BF07A851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C9E-AA3E-4266-85D0-82E4C1F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A23-13B1-4127-A6E6-999A5823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7AD-3C2B-4D20-AB6C-A98E5054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B0C-84E2-418C-944B-F592EC9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08D-A643-4072-8874-86FB9BC0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F2E-E6DC-4FA1-8AFF-A2E981EA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0FB-0546-416B-A7CB-5B55568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A8F-0B6A-4FBA-A15D-4EF30A7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06E-D016-4D9F-BC91-DA73380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193-A768-4E7C-84AD-20FE1FBA9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en-US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75280" y="1652760"/>
            <a:ext cx="1112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2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69840" cy="6984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2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2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2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2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2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2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3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2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2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2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2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2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2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2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2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2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2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2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user</cp:lastModifiedBy>
  <dcterms:modified xsi:type="dcterms:W3CDTF">2014-05-07T19:09:38Z</dcterms:modified>
  <cp:revision>27</cp:revision>
  <dc:subject/>
  <dc:title>Слайд 1</dc:title>
</cp:coreProperties>
</file>