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799-FBDA-4283-AE43-49DF3BA9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711-D085-49EF-A3DD-43D4071D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B79-B6A7-469D-8BAB-BD06FB4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881-EAD0-4FFB-8FB5-91705F79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C78E-A940-4136-B3FD-67F89222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706-2ACD-4876-96CA-E41D37D1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827-BD6E-40F2-800C-D26B94E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B82-F9BE-462A-9CBB-C60C44A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C3C-11EC-4804-B243-EE11A2B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37C-BB01-4CB9-9DD3-1ECA2B9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269-C8A0-405D-A611-5C9C878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34E-3867-47B3-A830-0C037DF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7A2-38A6-44E0-A696-143B2FD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6726-27D3-4D47-996E-45FB976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674-5739-4B01-BEB9-D40F0D0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0183-C664-44FE-A6D9-11E0B8AC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53C-46C3-435F-A732-E5165A21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2A6-2CBF-4F1C-8A3D-D0CB7DF4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1D9-E3A0-4A4A-BFFC-A1647AC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90A-BFF1-4953-8C81-30A188A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BAB-C9DF-406A-9B96-710D569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DAF-2BD3-4A98-9289-DD97355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3BC-74A6-4A6E-B0AC-E0624D4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736-BBB1-4A02-8572-8FA22B0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08F-12C1-4FEE-A6D6-CC06998319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4D27-AD47-44A7-8135-F2B36C2A89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files.school-collection.edu.ru/dlrstore/4a505938-80a9-4b76-a37a-9432b214a7d5/9_86b.swf" TargetMode="Externa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266c936d-5ea9-4634-954d-8e07b7fd080b/9_129c.swf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apzles.com/e505efb3-5560-4c2a-b9e0-fdc9ac5177fc" TargetMode="External"/><Relationship Id="rId2" Type="http://schemas.openxmlformats.org/officeDocument/2006/relationships/hyperlink" Target="http://files.school-collection.edu.ru/dlrstore/8e44df72-e540-48fb-855f-47fedb5fc7f4/9_140.swf" TargetMode="Externa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5terka.com/" TargetMode="External"/><Relationship Id="rId4" Type="http://schemas.openxmlformats.org/officeDocument/2006/relationships/hyperlink" Target="http://images.yandex.ru/?lr=197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7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%C8%ED%F2%E5%F0%F4%E5%F0%E5%ED%F6%E8%FF" TargetMode="External"/><Relationship Id="rId4" Type="http://schemas.openxmlformats.org/officeDocument/2006/relationships/hyperlink" Target="http://www.capzles.com/0cae222c-dc70-457e-8225-62d7a83099f3" TargetMode="External"/><Relationship Id="rId5" Type="http://schemas.openxmlformats.org/officeDocument/2006/relationships/hyperlink" Target="http://www.capzles.com/dc551727-9e93-4aac-af88-ed88d62c6e5f" TargetMode="Externa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села Верхние Белозе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активный учебный курс по изучению темы «Опт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:   Инкина Наталья Виталь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ьятти, 2014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фрак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ибание волнами препятствий, размеры которых сравнимы с длиной вол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Картинка 66 из 2014"/>
          <p:cNvPicPr/>
          <p:nvPr/>
        </p:nvPicPr>
        <p:blipFill>
          <a:blip r:embed="rId1"/>
          <a:stretch/>
        </p:blipFill>
        <p:spPr>
          <a:xfrm>
            <a:off x="3200400" y="3429000"/>
            <a:ext cx="3505320" cy="241776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яриз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характеристика оптического излучения, описывающая поперечную анизотропию световых вол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2943360" cy="53913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0100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876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а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новение вторичных световых волн, распространяющихся от границы раздела двух сред "обратно" в первую среду, из которой первоначально падал св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9064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43000" y="6095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2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оское зерка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ркало - гладкая поверхность, предназначенная для отражения света (или другого излучения). Наиболее известный пример —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оск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ерка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 Археологи обнаружили первые небольшие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ерк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из серебра, меди или бронзы, относящиеся к бронзовому ве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строение изображений в плоском зеркал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черте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ломл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направления светового по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78168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н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Демонст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Виды лин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2" name=""/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3802"/>
                </a:solidFill>
                <a:latin typeface="Arial Black"/>
              </a:rPr>
              <a:t>Нормы освещен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3802"/>
                </a:solidFill>
                <a:latin typeface="Arial"/>
              </a:rPr>
              <a:t>Цель работ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казать, что использование мультимедиа технологии на уроках физики при изучении темы «Оптика» в 11 классе позволяют повышать   интерес к  изучению предмета, расширяют возможности демонстрации опытов через использование виртуальных образов, повышает интерес к обу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3802"/>
                </a:solidFill>
                <a:latin typeface="Arial"/>
              </a:rPr>
              <a:t>Задачи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ить возможность и состав учебного эксперимента, благодаря использованию компьютерных моделей тех процессов и явлений, эксперименты с которыми в школьных условиях учебных лабораторий были бы невозмож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ить источники получения знаний в процессе обучения путем использования информационно – справочных сис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2"/>
              </a:rPr>
              <a:t>ru.wikipedia.org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 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3"/>
              </a:rPr>
              <a:t>5terka.com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 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4"/>
              </a:rPr>
              <a:t>images.yandex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Оп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080" y="1600200"/>
            <a:ext cx="5257800" cy="609480"/>
          </a:xfrm>
          <a:custGeom>
            <a:avLst/>
            <a:gdLst>
              <a:gd name="textAreaLeft" fmla="*/ 39240 w 5257800"/>
              <a:gd name="textAreaRight" fmla="*/ 5218560 w 5257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6239" h="21600">
                <a:moveTo>
                  <a:pt x="0" y="0"/>
                </a:moveTo>
                <a:lnTo>
                  <a:pt x="186239" y="0"/>
                </a:lnTo>
                <a:lnTo>
                  <a:pt x="186239" y="21600"/>
                </a:lnTo>
                <a:lnTo>
                  <a:pt x="0" y="21600"/>
                </a:lnTo>
                <a:close/>
              </a:path>
              <a:path fill="lightenLess" w="186239" h="21600">
                <a:moveTo>
                  <a:pt x="0" y="0"/>
                </a:moveTo>
                <a:lnTo>
                  <a:pt x="186239" y="0"/>
                </a:lnTo>
                <a:lnTo>
                  <a:pt x="184839" y="1400"/>
                </a:lnTo>
                <a:lnTo>
                  <a:pt x="1400" y="1400"/>
                </a:lnTo>
                <a:close/>
              </a:path>
              <a:path fill="darken" w="186239" h="21600">
                <a:moveTo>
                  <a:pt x="186239" y="0"/>
                </a:moveTo>
                <a:lnTo>
                  <a:pt x="186239" y="21600"/>
                </a:lnTo>
                <a:lnTo>
                  <a:pt x="184839" y="20200"/>
                </a:lnTo>
                <a:lnTo>
                  <a:pt x="184839" y="1400"/>
                </a:lnTo>
                <a:close/>
              </a:path>
              <a:path fill="darkenLess" w="186239" h="21600">
                <a:moveTo>
                  <a:pt x="186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39" y="20200"/>
                </a:lnTo>
                <a:close/>
              </a:path>
              <a:path fill="lighten" w="186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Оп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38080" y="2438280"/>
            <a:ext cx="5334120" cy="685800"/>
          </a:xfrm>
          <a:custGeom>
            <a:avLst/>
            <a:gdLst>
              <a:gd name="textAreaLeft" fmla="*/ 44280 w 5334120"/>
              <a:gd name="textAreaRight" fmla="*/ 5289840 w 5334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7927" h="21600">
                <a:moveTo>
                  <a:pt x="0" y="0"/>
                </a:moveTo>
                <a:lnTo>
                  <a:pt x="167927" y="0"/>
                </a:lnTo>
                <a:lnTo>
                  <a:pt x="167927" y="21600"/>
                </a:lnTo>
                <a:lnTo>
                  <a:pt x="0" y="21600"/>
                </a:lnTo>
                <a:close/>
              </a:path>
              <a:path fill="lightenLess" w="167927" h="21600">
                <a:moveTo>
                  <a:pt x="0" y="0"/>
                </a:moveTo>
                <a:lnTo>
                  <a:pt x="167927" y="0"/>
                </a:lnTo>
                <a:lnTo>
                  <a:pt x="166527" y="1400"/>
                </a:lnTo>
                <a:lnTo>
                  <a:pt x="1400" y="1400"/>
                </a:lnTo>
                <a:close/>
              </a:path>
              <a:path fill="darken" w="167927" h="21600">
                <a:moveTo>
                  <a:pt x="167927" y="0"/>
                </a:moveTo>
                <a:lnTo>
                  <a:pt x="167927" y="21600"/>
                </a:lnTo>
                <a:lnTo>
                  <a:pt x="166527" y="20200"/>
                </a:lnTo>
                <a:lnTo>
                  <a:pt x="166527" y="1400"/>
                </a:lnTo>
                <a:close/>
              </a:path>
              <a:path fill="darkenLess" w="167927" h="21600">
                <a:moveTo>
                  <a:pt x="1679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527" y="20200"/>
                </a:lnTo>
                <a:close/>
              </a:path>
              <a:path fill="lighten" w="1679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пособы передачи воздейств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38080" y="3352680"/>
            <a:ext cx="3353040" cy="609840"/>
          </a:xfrm>
          <a:custGeom>
            <a:avLst/>
            <a:gdLst>
              <a:gd name="textAreaLeft" fmla="*/ 39240 w 3353040"/>
              <a:gd name="textAreaRight" fmla="*/ 3313800 w 3353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8704" h="21600">
                <a:moveTo>
                  <a:pt x="0" y="0"/>
                </a:moveTo>
                <a:lnTo>
                  <a:pt x="118704" y="0"/>
                </a:lnTo>
                <a:lnTo>
                  <a:pt x="118704" y="21600"/>
                </a:lnTo>
                <a:lnTo>
                  <a:pt x="0" y="21600"/>
                </a:lnTo>
                <a:close/>
              </a:path>
              <a:path fill="lightenLess" w="118704" h="21600">
                <a:moveTo>
                  <a:pt x="0" y="0"/>
                </a:moveTo>
                <a:lnTo>
                  <a:pt x="118704" y="0"/>
                </a:lnTo>
                <a:lnTo>
                  <a:pt x="117304" y="1400"/>
                </a:lnTo>
                <a:lnTo>
                  <a:pt x="1400" y="1400"/>
                </a:lnTo>
                <a:close/>
              </a:path>
              <a:path fill="darken" w="118704" h="21600">
                <a:moveTo>
                  <a:pt x="118704" y="0"/>
                </a:moveTo>
                <a:lnTo>
                  <a:pt x="118704" y="21600"/>
                </a:lnTo>
                <a:lnTo>
                  <a:pt x="117304" y="20200"/>
                </a:lnTo>
                <a:lnTo>
                  <a:pt x="117304" y="1400"/>
                </a:lnTo>
                <a:close/>
              </a:path>
              <a:path fill="darkenLess" w="118704" h="21600">
                <a:moveTo>
                  <a:pt x="118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04" y="20200"/>
                </a:lnTo>
                <a:close/>
              </a:path>
              <a:path fill="lighten" w="118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Теории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914400" y="4952880"/>
            <a:ext cx="3276720" cy="762120"/>
          </a:xfrm>
          <a:custGeom>
            <a:avLst/>
            <a:gdLst>
              <a:gd name="textAreaLeft" fmla="*/ 49320 w 3276720"/>
              <a:gd name="textAreaRight" fmla="*/ 3227400 w 3276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92835" h="21600">
                <a:moveTo>
                  <a:pt x="0" y="0"/>
                </a:moveTo>
                <a:lnTo>
                  <a:pt x="92835" y="0"/>
                </a:lnTo>
                <a:lnTo>
                  <a:pt x="92835" y="21600"/>
                </a:lnTo>
                <a:lnTo>
                  <a:pt x="0" y="21600"/>
                </a:lnTo>
                <a:close/>
              </a:path>
              <a:path fill="lightenLess" w="92835" h="21600">
                <a:moveTo>
                  <a:pt x="0" y="0"/>
                </a:moveTo>
                <a:lnTo>
                  <a:pt x="92835" y="0"/>
                </a:lnTo>
                <a:lnTo>
                  <a:pt x="91435" y="1400"/>
                </a:lnTo>
                <a:lnTo>
                  <a:pt x="1400" y="1400"/>
                </a:lnTo>
                <a:close/>
              </a:path>
              <a:path fill="darken" w="92835" h="21600">
                <a:moveTo>
                  <a:pt x="92835" y="0"/>
                </a:moveTo>
                <a:lnTo>
                  <a:pt x="92835" y="21600"/>
                </a:lnTo>
                <a:lnTo>
                  <a:pt x="91435" y="20200"/>
                </a:lnTo>
                <a:lnTo>
                  <a:pt x="91435" y="1400"/>
                </a:lnTo>
                <a:close/>
              </a:path>
              <a:path fill="darkenLess" w="92835" h="21600">
                <a:moveTo>
                  <a:pt x="92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35" y="20200"/>
                </a:lnTo>
                <a:close/>
              </a:path>
              <a:path fill="lighten" w="92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ветовой пуч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838080" y="4114800"/>
            <a:ext cx="3353040" cy="685800"/>
          </a:xfrm>
          <a:custGeom>
            <a:avLst/>
            <a:gdLst>
              <a:gd name="textAreaLeft" fmla="*/ 44280 w 3353040"/>
              <a:gd name="textAreaRight" fmla="*/ 3308760 w 3353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5563" h="21600">
                <a:moveTo>
                  <a:pt x="0" y="0"/>
                </a:moveTo>
                <a:lnTo>
                  <a:pt x="105563" y="0"/>
                </a:lnTo>
                <a:lnTo>
                  <a:pt x="105563" y="21600"/>
                </a:lnTo>
                <a:lnTo>
                  <a:pt x="0" y="21600"/>
                </a:lnTo>
                <a:close/>
              </a:path>
              <a:path fill="lightenLess" w="105563" h="21600">
                <a:moveTo>
                  <a:pt x="0" y="0"/>
                </a:moveTo>
                <a:lnTo>
                  <a:pt x="105563" y="0"/>
                </a:lnTo>
                <a:lnTo>
                  <a:pt x="104164" y="1400"/>
                </a:lnTo>
                <a:lnTo>
                  <a:pt x="1400" y="1400"/>
                </a:lnTo>
                <a:close/>
              </a:path>
              <a:path fill="darken" w="105563" h="21600">
                <a:moveTo>
                  <a:pt x="105563" y="0"/>
                </a:moveTo>
                <a:lnTo>
                  <a:pt x="105563" y="21600"/>
                </a:lnTo>
                <a:lnTo>
                  <a:pt x="104164" y="20200"/>
                </a:lnTo>
                <a:lnTo>
                  <a:pt x="104164" y="1400"/>
                </a:lnTo>
                <a:close/>
              </a:path>
              <a:path fill="darkenLess" w="105563" h="21600">
                <a:moveTo>
                  <a:pt x="105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164" y="20200"/>
                </a:lnTo>
                <a:close/>
              </a:path>
              <a:path fill="lighten" w="105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войства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4800600" y="3276720"/>
            <a:ext cx="3581280" cy="761760"/>
          </a:xfrm>
          <a:custGeom>
            <a:avLst/>
            <a:gdLst>
              <a:gd name="textAreaLeft" fmla="*/ 49320 w 3581280"/>
              <a:gd name="textAreaRight" fmla="*/ 3531960 w 3581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01511" h="21600">
                <a:moveTo>
                  <a:pt x="0" y="0"/>
                </a:moveTo>
                <a:lnTo>
                  <a:pt x="101511" y="0"/>
                </a:lnTo>
                <a:lnTo>
                  <a:pt x="101511" y="21600"/>
                </a:lnTo>
                <a:lnTo>
                  <a:pt x="0" y="21600"/>
                </a:lnTo>
                <a:close/>
              </a:path>
              <a:path fill="lightenLess" w="101511" h="21600">
                <a:moveTo>
                  <a:pt x="0" y="0"/>
                </a:moveTo>
                <a:lnTo>
                  <a:pt x="101511" y="0"/>
                </a:lnTo>
                <a:lnTo>
                  <a:pt x="100111" y="1400"/>
                </a:lnTo>
                <a:lnTo>
                  <a:pt x="1400" y="1400"/>
                </a:lnTo>
                <a:close/>
              </a:path>
              <a:path fill="darken" w="101511" h="21600">
                <a:moveTo>
                  <a:pt x="101511" y="0"/>
                </a:moveTo>
                <a:lnTo>
                  <a:pt x="101511" y="21600"/>
                </a:lnTo>
                <a:lnTo>
                  <a:pt x="100111" y="20200"/>
                </a:lnTo>
                <a:lnTo>
                  <a:pt x="100111" y="1400"/>
                </a:lnTo>
                <a:close/>
              </a:path>
              <a:path fill="darkenLess" w="101511" h="21600">
                <a:moveTo>
                  <a:pt x="101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111" y="20200"/>
                </a:lnTo>
                <a:close/>
              </a:path>
              <a:path fill="lighten" w="101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ила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4876920" y="4267080"/>
            <a:ext cx="3504960" cy="838440"/>
          </a:xfrm>
          <a:custGeom>
            <a:avLst/>
            <a:gdLst>
              <a:gd name="textAreaLeft" fmla="*/ 54360 w 3504960"/>
              <a:gd name="textAreaRight" fmla="*/ 3450600 w 3504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90266" h="21600">
                <a:moveTo>
                  <a:pt x="0" y="0"/>
                </a:moveTo>
                <a:lnTo>
                  <a:pt x="90266" y="0"/>
                </a:lnTo>
                <a:lnTo>
                  <a:pt x="90266" y="21600"/>
                </a:lnTo>
                <a:lnTo>
                  <a:pt x="0" y="21600"/>
                </a:lnTo>
                <a:close/>
              </a:path>
              <a:path fill="lightenLess" w="90266" h="21600">
                <a:moveTo>
                  <a:pt x="0" y="0"/>
                </a:moveTo>
                <a:lnTo>
                  <a:pt x="90266" y="0"/>
                </a:lnTo>
                <a:lnTo>
                  <a:pt x="88866" y="1400"/>
                </a:lnTo>
                <a:lnTo>
                  <a:pt x="1400" y="1400"/>
                </a:lnTo>
                <a:close/>
              </a:path>
              <a:path fill="darken" w="90266" h="21600">
                <a:moveTo>
                  <a:pt x="90266" y="0"/>
                </a:moveTo>
                <a:lnTo>
                  <a:pt x="90266" y="21600"/>
                </a:lnTo>
                <a:lnTo>
                  <a:pt x="88866" y="20200"/>
                </a:lnTo>
                <a:lnTo>
                  <a:pt x="88866" y="1400"/>
                </a:lnTo>
                <a:close/>
              </a:path>
              <a:path fill="darkenLess" w="90266" h="21600">
                <a:moveTo>
                  <a:pt x="9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66" y="20200"/>
                </a:lnTo>
                <a:close/>
              </a:path>
              <a:path fill="lighten" w="9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ормы освещ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144720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05320" y="457200"/>
            <a:ext cx="25905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Оп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276720"/>
            <a:ext cx="441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Геометр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оп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276720"/>
            <a:ext cx="3048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Волно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оп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71800" y="266688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7432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еометрическая оп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пособы передачи воз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94920"/>
            <a:ext cx="4573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орпускулярная и волновая теории све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 вол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62120" y="1600200"/>
            <a:ext cx="3504960" cy="609480"/>
          </a:xfrm>
          <a:custGeom>
            <a:avLst/>
            <a:gdLst>
              <a:gd name="textAreaLeft" fmla="*/ 39240 w 3504960"/>
              <a:gd name="textAreaRight" fmla="*/ 3465720 w 3504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55" h="21600">
                <a:moveTo>
                  <a:pt x="0" y="0"/>
                </a:moveTo>
                <a:lnTo>
                  <a:pt x="124155" y="0"/>
                </a:lnTo>
                <a:lnTo>
                  <a:pt x="124155" y="21600"/>
                </a:lnTo>
                <a:lnTo>
                  <a:pt x="0" y="21600"/>
                </a:lnTo>
                <a:close/>
              </a:path>
              <a:path fill="lightenLess" w="124155" h="21600">
                <a:moveTo>
                  <a:pt x="0" y="0"/>
                </a:moveTo>
                <a:lnTo>
                  <a:pt x="124155" y="0"/>
                </a:lnTo>
                <a:lnTo>
                  <a:pt x="122755" y="1400"/>
                </a:lnTo>
                <a:lnTo>
                  <a:pt x="1400" y="1400"/>
                </a:lnTo>
                <a:close/>
              </a:path>
              <a:path fill="darken" w="124155" h="21600">
                <a:moveTo>
                  <a:pt x="124155" y="0"/>
                </a:moveTo>
                <a:lnTo>
                  <a:pt x="124155" y="21600"/>
                </a:lnTo>
                <a:lnTo>
                  <a:pt x="122755" y="20200"/>
                </a:lnTo>
                <a:lnTo>
                  <a:pt x="122755" y="1400"/>
                </a:lnTo>
                <a:close/>
              </a:path>
              <a:path fill="darkenLess" w="124155" h="21600">
                <a:moveTo>
                  <a:pt x="124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55" y="20200"/>
                </a:lnTo>
                <a:close/>
              </a:path>
              <a:path fill="lighten" w="124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интерферен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914400" y="2590920"/>
            <a:ext cx="3505320" cy="60948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дифр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914400" y="35812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поляриз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4876920" y="1676520"/>
            <a:ext cx="3504960" cy="609480"/>
          </a:xfrm>
          <a:custGeom>
            <a:avLst/>
            <a:gdLst>
              <a:gd name="textAreaLeft" fmla="*/ 39240 w 3504960"/>
              <a:gd name="textAreaRight" fmla="*/ 3465720 w 3504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55" h="21600">
                <a:moveTo>
                  <a:pt x="0" y="0"/>
                </a:moveTo>
                <a:lnTo>
                  <a:pt x="124155" y="0"/>
                </a:lnTo>
                <a:lnTo>
                  <a:pt x="124155" y="21600"/>
                </a:lnTo>
                <a:lnTo>
                  <a:pt x="0" y="21600"/>
                </a:lnTo>
                <a:close/>
              </a:path>
              <a:path fill="lightenLess" w="124155" h="21600">
                <a:moveTo>
                  <a:pt x="0" y="0"/>
                </a:moveTo>
                <a:lnTo>
                  <a:pt x="124155" y="0"/>
                </a:lnTo>
                <a:lnTo>
                  <a:pt x="122755" y="1400"/>
                </a:lnTo>
                <a:lnTo>
                  <a:pt x="1400" y="1400"/>
                </a:lnTo>
                <a:close/>
              </a:path>
              <a:path fill="darken" w="124155" h="21600">
                <a:moveTo>
                  <a:pt x="124155" y="0"/>
                </a:moveTo>
                <a:lnTo>
                  <a:pt x="124155" y="21600"/>
                </a:lnTo>
                <a:lnTo>
                  <a:pt x="122755" y="20200"/>
                </a:lnTo>
                <a:lnTo>
                  <a:pt x="122755" y="1400"/>
                </a:lnTo>
                <a:close/>
              </a:path>
              <a:path fill="darkenLess" w="124155" h="21600">
                <a:moveTo>
                  <a:pt x="124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55" y="20200"/>
                </a:lnTo>
                <a:close/>
              </a:path>
              <a:path fill="lighten" w="124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прелом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4800600" y="26668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отра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ерферен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ое явление, наблюдающееся при наложении нескольких волновых проце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4343400" y="2895480"/>
            <a:ext cx="4191120" cy="2513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подроб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6172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410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4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5"/>
              </a:rPr>
              <a:t>Проверь себ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2T07:59:2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