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B10-4418-4D81-AC20-9458B5B0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C1E-22CE-4C89-B6C7-B77D4426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124-B0E6-44B2-8AB3-46B23719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13A-C3BB-4F94-9DC7-936AAC64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5A01-3B58-4751-BFBF-7CC2D7DD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0C73-C143-4DBD-B7BB-2CC1CA22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588F-A6A3-47BF-A542-CEFC0A42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2A55-8DD0-4771-80B1-54A89328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F319-3BB2-48C7-B9CE-EC5D521E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524C-91D1-4E47-B5AB-6E647F36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9C26-4027-4C59-835D-B114B4C9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1D3-35C2-457D-A2D7-837665A4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3F93-CB06-412A-838D-2F66A9F6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67E4-3A73-4774-9788-73E69A42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B0D1-E313-42CC-A099-AB53FB8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E5C0-4BAC-4396-8728-DD0E480F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F631-3318-4F7D-B4D8-0A83F912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2DE-AAC4-4728-9617-1D0971E5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7C4-BCCB-4769-836D-C8DE3889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B98-7E8C-4AE4-B25D-FEE7ADB7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62D-65ED-4563-9CF0-3E3E5FB5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F1A-A07F-404A-937D-9FBC7F04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5EC-E255-4D85-A7DF-A3180AD0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1B1-8D85-4BDA-8CD6-CBC4E899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5E6B-4FDD-4140-94FC-F518C55944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9C64-7264-4CEE-A39F-2D158BF198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files.school-collection.edu.ru/dlrstore/4a505938-80a9-4b76-a37a-9432b214a7d5/9_86b.swf" TargetMode="Externa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266c936d-5ea9-4634-954d-8e07b7fd080b/9_129c.swf" TargetMode="Externa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apzles.com/e505efb3-5560-4c2a-b9e0-fdc9ac5177fc" TargetMode="External"/><Relationship Id="rId2" Type="http://schemas.openxmlformats.org/officeDocument/2006/relationships/hyperlink" Target="http://files.school-collection.edu.ru/dlrstore/8e44df72-e540-48fb-855f-47fedb5fc7f4/9_140.swf" TargetMode="Externa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5terka.com/" TargetMode="External"/><Relationship Id="rId4" Type="http://schemas.openxmlformats.org/officeDocument/2006/relationships/hyperlink" Target="http://images.yandex.ru/?lr=197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17.xml"/><Relationship Id="rId5" Type="http://schemas.openxmlformats.org/officeDocument/2006/relationships/slide" Target="slide8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5.xml"/><Relationship Id="rId5" Type="http://schemas.openxmlformats.org/officeDocument/2006/relationships/slide" Target="slide12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%C8%ED%F2%E5%F0%F4%E5%F0%E5%ED%F6%E8%FF" TargetMode="External"/><Relationship Id="rId4" Type="http://schemas.openxmlformats.org/officeDocument/2006/relationships/hyperlink" Target="http://www.capzles.com/0cae222c-dc70-457e-8225-62d7a83099f3" TargetMode="External"/><Relationship Id="rId5" Type="http://schemas.openxmlformats.org/officeDocument/2006/relationships/hyperlink" Target="http://www.capzles.com/dc551727-9e93-4aac-af88-ed88d62c6e5f" TargetMode="Externa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3883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села Верхние Белозе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рактивный учебный курс по изучению темы «Опти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ил:   Инкина Наталья Витальев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льятти, 2014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фрак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ибание волнами препятствий, размеры которых сравнимы с длиной вол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Картинка 66 из 2014"/>
          <p:cNvPicPr/>
          <p:nvPr/>
        </p:nvPicPr>
        <p:blipFill>
          <a:blip r:embed="rId1"/>
          <a:stretch/>
        </p:blipFill>
        <p:spPr>
          <a:xfrm>
            <a:off x="3200400" y="3429000"/>
            <a:ext cx="3505320" cy="241776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ляриза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ая характеристика оптического излучения, описывающая поперечную анизотропию световых вол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2943360" cy="539136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0100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10805" y="3837"/>
                </a:moveTo>
                <a:lnTo>
                  <a:pt x="13381" y="6448"/>
                </a:ln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4" y="10800"/>
                </a:lnTo>
                <a:lnTo>
                  <a:pt x="16114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0" h="21600">
                <a:moveTo>
                  <a:pt x="13381" y="6448"/>
                </a:move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0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4" y="17989"/>
                </a:lnTo>
                <a:lnTo>
                  <a:pt x="16114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876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раж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никновение вторичных световых волн, распространяющихся от границы раздела двух сред "обратно" в первую среду, из которой первоначально падал св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590640" cy="388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43000" y="6095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2"/>
              </a:rPr>
              <a:t>демонст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оское зерка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ркало - гладкая поверхность, предназначенная для отражения света (или другого излучения). Наиболее известный пример —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оско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еркал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 Археологи обнаружили первые небольшие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еркал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из серебра, меди или бронзы, относящиеся к бронзовому ве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строение изображений в плоском зеркал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черте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10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еломл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направления светового пот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781680" cy="23050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инз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Демонстр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Виды лин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0773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2" name=""/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3802"/>
                </a:solidFill>
                <a:latin typeface="Arial Black"/>
              </a:rPr>
              <a:t>Нормы освещен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3802"/>
                </a:solidFill>
                <a:latin typeface="Arial"/>
              </a:rPr>
              <a:t>Цель работы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оказать, что использование мультимедиа технологии на уроках физики при изучении темы «Оптика» в 11 классе позволяют повышать   интерес к  изучению предмета, расширяют возможности демонстрации опытов через использование виртуальных образов, повышает интерес к обуч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3802"/>
                </a:solidFill>
                <a:latin typeface="Arial"/>
              </a:rPr>
              <a:t>Задачи рабо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величить возможность и состав учебного эксперимента, благодаря использованию компьютерных моделей тех процессов и явлений, эксперименты с которыми в школьных условиях учебных лабораторий были бы невозмож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ширить источники получения знаний в процессе обучения путем использования информационно – справочных сист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Rockwell"/>
                <a:hlinkClick r:id="rId2"/>
              </a:rPr>
              <a:t>ru.wikipedia.org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 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Rockwell"/>
                <a:hlinkClick r:id="rId3"/>
              </a:rPr>
              <a:t>5terka.com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 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Rockwell"/>
                <a:hlinkClick r:id="rId4"/>
              </a:rPr>
              <a:t>images.yandex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›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00200"/>
            <a:ext cx="2133360" cy="533520"/>
          </a:xfrm>
          <a:custGeom>
            <a:avLst/>
            <a:gdLst>
              <a:gd name="textAreaLeft" fmla="*/ 34560 w 2133360"/>
              <a:gd name="textAreaRight" fmla="*/ 2098800 w 2133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27" h="21600">
                <a:moveTo>
                  <a:pt x="0" y="0"/>
                </a:moveTo>
                <a:lnTo>
                  <a:pt x="86327" y="0"/>
                </a:lnTo>
                <a:lnTo>
                  <a:pt x="86327" y="21600"/>
                </a:lnTo>
                <a:lnTo>
                  <a:pt x="0" y="21600"/>
                </a:lnTo>
                <a:close/>
              </a:path>
              <a:path fill="lightenLess" w="86327" h="21600">
                <a:moveTo>
                  <a:pt x="0" y="0"/>
                </a:moveTo>
                <a:lnTo>
                  <a:pt x="86327" y="0"/>
                </a:lnTo>
                <a:lnTo>
                  <a:pt x="84927" y="1400"/>
                </a:lnTo>
                <a:lnTo>
                  <a:pt x="1400" y="1400"/>
                </a:lnTo>
                <a:close/>
              </a:path>
              <a:path fill="darken" w="86327" h="21600">
                <a:moveTo>
                  <a:pt x="86327" y="0"/>
                </a:moveTo>
                <a:lnTo>
                  <a:pt x="86327" y="21600"/>
                </a:lnTo>
                <a:lnTo>
                  <a:pt x="84927" y="20200"/>
                </a:lnTo>
                <a:lnTo>
                  <a:pt x="84927" y="1400"/>
                </a:lnTo>
                <a:close/>
              </a:path>
              <a:path fill="darkenLess" w="86327" h="21600">
                <a:moveTo>
                  <a:pt x="86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7" y="20200"/>
                </a:lnTo>
                <a:close/>
              </a:path>
              <a:path fill="lighten" w="86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Опт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38080" y="1600200"/>
            <a:ext cx="5257800" cy="609480"/>
          </a:xfrm>
          <a:custGeom>
            <a:avLst/>
            <a:gdLst>
              <a:gd name="textAreaLeft" fmla="*/ 39240 w 5257800"/>
              <a:gd name="textAreaRight" fmla="*/ 5218560 w 5257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86239" h="21600">
                <a:moveTo>
                  <a:pt x="0" y="0"/>
                </a:moveTo>
                <a:lnTo>
                  <a:pt x="186239" y="0"/>
                </a:lnTo>
                <a:lnTo>
                  <a:pt x="186239" y="21600"/>
                </a:lnTo>
                <a:lnTo>
                  <a:pt x="0" y="21600"/>
                </a:lnTo>
                <a:close/>
              </a:path>
              <a:path fill="lightenLess" w="186239" h="21600">
                <a:moveTo>
                  <a:pt x="0" y="0"/>
                </a:moveTo>
                <a:lnTo>
                  <a:pt x="186239" y="0"/>
                </a:lnTo>
                <a:lnTo>
                  <a:pt x="184839" y="1400"/>
                </a:lnTo>
                <a:lnTo>
                  <a:pt x="1400" y="1400"/>
                </a:lnTo>
                <a:close/>
              </a:path>
              <a:path fill="darken" w="186239" h="21600">
                <a:moveTo>
                  <a:pt x="186239" y="0"/>
                </a:moveTo>
                <a:lnTo>
                  <a:pt x="186239" y="21600"/>
                </a:lnTo>
                <a:lnTo>
                  <a:pt x="184839" y="20200"/>
                </a:lnTo>
                <a:lnTo>
                  <a:pt x="184839" y="1400"/>
                </a:lnTo>
                <a:close/>
              </a:path>
              <a:path fill="darkenLess" w="186239" h="21600">
                <a:moveTo>
                  <a:pt x="186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839" y="20200"/>
                </a:lnTo>
                <a:close/>
              </a:path>
              <a:path fill="lighten" w="186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Опт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838080" y="2438280"/>
            <a:ext cx="5334120" cy="685800"/>
          </a:xfrm>
          <a:custGeom>
            <a:avLst/>
            <a:gdLst>
              <a:gd name="textAreaLeft" fmla="*/ 44280 w 5334120"/>
              <a:gd name="textAreaRight" fmla="*/ 5289840 w 5334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7927" h="21600">
                <a:moveTo>
                  <a:pt x="0" y="0"/>
                </a:moveTo>
                <a:lnTo>
                  <a:pt x="167927" y="0"/>
                </a:lnTo>
                <a:lnTo>
                  <a:pt x="167927" y="21600"/>
                </a:lnTo>
                <a:lnTo>
                  <a:pt x="0" y="21600"/>
                </a:lnTo>
                <a:close/>
              </a:path>
              <a:path fill="lightenLess" w="167927" h="21600">
                <a:moveTo>
                  <a:pt x="0" y="0"/>
                </a:moveTo>
                <a:lnTo>
                  <a:pt x="167927" y="0"/>
                </a:lnTo>
                <a:lnTo>
                  <a:pt x="166527" y="1400"/>
                </a:lnTo>
                <a:lnTo>
                  <a:pt x="1400" y="1400"/>
                </a:lnTo>
                <a:close/>
              </a:path>
              <a:path fill="darken" w="167927" h="21600">
                <a:moveTo>
                  <a:pt x="167927" y="0"/>
                </a:moveTo>
                <a:lnTo>
                  <a:pt x="167927" y="21600"/>
                </a:lnTo>
                <a:lnTo>
                  <a:pt x="166527" y="20200"/>
                </a:lnTo>
                <a:lnTo>
                  <a:pt x="166527" y="1400"/>
                </a:lnTo>
                <a:close/>
              </a:path>
              <a:path fill="darkenLess" w="167927" h="21600">
                <a:moveTo>
                  <a:pt x="1679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527" y="20200"/>
                </a:lnTo>
                <a:close/>
              </a:path>
              <a:path fill="lighten" w="1679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Способы передачи воздейств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38080" y="3352680"/>
            <a:ext cx="3353040" cy="609840"/>
          </a:xfrm>
          <a:custGeom>
            <a:avLst/>
            <a:gdLst>
              <a:gd name="textAreaLeft" fmla="*/ 39240 w 3353040"/>
              <a:gd name="textAreaRight" fmla="*/ 3313800 w 3353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8704" h="21600">
                <a:moveTo>
                  <a:pt x="0" y="0"/>
                </a:moveTo>
                <a:lnTo>
                  <a:pt x="118704" y="0"/>
                </a:lnTo>
                <a:lnTo>
                  <a:pt x="118704" y="21600"/>
                </a:lnTo>
                <a:lnTo>
                  <a:pt x="0" y="21600"/>
                </a:lnTo>
                <a:close/>
              </a:path>
              <a:path fill="lightenLess" w="118704" h="21600">
                <a:moveTo>
                  <a:pt x="0" y="0"/>
                </a:moveTo>
                <a:lnTo>
                  <a:pt x="118704" y="0"/>
                </a:lnTo>
                <a:lnTo>
                  <a:pt x="117304" y="1400"/>
                </a:lnTo>
                <a:lnTo>
                  <a:pt x="1400" y="1400"/>
                </a:lnTo>
                <a:close/>
              </a:path>
              <a:path fill="darken" w="118704" h="21600">
                <a:moveTo>
                  <a:pt x="118704" y="0"/>
                </a:moveTo>
                <a:lnTo>
                  <a:pt x="118704" y="21600"/>
                </a:lnTo>
                <a:lnTo>
                  <a:pt x="117304" y="20200"/>
                </a:lnTo>
                <a:lnTo>
                  <a:pt x="117304" y="1400"/>
                </a:lnTo>
                <a:close/>
              </a:path>
              <a:path fill="darkenLess" w="118704" h="21600">
                <a:moveTo>
                  <a:pt x="118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04" y="20200"/>
                </a:lnTo>
                <a:close/>
              </a:path>
              <a:path fill="lighten" w="118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Теории с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914400" y="4952880"/>
            <a:ext cx="3276720" cy="762120"/>
          </a:xfrm>
          <a:custGeom>
            <a:avLst/>
            <a:gdLst>
              <a:gd name="textAreaLeft" fmla="*/ 49320 w 3276720"/>
              <a:gd name="textAreaRight" fmla="*/ 3227400 w 3276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92835" h="21600">
                <a:moveTo>
                  <a:pt x="0" y="0"/>
                </a:moveTo>
                <a:lnTo>
                  <a:pt x="92835" y="0"/>
                </a:lnTo>
                <a:lnTo>
                  <a:pt x="92835" y="21600"/>
                </a:lnTo>
                <a:lnTo>
                  <a:pt x="0" y="21600"/>
                </a:lnTo>
                <a:close/>
              </a:path>
              <a:path fill="lightenLess" w="92835" h="21600">
                <a:moveTo>
                  <a:pt x="0" y="0"/>
                </a:moveTo>
                <a:lnTo>
                  <a:pt x="92835" y="0"/>
                </a:lnTo>
                <a:lnTo>
                  <a:pt x="91435" y="1400"/>
                </a:lnTo>
                <a:lnTo>
                  <a:pt x="1400" y="1400"/>
                </a:lnTo>
                <a:close/>
              </a:path>
              <a:path fill="darken" w="92835" h="21600">
                <a:moveTo>
                  <a:pt x="92835" y="0"/>
                </a:moveTo>
                <a:lnTo>
                  <a:pt x="92835" y="21600"/>
                </a:lnTo>
                <a:lnTo>
                  <a:pt x="91435" y="20200"/>
                </a:lnTo>
                <a:lnTo>
                  <a:pt x="91435" y="1400"/>
                </a:lnTo>
                <a:close/>
              </a:path>
              <a:path fill="darkenLess" w="92835" h="21600">
                <a:moveTo>
                  <a:pt x="92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435" y="20200"/>
                </a:lnTo>
                <a:close/>
              </a:path>
              <a:path fill="lighten" w="92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Световой пуч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5" action="ppaction://hlinksldjump"/>
          </p:cNvPr>
          <p:cNvSpPr/>
          <p:nvPr/>
        </p:nvSpPr>
        <p:spPr>
          <a:xfrm>
            <a:off x="838080" y="4114800"/>
            <a:ext cx="3353040" cy="685800"/>
          </a:xfrm>
          <a:custGeom>
            <a:avLst/>
            <a:gdLst>
              <a:gd name="textAreaLeft" fmla="*/ 44280 w 3353040"/>
              <a:gd name="textAreaRight" fmla="*/ 3308760 w 3353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5563" h="21600">
                <a:moveTo>
                  <a:pt x="0" y="0"/>
                </a:moveTo>
                <a:lnTo>
                  <a:pt x="105563" y="0"/>
                </a:lnTo>
                <a:lnTo>
                  <a:pt x="105563" y="21600"/>
                </a:lnTo>
                <a:lnTo>
                  <a:pt x="0" y="21600"/>
                </a:lnTo>
                <a:close/>
              </a:path>
              <a:path fill="lightenLess" w="105563" h="21600">
                <a:moveTo>
                  <a:pt x="0" y="0"/>
                </a:moveTo>
                <a:lnTo>
                  <a:pt x="105563" y="0"/>
                </a:lnTo>
                <a:lnTo>
                  <a:pt x="104164" y="1400"/>
                </a:lnTo>
                <a:lnTo>
                  <a:pt x="1400" y="1400"/>
                </a:lnTo>
                <a:close/>
              </a:path>
              <a:path fill="darken" w="105563" h="21600">
                <a:moveTo>
                  <a:pt x="105563" y="0"/>
                </a:moveTo>
                <a:lnTo>
                  <a:pt x="105563" y="21600"/>
                </a:lnTo>
                <a:lnTo>
                  <a:pt x="104164" y="20200"/>
                </a:lnTo>
                <a:lnTo>
                  <a:pt x="104164" y="1400"/>
                </a:lnTo>
                <a:close/>
              </a:path>
              <a:path fill="darkenLess" w="105563" h="21600">
                <a:moveTo>
                  <a:pt x="105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164" y="20200"/>
                </a:lnTo>
                <a:close/>
              </a:path>
              <a:path fill="lighten" w="105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Свойства с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4800600" y="3276720"/>
            <a:ext cx="3581280" cy="761760"/>
          </a:xfrm>
          <a:custGeom>
            <a:avLst/>
            <a:gdLst>
              <a:gd name="textAreaLeft" fmla="*/ 49320 w 3581280"/>
              <a:gd name="textAreaRight" fmla="*/ 3531960 w 3581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01511" h="21600">
                <a:moveTo>
                  <a:pt x="0" y="0"/>
                </a:moveTo>
                <a:lnTo>
                  <a:pt x="101511" y="0"/>
                </a:lnTo>
                <a:lnTo>
                  <a:pt x="101511" y="21600"/>
                </a:lnTo>
                <a:lnTo>
                  <a:pt x="0" y="21600"/>
                </a:lnTo>
                <a:close/>
              </a:path>
              <a:path fill="lightenLess" w="101511" h="21600">
                <a:moveTo>
                  <a:pt x="0" y="0"/>
                </a:moveTo>
                <a:lnTo>
                  <a:pt x="101511" y="0"/>
                </a:lnTo>
                <a:lnTo>
                  <a:pt x="100111" y="1400"/>
                </a:lnTo>
                <a:lnTo>
                  <a:pt x="1400" y="1400"/>
                </a:lnTo>
                <a:close/>
              </a:path>
              <a:path fill="darken" w="101511" h="21600">
                <a:moveTo>
                  <a:pt x="101511" y="0"/>
                </a:moveTo>
                <a:lnTo>
                  <a:pt x="101511" y="21600"/>
                </a:lnTo>
                <a:lnTo>
                  <a:pt x="100111" y="20200"/>
                </a:lnTo>
                <a:lnTo>
                  <a:pt x="100111" y="1400"/>
                </a:lnTo>
                <a:close/>
              </a:path>
              <a:path fill="darkenLess" w="101511" h="21600">
                <a:moveTo>
                  <a:pt x="101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111" y="20200"/>
                </a:lnTo>
                <a:close/>
              </a:path>
              <a:path fill="lighten" w="101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Сила с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7" action="ppaction://hlinksldjump"/>
          </p:cNvPr>
          <p:cNvSpPr/>
          <p:nvPr/>
        </p:nvSpPr>
        <p:spPr>
          <a:xfrm>
            <a:off x="4876920" y="4267080"/>
            <a:ext cx="3504960" cy="838440"/>
          </a:xfrm>
          <a:custGeom>
            <a:avLst/>
            <a:gdLst>
              <a:gd name="textAreaLeft" fmla="*/ 54360 w 3504960"/>
              <a:gd name="textAreaRight" fmla="*/ 3450600 w 3504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90266" h="21600">
                <a:moveTo>
                  <a:pt x="0" y="0"/>
                </a:moveTo>
                <a:lnTo>
                  <a:pt x="90266" y="0"/>
                </a:lnTo>
                <a:lnTo>
                  <a:pt x="90266" y="21600"/>
                </a:lnTo>
                <a:lnTo>
                  <a:pt x="0" y="21600"/>
                </a:lnTo>
                <a:close/>
              </a:path>
              <a:path fill="lightenLess" w="90266" h="21600">
                <a:moveTo>
                  <a:pt x="0" y="0"/>
                </a:moveTo>
                <a:lnTo>
                  <a:pt x="90266" y="0"/>
                </a:lnTo>
                <a:lnTo>
                  <a:pt x="88866" y="1400"/>
                </a:lnTo>
                <a:lnTo>
                  <a:pt x="1400" y="1400"/>
                </a:lnTo>
                <a:close/>
              </a:path>
              <a:path fill="darken" w="90266" h="21600">
                <a:moveTo>
                  <a:pt x="90266" y="0"/>
                </a:moveTo>
                <a:lnTo>
                  <a:pt x="90266" y="21600"/>
                </a:lnTo>
                <a:lnTo>
                  <a:pt x="88866" y="20200"/>
                </a:lnTo>
                <a:lnTo>
                  <a:pt x="88866" y="1400"/>
                </a:lnTo>
                <a:close/>
              </a:path>
              <a:path fill="darkenLess" w="90266" h="21600">
                <a:moveTo>
                  <a:pt x="9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66" y="20200"/>
                </a:lnTo>
                <a:close/>
              </a:path>
              <a:path fill="lighten" w="9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Нормы освещ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04920" y="144720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05320" y="457200"/>
            <a:ext cx="25905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Оп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276720"/>
            <a:ext cx="4419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Геометриче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опт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3276720"/>
            <a:ext cx="3048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Волнов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опт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971800" y="266688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27432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620120" y="56386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Геометрическая опти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Способы передачи воз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620120" y="56386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294920"/>
            <a:ext cx="45734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Корпускулярная и волновая теории све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войства вол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762120" y="1600200"/>
            <a:ext cx="3504960" cy="609480"/>
          </a:xfrm>
          <a:custGeom>
            <a:avLst/>
            <a:gdLst>
              <a:gd name="textAreaLeft" fmla="*/ 39240 w 3504960"/>
              <a:gd name="textAreaRight" fmla="*/ 3465720 w 3504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4155" h="21600">
                <a:moveTo>
                  <a:pt x="0" y="0"/>
                </a:moveTo>
                <a:lnTo>
                  <a:pt x="124155" y="0"/>
                </a:lnTo>
                <a:lnTo>
                  <a:pt x="124155" y="21600"/>
                </a:lnTo>
                <a:lnTo>
                  <a:pt x="0" y="21600"/>
                </a:lnTo>
                <a:close/>
              </a:path>
              <a:path fill="lightenLess" w="124155" h="21600">
                <a:moveTo>
                  <a:pt x="0" y="0"/>
                </a:moveTo>
                <a:lnTo>
                  <a:pt x="124155" y="0"/>
                </a:lnTo>
                <a:lnTo>
                  <a:pt x="122755" y="1400"/>
                </a:lnTo>
                <a:lnTo>
                  <a:pt x="1400" y="1400"/>
                </a:lnTo>
                <a:close/>
              </a:path>
              <a:path fill="darken" w="124155" h="21600">
                <a:moveTo>
                  <a:pt x="124155" y="0"/>
                </a:moveTo>
                <a:lnTo>
                  <a:pt x="124155" y="21600"/>
                </a:lnTo>
                <a:lnTo>
                  <a:pt x="122755" y="20200"/>
                </a:lnTo>
                <a:lnTo>
                  <a:pt x="122755" y="1400"/>
                </a:lnTo>
                <a:close/>
              </a:path>
              <a:path fill="darkenLess" w="124155" h="21600">
                <a:moveTo>
                  <a:pt x="124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55" y="20200"/>
                </a:lnTo>
                <a:close/>
              </a:path>
              <a:path fill="lighten" w="124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интерферен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914400" y="2590920"/>
            <a:ext cx="3505320" cy="609480"/>
          </a:xfrm>
          <a:custGeom>
            <a:avLst/>
            <a:gdLst>
              <a:gd name="textAreaLeft" fmla="*/ 39240 w 3505320"/>
              <a:gd name="textAreaRight" fmla="*/ 3466080 w 3505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4168" h="21600">
                <a:moveTo>
                  <a:pt x="0" y="0"/>
                </a:moveTo>
                <a:lnTo>
                  <a:pt x="124168" y="0"/>
                </a:lnTo>
                <a:lnTo>
                  <a:pt x="124168" y="21600"/>
                </a:lnTo>
                <a:lnTo>
                  <a:pt x="0" y="21600"/>
                </a:lnTo>
                <a:close/>
              </a:path>
              <a:path fill="lightenLess" w="124168" h="21600">
                <a:moveTo>
                  <a:pt x="0" y="0"/>
                </a:moveTo>
                <a:lnTo>
                  <a:pt x="124168" y="0"/>
                </a:lnTo>
                <a:lnTo>
                  <a:pt x="122768" y="1400"/>
                </a:lnTo>
                <a:lnTo>
                  <a:pt x="1400" y="1400"/>
                </a:lnTo>
                <a:close/>
              </a:path>
              <a:path fill="darken" w="124168" h="21600">
                <a:moveTo>
                  <a:pt x="124168" y="0"/>
                </a:moveTo>
                <a:lnTo>
                  <a:pt x="124168" y="21600"/>
                </a:lnTo>
                <a:lnTo>
                  <a:pt x="122768" y="20200"/>
                </a:lnTo>
                <a:lnTo>
                  <a:pt x="122768" y="1400"/>
                </a:lnTo>
                <a:close/>
              </a:path>
              <a:path fill="darkenLess" w="124168" h="21600">
                <a:moveTo>
                  <a:pt x="124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8" y="20200"/>
                </a:lnTo>
                <a:close/>
              </a:path>
              <a:path fill="lighten" w="124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дифра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914400" y="3581280"/>
            <a:ext cx="3505320" cy="609840"/>
          </a:xfrm>
          <a:custGeom>
            <a:avLst/>
            <a:gdLst>
              <a:gd name="textAreaLeft" fmla="*/ 39240 w 3505320"/>
              <a:gd name="textAreaRight" fmla="*/ 3466080 w 3505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24095" h="21600">
                <a:moveTo>
                  <a:pt x="0" y="0"/>
                </a:moveTo>
                <a:lnTo>
                  <a:pt x="124095" y="0"/>
                </a:lnTo>
                <a:lnTo>
                  <a:pt x="124095" y="21600"/>
                </a:lnTo>
                <a:lnTo>
                  <a:pt x="0" y="21600"/>
                </a:lnTo>
                <a:close/>
              </a:path>
              <a:path fill="lightenLess" w="124095" h="21600">
                <a:moveTo>
                  <a:pt x="0" y="0"/>
                </a:moveTo>
                <a:lnTo>
                  <a:pt x="124095" y="0"/>
                </a:lnTo>
                <a:lnTo>
                  <a:pt x="122695" y="1400"/>
                </a:lnTo>
                <a:lnTo>
                  <a:pt x="1400" y="1400"/>
                </a:lnTo>
                <a:close/>
              </a:path>
              <a:path fill="darken" w="124095" h="21600">
                <a:moveTo>
                  <a:pt x="124095" y="0"/>
                </a:moveTo>
                <a:lnTo>
                  <a:pt x="124095" y="21600"/>
                </a:lnTo>
                <a:lnTo>
                  <a:pt x="122695" y="20200"/>
                </a:lnTo>
                <a:lnTo>
                  <a:pt x="122695" y="1400"/>
                </a:lnTo>
                <a:close/>
              </a:path>
              <a:path fill="darkenLess" w="124095" h="21600">
                <a:moveTo>
                  <a:pt x="12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95" y="20200"/>
                </a:lnTo>
                <a:close/>
              </a:path>
              <a:path fill="lighten" w="12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поляриз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4876920" y="1676520"/>
            <a:ext cx="3504960" cy="609480"/>
          </a:xfrm>
          <a:custGeom>
            <a:avLst/>
            <a:gdLst>
              <a:gd name="textAreaLeft" fmla="*/ 39240 w 3504960"/>
              <a:gd name="textAreaRight" fmla="*/ 3465720 w 3504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4155" h="21600">
                <a:moveTo>
                  <a:pt x="0" y="0"/>
                </a:moveTo>
                <a:lnTo>
                  <a:pt x="124155" y="0"/>
                </a:lnTo>
                <a:lnTo>
                  <a:pt x="124155" y="21600"/>
                </a:lnTo>
                <a:lnTo>
                  <a:pt x="0" y="21600"/>
                </a:lnTo>
                <a:close/>
              </a:path>
              <a:path fill="lightenLess" w="124155" h="21600">
                <a:moveTo>
                  <a:pt x="0" y="0"/>
                </a:moveTo>
                <a:lnTo>
                  <a:pt x="124155" y="0"/>
                </a:lnTo>
                <a:lnTo>
                  <a:pt x="122755" y="1400"/>
                </a:lnTo>
                <a:lnTo>
                  <a:pt x="1400" y="1400"/>
                </a:lnTo>
                <a:close/>
              </a:path>
              <a:path fill="darken" w="124155" h="21600">
                <a:moveTo>
                  <a:pt x="124155" y="0"/>
                </a:moveTo>
                <a:lnTo>
                  <a:pt x="124155" y="21600"/>
                </a:lnTo>
                <a:lnTo>
                  <a:pt x="122755" y="20200"/>
                </a:lnTo>
                <a:lnTo>
                  <a:pt x="122755" y="1400"/>
                </a:lnTo>
                <a:close/>
              </a:path>
              <a:path fill="darkenLess" w="124155" h="21600">
                <a:moveTo>
                  <a:pt x="124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55" y="20200"/>
                </a:lnTo>
                <a:close/>
              </a:path>
              <a:path fill="lighten" w="124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прелом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4800600" y="2666880"/>
            <a:ext cx="3505320" cy="609840"/>
          </a:xfrm>
          <a:custGeom>
            <a:avLst/>
            <a:gdLst>
              <a:gd name="textAreaLeft" fmla="*/ 39240 w 3505320"/>
              <a:gd name="textAreaRight" fmla="*/ 3466080 w 3505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24095" h="21600">
                <a:moveTo>
                  <a:pt x="0" y="0"/>
                </a:moveTo>
                <a:lnTo>
                  <a:pt x="124095" y="0"/>
                </a:lnTo>
                <a:lnTo>
                  <a:pt x="124095" y="21600"/>
                </a:lnTo>
                <a:lnTo>
                  <a:pt x="0" y="21600"/>
                </a:lnTo>
                <a:close/>
              </a:path>
              <a:path fill="lightenLess" w="124095" h="21600">
                <a:moveTo>
                  <a:pt x="0" y="0"/>
                </a:moveTo>
                <a:lnTo>
                  <a:pt x="124095" y="0"/>
                </a:lnTo>
                <a:lnTo>
                  <a:pt x="122695" y="1400"/>
                </a:lnTo>
                <a:lnTo>
                  <a:pt x="1400" y="1400"/>
                </a:lnTo>
                <a:close/>
              </a:path>
              <a:path fill="darken" w="124095" h="21600">
                <a:moveTo>
                  <a:pt x="124095" y="0"/>
                </a:moveTo>
                <a:lnTo>
                  <a:pt x="124095" y="21600"/>
                </a:lnTo>
                <a:lnTo>
                  <a:pt x="122695" y="20200"/>
                </a:lnTo>
                <a:lnTo>
                  <a:pt x="122695" y="1400"/>
                </a:lnTo>
                <a:close/>
              </a:path>
              <a:path fill="darkenLess" w="124095" h="21600">
                <a:moveTo>
                  <a:pt x="12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95" y="20200"/>
                </a:lnTo>
                <a:close/>
              </a:path>
              <a:path fill="lighten" w="12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7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отра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7620120" y="56386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нтерферен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ое явление, наблюдающееся при наложении нескольких волновых процес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4343400" y="2895480"/>
            <a:ext cx="4191120" cy="2513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5410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3"/>
              </a:rPr>
              <a:t>подробне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61722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54100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4"/>
              </a:rPr>
              <a:t>демонст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5"/>
              </a:rPr>
              <a:t>Проверь себ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rId6" action="ppaction://hlinksldjump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02T07:59:2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