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19.jpeg" ContentType="image/jpeg"/>
  <Override PartName="/ppt/media/image34.png" ContentType="image/png"/>
  <Override PartName="/ppt/media/image44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5.jpeg" ContentType="image/jpeg"/>
  <Override PartName="/ppt/media/image47.png" ContentType="image/png"/>
  <Override PartName="/ppt/media/image36.png" ContentType="image/png"/>
  <Override PartName="/ppt/media/image43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33F-D009-44F3-B4B7-75ED59C8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51C-8D58-4015-8388-2AA31B4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6E2-1E42-4BC8-AC8A-76E40B70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B6D-202F-427E-AC85-A0D2715F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36B-26F7-4B61-B1F7-136EF052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F54-0094-41C4-8956-0269E23A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ACC-747E-42B1-A393-7943DA87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1A9-6270-40C5-98A9-39F21E0D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804-FED2-40C7-824D-F6DBA494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8B9-89A1-458B-A076-29C795F0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83A-FCCE-47E1-B771-7CCCB6FC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2B6-726B-4856-86FF-3CDA81A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2983-12C3-49EB-ADBA-F9D9BDDBC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10800000">
            <a:off x="250200" y="1773000"/>
            <a:ext cx="889308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dc385"/>
              </a:gs>
              <a:gs pos="50000">
                <a:srgbClr val="5f5a3e"/>
              </a:gs>
              <a:gs pos="100000">
                <a:srgbClr val="cdc38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ОУ СОШ №4 г.Ива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Учитель изобразительного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Матюшина Светлана Алексее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835280" y="2997360"/>
            <a:ext cx="68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ль декоративного искусства 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эпоху Древнего Египта.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7" descr="F937D53B"/>
          <p:cNvPicPr/>
          <p:nvPr/>
        </p:nvPicPr>
        <p:blipFill>
          <a:blip r:embed="rId5"/>
          <a:stretch/>
        </p:blipFill>
        <p:spPr>
          <a:xfrm>
            <a:off x="179280" y="2565360"/>
            <a:ext cx="1368360" cy="429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887E5E01"/>
          <p:cNvPicPr/>
          <p:nvPr/>
        </p:nvPicPr>
        <p:blipFill>
          <a:blip r:embed="rId6"/>
          <a:stretch/>
        </p:blipFill>
        <p:spPr>
          <a:xfrm>
            <a:off x="179280" y="0"/>
            <a:ext cx="1368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55d38"/>
              </a:gs>
              <a:gs pos="100000">
                <a:srgbClr val="b8c97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908000" y="549360"/>
            <a:ext cx="511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боты учащихся.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5" descr="7BD2B7AD"/>
          <p:cNvPicPr/>
          <p:nvPr/>
        </p:nvPicPr>
        <p:blipFill>
          <a:blip r:embed="rId3"/>
          <a:stretch/>
        </p:blipFill>
        <p:spPr>
          <a:xfrm>
            <a:off x="684360" y="1844640"/>
            <a:ext cx="2158920" cy="439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310ED343"/>
          <p:cNvPicPr/>
          <p:nvPr/>
        </p:nvPicPr>
        <p:blipFill>
          <a:blip r:embed="rId4"/>
          <a:stretch/>
        </p:blipFill>
        <p:spPr>
          <a:xfrm>
            <a:off x="6372360" y="1773360"/>
            <a:ext cx="2089080" cy="444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F276F149"/>
          <p:cNvPicPr/>
          <p:nvPr/>
        </p:nvPicPr>
        <p:blipFill>
          <a:blip r:embed="rId5"/>
          <a:stretch/>
        </p:blipFill>
        <p:spPr>
          <a:xfrm>
            <a:off x="3348000" y="1484280"/>
            <a:ext cx="2664000" cy="504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50D1DBF6"/>
          <p:cNvPicPr/>
          <p:nvPr/>
        </p:nvPicPr>
        <p:blipFill>
          <a:blip r:embed="rId6"/>
          <a:stretch/>
        </p:blipFill>
        <p:spPr>
          <a:xfrm>
            <a:off x="3492360" y="4437000"/>
            <a:ext cx="2374920" cy="2063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FD800374"/>
          <p:cNvPicPr/>
          <p:nvPr/>
        </p:nvPicPr>
        <p:blipFill>
          <a:blip r:embed="rId7"/>
          <a:stretch/>
        </p:blipFill>
        <p:spPr>
          <a:xfrm>
            <a:off x="1042920" y="1773360"/>
            <a:ext cx="1513080" cy="194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88395DA2"/>
          <p:cNvPicPr/>
          <p:nvPr/>
        </p:nvPicPr>
        <p:blipFill>
          <a:blip r:embed="rId8"/>
          <a:stretch/>
        </p:blipFill>
        <p:spPr>
          <a:xfrm>
            <a:off x="3419640" y="1484280"/>
            <a:ext cx="244764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950E6E00"/>
          <p:cNvPicPr/>
          <p:nvPr/>
        </p:nvPicPr>
        <p:blipFill>
          <a:blip r:embed="rId9"/>
          <a:stretch/>
        </p:blipFill>
        <p:spPr>
          <a:xfrm>
            <a:off x="6588000" y="3860640"/>
            <a:ext cx="2009880" cy="24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A628040E"/>
          <p:cNvPicPr/>
          <p:nvPr/>
        </p:nvPicPr>
        <p:blipFill>
          <a:blip r:embed="rId10"/>
          <a:stretch/>
        </p:blipFill>
        <p:spPr>
          <a:xfrm>
            <a:off x="6732720" y="1916280"/>
            <a:ext cx="1733400" cy="172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37091B4C"/>
          <p:cNvPicPr/>
          <p:nvPr/>
        </p:nvPicPr>
        <p:blipFill>
          <a:blip r:embed="rId11"/>
          <a:stretch/>
        </p:blipFill>
        <p:spPr>
          <a:xfrm>
            <a:off x="684360" y="3860640"/>
            <a:ext cx="2158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5635"/>
              </a:gs>
              <a:gs pos="50000">
                <a:srgbClr val="afb973"/>
              </a:gs>
              <a:gs pos="100000">
                <a:srgbClr val="51563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Задание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полнить эскиз одного из украшений в стиле древнеегипетского искусств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солнечного ожерелья, подвески, нагрудного украшения-пекторали, браслет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-243360"/>
            <a:ext cx="9144000" cy="7101000"/>
          </a:xfrm>
          <a:prstGeom prst="rect">
            <a:avLst/>
          </a:prstGeom>
          <a:gradFill rotWithShape="0">
            <a:gsLst>
              <a:gs pos="0">
                <a:srgbClr val="b8c979"/>
              </a:gs>
              <a:gs pos="50000">
                <a:srgbClr val="555d38"/>
              </a:gs>
              <a:gs pos="100000">
                <a:srgbClr val="b8c97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611280" y="1700280"/>
            <a:ext cx="799308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ую роль играло 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коративное искусство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Древнем Египте?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dc385"/>
              </a:gs>
              <a:gs pos="50000">
                <a:srgbClr val="5f5a3e"/>
              </a:gs>
              <a:gs pos="100000">
                <a:srgbClr val="cdc38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7E7D3A09"/>
          <p:cNvPicPr/>
          <p:nvPr/>
        </p:nvPicPr>
        <p:blipFill>
          <a:blip r:embed="rId1"/>
          <a:stretch/>
        </p:blipFill>
        <p:spPr>
          <a:xfrm>
            <a:off x="5148360" y="3429000"/>
            <a:ext cx="3600360" cy="316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297F1FF"/>
          <p:cNvPicPr/>
          <p:nvPr/>
        </p:nvPicPr>
        <p:blipFill>
          <a:blip r:embed="rId2"/>
          <a:stretch/>
        </p:blipFill>
        <p:spPr>
          <a:xfrm>
            <a:off x="395280" y="0"/>
            <a:ext cx="367020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B28EF7BB"/>
          <p:cNvPicPr/>
          <p:nvPr/>
        </p:nvPicPr>
        <p:blipFill>
          <a:blip r:embed="rId3"/>
          <a:stretch/>
        </p:blipFill>
        <p:spPr>
          <a:xfrm>
            <a:off x="395280" y="3429000"/>
            <a:ext cx="3670200" cy="3168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10"/>
          <p:cNvSpPr txBox="1"/>
          <p:nvPr/>
        </p:nvSpPr>
        <p:spPr>
          <a:xfrm>
            <a:off x="755640" y="2133720"/>
            <a:ext cx="756144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мы знаем о 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евнем Египте ?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11" descr="4239B903"/>
          <p:cNvPicPr/>
          <p:nvPr/>
        </p:nvPicPr>
        <p:blipFill>
          <a:blip r:embed="rId8"/>
          <a:stretch/>
        </p:blipFill>
        <p:spPr>
          <a:xfrm>
            <a:off x="5148360" y="189000"/>
            <a:ext cx="3671640" cy="30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F3EB946D"/>
          <p:cNvPicPr/>
          <p:nvPr/>
        </p:nvPicPr>
        <p:blipFill>
          <a:blip r:embed="rId9"/>
          <a:stretch/>
        </p:blipFill>
        <p:spPr>
          <a:xfrm>
            <a:off x="3708360" y="1557360"/>
            <a:ext cx="181296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88360" cy="6912000"/>
          </a:xfrm>
          <a:prstGeom prst="rect">
            <a:avLst/>
          </a:prstGeom>
          <a:gradFill rotWithShape="0">
            <a:gsLst>
              <a:gs pos="0">
                <a:srgbClr val="cdc385"/>
              </a:gs>
              <a:gs pos="50000">
                <a:srgbClr val="5f5a3e"/>
              </a:gs>
              <a:gs pos="100000">
                <a:srgbClr val="cdc385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fea0"/>
                </a:solidFill>
                <a:latin typeface="Arial"/>
              </a:rPr>
              <a:t>                                 </a:t>
            </a:r>
            <a:r>
              <a:rPr b="1" i="1" lang="ru-RU" sz="2800" spc="-1" strike="noStrike">
                <a:solidFill>
                  <a:srgbClr val="aaedf4"/>
                </a:solidFill>
                <a:latin typeface="Arial"/>
              </a:rPr>
              <a:t>Великий Н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1049AD4"/>
          <p:cNvPicPr/>
          <p:nvPr/>
        </p:nvPicPr>
        <p:blipFill>
          <a:blip r:embed="rId1"/>
          <a:stretch/>
        </p:blipFill>
        <p:spPr>
          <a:xfrm>
            <a:off x="539640" y="1197000"/>
            <a:ext cx="2808360" cy="5184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708360" y="1557360"/>
            <a:ext cx="32400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cfea0"/>
                </a:solidFill>
                <a:latin typeface="Arial"/>
              </a:rPr>
              <a:t>Голубым лотосом пересекает безжизненную пустыню могучая африканская река , в     долине которой была сосредоточена жизнь египтян. Яркое солнце, тёплый влажный климат создали прекрасные условия для жизни людей.</a:t>
            </a:r>
            <a:br>
              <a:rPr sz="2000"/>
            </a:br>
            <a:br>
              <a:rPr sz="2000"/>
            </a:br>
            <a:br>
              <a:rPr sz="1800"/>
            </a:br>
            <a:r>
              <a:rPr b="1" lang="ru-RU" sz="1800" spc="-1" strike="noStrike">
                <a:solidFill>
                  <a:srgbClr val="fcfea0"/>
                </a:solidFill>
                <a:latin typeface="Arial"/>
              </a:rPr>
              <a:t>    </a:t>
            </a:r>
            <a:br>
              <a:rPr sz="1800"/>
            </a:br>
            <a:r>
              <a:rPr b="1" lang="ru-RU" sz="1800" spc="-1" strike="noStrike">
                <a:solidFill>
                  <a:srgbClr val="fcfea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0"/>
          <p:cNvSpPr txBox="1"/>
          <p:nvPr/>
        </p:nvSpPr>
        <p:spPr>
          <a:xfrm>
            <a:off x="2050920" y="333360"/>
            <a:ext cx="518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чник жизни.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Line 28"/>
          <p:cNvSpPr/>
          <p:nvPr/>
        </p:nvSpPr>
        <p:spPr>
          <a:xfrm flipH="1">
            <a:off x="1692000" y="2276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619280" y="2276640"/>
            <a:ext cx="288720" cy="215640"/>
          </a:xfrm>
          <a:prstGeom prst="ellipse">
            <a:avLst/>
          </a:prstGeom>
          <a:solidFill>
            <a:srgbClr val="4c86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4"/>
          <p:cNvSpPr/>
          <p:nvPr/>
        </p:nvSpPr>
        <p:spPr>
          <a:xfrm>
            <a:off x="971640" y="1557360"/>
            <a:ext cx="1509480" cy="772920"/>
          </a:xfrm>
          <a:custGeom>
            <a:avLst/>
            <a:gdLst/>
            <a:ahLst/>
            <a:rect l="l" t="t" r="r" b="b"/>
            <a:pathLst>
              <a:path w="951" h="487">
                <a:moveTo>
                  <a:pt x="468" y="472"/>
                </a:moveTo>
                <a:cubicBezTo>
                  <a:pt x="443" y="469"/>
                  <a:pt x="417" y="469"/>
                  <a:pt x="392" y="463"/>
                </a:cubicBezTo>
                <a:cubicBezTo>
                  <a:pt x="357" y="454"/>
                  <a:pt x="363" y="417"/>
                  <a:pt x="341" y="395"/>
                </a:cubicBezTo>
                <a:cubicBezTo>
                  <a:pt x="298" y="352"/>
                  <a:pt x="321" y="383"/>
                  <a:pt x="282" y="361"/>
                </a:cubicBezTo>
                <a:cubicBezTo>
                  <a:pt x="234" y="334"/>
                  <a:pt x="177" y="275"/>
                  <a:pt x="129" y="260"/>
                </a:cubicBezTo>
                <a:cubicBezTo>
                  <a:pt x="99" y="239"/>
                  <a:pt x="63" y="220"/>
                  <a:pt x="28" y="209"/>
                </a:cubicBezTo>
                <a:cubicBezTo>
                  <a:pt x="19" y="201"/>
                  <a:pt x="0" y="196"/>
                  <a:pt x="2" y="184"/>
                </a:cubicBezTo>
                <a:cubicBezTo>
                  <a:pt x="4" y="170"/>
                  <a:pt x="26" y="168"/>
                  <a:pt x="36" y="158"/>
                </a:cubicBezTo>
                <a:cubicBezTo>
                  <a:pt x="76" y="118"/>
                  <a:pt x="21" y="140"/>
                  <a:pt x="96" y="124"/>
                </a:cubicBezTo>
                <a:cubicBezTo>
                  <a:pt x="113" y="113"/>
                  <a:pt x="135" y="107"/>
                  <a:pt x="146" y="90"/>
                </a:cubicBezTo>
                <a:cubicBezTo>
                  <a:pt x="152" y="82"/>
                  <a:pt x="155" y="71"/>
                  <a:pt x="163" y="65"/>
                </a:cubicBezTo>
                <a:cubicBezTo>
                  <a:pt x="194" y="44"/>
                  <a:pt x="236" y="52"/>
                  <a:pt x="273" y="48"/>
                </a:cubicBezTo>
                <a:cubicBezTo>
                  <a:pt x="316" y="38"/>
                  <a:pt x="359" y="28"/>
                  <a:pt x="401" y="14"/>
                </a:cubicBezTo>
                <a:cubicBezTo>
                  <a:pt x="797" y="27"/>
                  <a:pt x="572" y="0"/>
                  <a:pt x="722" y="48"/>
                </a:cubicBezTo>
                <a:cubicBezTo>
                  <a:pt x="753" y="77"/>
                  <a:pt x="777" y="78"/>
                  <a:pt x="816" y="90"/>
                </a:cubicBezTo>
                <a:cubicBezTo>
                  <a:pt x="860" y="120"/>
                  <a:pt x="913" y="137"/>
                  <a:pt x="951" y="175"/>
                </a:cubicBezTo>
                <a:cubicBezTo>
                  <a:pt x="920" y="198"/>
                  <a:pt x="901" y="206"/>
                  <a:pt x="866" y="217"/>
                </a:cubicBezTo>
                <a:cubicBezTo>
                  <a:pt x="838" y="236"/>
                  <a:pt x="831" y="258"/>
                  <a:pt x="799" y="268"/>
                </a:cubicBezTo>
                <a:cubicBezTo>
                  <a:pt x="753" y="338"/>
                  <a:pt x="735" y="333"/>
                  <a:pt x="680" y="370"/>
                </a:cubicBezTo>
                <a:cubicBezTo>
                  <a:pt x="602" y="487"/>
                  <a:pt x="633" y="456"/>
                  <a:pt x="451" y="463"/>
                </a:cubicBezTo>
                <a:cubicBezTo>
                  <a:pt x="431" y="464"/>
                  <a:pt x="412" y="463"/>
                  <a:pt x="392" y="463"/>
                </a:cubicBezTo>
              </a:path>
            </a:pathLst>
          </a:custGeom>
          <a:solidFill>
            <a:srgbClr val="4c86f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7"/>
          <p:cNvSpPr/>
          <p:nvPr/>
        </p:nvSpPr>
        <p:spPr>
          <a:xfrm>
            <a:off x="1379520" y="2612880"/>
            <a:ext cx="1511280" cy="3637080"/>
          </a:xfrm>
          <a:custGeom>
            <a:avLst/>
            <a:gdLst/>
            <a:ahLst/>
            <a:rect l="l" t="t" r="r" b="b"/>
            <a:pathLst>
              <a:path w="952" h="2291">
                <a:moveTo>
                  <a:pt x="197" y="60"/>
                </a:moveTo>
                <a:cubicBezTo>
                  <a:pt x="182" y="90"/>
                  <a:pt x="91" y="150"/>
                  <a:pt x="61" y="196"/>
                </a:cubicBezTo>
                <a:cubicBezTo>
                  <a:pt x="31" y="242"/>
                  <a:pt x="23" y="288"/>
                  <a:pt x="15" y="333"/>
                </a:cubicBezTo>
                <a:cubicBezTo>
                  <a:pt x="7" y="378"/>
                  <a:pt x="0" y="424"/>
                  <a:pt x="15" y="469"/>
                </a:cubicBezTo>
                <a:cubicBezTo>
                  <a:pt x="30" y="514"/>
                  <a:pt x="61" y="567"/>
                  <a:pt x="106" y="605"/>
                </a:cubicBezTo>
                <a:cubicBezTo>
                  <a:pt x="151" y="643"/>
                  <a:pt x="219" y="642"/>
                  <a:pt x="287" y="695"/>
                </a:cubicBezTo>
                <a:cubicBezTo>
                  <a:pt x="355" y="748"/>
                  <a:pt x="454" y="862"/>
                  <a:pt x="514" y="922"/>
                </a:cubicBezTo>
                <a:cubicBezTo>
                  <a:pt x="574" y="982"/>
                  <a:pt x="597" y="990"/>
                  <a:pt x="650" y="1058"/>
                </a:cubicBezTo>
                <a:cubicBezTo>
                  <a:pt x="703" y="1126"/>
                  <a:pt x="802" y="1262"/>
                  <a:pt x="832" y="1330"/>
                </a:cubicBezTo>
                <a:cubicBezTo>
                  <a:pt x="862" y="1398"/>
                  <a:pt x="840" y="1422"/>
                  <a:pt x="832" y="1467"/>
                </a:cubicBezTo>
                <a:cubicBezTo>
                  <a:pt x="824" y="1512"/>
                  <a:pt x="809" y="1558"/>
                  <a:pt x="786" y="1603"/>
                </a:cubicBezTo>
                <a:cubicBezTo>
                  <a:pt x="763" y="1648"/>
                  <a:pt x="734" y="1686"/>
                  <a:pt x="696" y="1739"/>
                </a:cubicBezTo>
                <a:cubicBezTo>
                  <a:pt x="658" y="1792"/>
                  <a:pt x="643" y="1829"/>
                  <a:pt x="560" y="1920"/>
                </a:cubicBezTo>
                <a:cubicBezTo>
                  <a:pt x="477" y="2011"/>
                  <a:pt x="197" y="2275"/>
                  <a:pt x="197" y="2283"/>
                </a:cubicBezTo>
                <a:cubicBezTo>
                  <a:pt x="197" y="2291"/>
                  <a:pt x="469" y="2049"/>
                  <a:pt x="560" y="1966"/>
                </a:cubicBezTo>
                <a:cubicBezTo>
                  <a:pt x="651" y="1883"/>
                  <a:pt x="681" y="1860"/>
                  <a:pt x="741" y="1784"/>
                </a:cubicBezTo>
                <a:cubicBezTo>
                  <a:pt x="801" y="1708"/>
                  <a:pt x="892" y="1595"/>
                  <a:pt x="922" y="1512"/>
                </a:cubicBezTo>
                <a:cubicBezTo>
                  <a:pt x="952" y="1429"/>
                  <a:pt x="952" y="1361"/>
                  <a:pt x="922" y="1285"/>
                </a:cubicBezTo>
                <a:cubicBezTo>
                  <a:pt x="892" y="1209"/>
                  <a:pt x="809" y="1133"/>
                  <a:pt x="741" y="1058"/>
                </a:cubicBezTo>
                <a:cubicBezTo>
                  <a:pt x="673" y="983"/>
                  <a:pt x="574" y="892"/>
                  <a:pt x="514" y="832"/>
                </a:cubicBezTo>
                <a:cubicBezTo>
                  <a:pt x="454" y="772"/>
                  <a:pt x="408" y="725"/>
                  <a:pt x="378" y="695"/>
                </a:cubicBezTo>
                <a:cubicBezTo>
                  <a:pt x="348" y="665"/>
                  <a:pt x="356" y="665"/>
                  <a:pt x="333" y="650"/>
                </a:cubicBezTo>
                <a:cubicBezTo>
                  <a:pt x="310" y="635"/>
                  <a:pt x="265" y="620"/>
                  <a:pt x="242" y="605"/>
                </a:cubicBezTo>
                <a:cubicBezTo>
                  <a:pt x="219" y="590"/>
                  <a:pt x="220" y="582"/>
                  <a:pt x="197" y="559"/>
                </a:cubicBezTo>
                <a:cubicBezTo>
                  <a:pt x="174" y="536"/>
                  <a:pt x="121" y="507"/>
                  <a:pt x="106" y="469"/>
                </a:cubicBezTo>
                <a:cubicBezTo>
                  <a:pt x="91" y="431"/>
                  <a:pt x="99" y="371"/>
                  <a:pt x="106" y="333"/>
                </a:cubicBezTo>
                <a:cubicBezTo>
                  <a:pt x="113" y="295"/>
                  <a:pt x="128" y="272"/>
                  <a:pt x="151" y="242"/>
                </a:cubicBezTo>
                <a:cubicBezTo>
                  <a:pt x="174" y="212"/>
                  <a:pt x="219" y="174"/>
                  <a:pt x="242" y="151"/>
                </a:cubicBezTo>
                <a:cubicBezTo>
                  <a:pt x="265" y="128"/>
                  <a:pt x="280" y="129"/>
                  <a:pt x="287" y="106"/>
                </a:cubicBezTo>
                <a:cubicBezTo>
                  <a:pt x="294" y="83"/>
                  <a:pt x="310" y="30"/>
                  <a:pt x="287" y="15"/>
                </a:cubicBezTo>
                <a:cubicBezTo>
                  <a:pt x="264" y="0"/>
                  <a:pt x="166" y="8"/>
                  <a:pt x="151" y="15"/>
                </a:cubicBezTo>
                <a:cubicBezTo>
                  <a:pt x="136" y="22"/>
                  <a:pt x="212" y="30"/>
                  <a:pt x="197" y="60"/>
                </a:cubicBezTo>
                <a:close/>
              </a:path>
            </a:pathLst>
          </a:custGeom>
          <a:solidFill>
            <a:srgbClr val="4c86f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1619280" y="2492280"/>
            <a:ext cx="288720" cy="216000"/>
          </a:xfrm>
          <a:prstGeom prst="rect">
            <a:avLst/>
          </a:prstGeom>
          <a:solidFill>
            <a:srgbClr val="4c86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4"/>
          <p:cNvSpPr/>
          <p:nvPr/>
        </p:nvSpPr>
        <p:spPr>
          <a:xfrm>
            <a:off x="6948360" y="1844640"/>
            <a:ext cx="1727280" cy="7207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720720"/>
              <a:gd name="textAreaBottom" fmla="*/ 257400 h 720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84d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5"/>
          <p:cNvSpPr/>
          <p:nvPr/>
        </p:nvSpPr>
        <p:spPr>
          <a:xfrm>
            <a:off x="6948360" y="2205000"/>
            <a:ext cx="1727280" cy="719280"/>
          </a:xfrm>
          <a:custGeom>
            <a:avLst/>
            <a:gdLst>
              <a:gd name="textAreaLeft" fmla="*/ 359640 w 1727280"/>
              <a:gd name="textAreaRight" fmla="*/ 1367640 w 1727280"/>
              <a:gd name="textAreaTop" fmla="*/ 149760 h 719280"/>
              <a:gd name="textAreaBottom" fmla="*/ 5695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0"/>
          <p:cNvSpPr/>
          <p:nvPr/>
        </p:nvSpPr>
        <p:spPr>
          <a:xfrm>
            <a:off x="7524720" y="1628640"/>
            <a:ext cx="576360" cy="792360"/>
          </a:xfrm>
          <a:prstGeom prst="flowChartSort">
            <a:avLst/>
          </a:prstGeom>
          <a:solidFill>
            <a:srgbClr val="d9cc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3"/>
          <p:cNvSpPr/>
          <p:nvPr/>
        </p:nvSpPr>
        <p:spPr>
          <a:xfrm>
            <a:off x="7236000" y="1700280"/>
            <a:ext cx="504720" cy="1224000"/>
          </a:xfrm>
          <a:prstGeom prst="pentagon">
            <a:avLst/>
          </a:prstGeom>
          <a:solidFill>
            <a:srgbClr val="4c86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5"/>
          <p:cNvSpPr/>
          <p:nvPr/>
        </p:nvSpPr>
        <p:spPr>
          <a:xfrm>
            <a:off x="7956720" y="1700280"/>
            <a:ext cx="431640" cy="1224000"/>
          </a:xfrm>
          <a:prstGeom prst="pentagon">
            <a:avLst/>
          </a:prstGeom>
          <a:solidFill>
            <a:srgbClr val="4c86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6"/>
          <p:cNvSpPr/>
          <p:nvPr/>
        </p:nvSpPr>
        <p:spPr>
          <a:xfrm>
            <a:off x="6877080" y="1844640"/>
            <a:ext cx="287280" cy="360360"/>
          </a:xfrm>
          <a:prstGeom prst="rtTriangle">
            <a:avLst/>
          </a:prstGeom>
          <a:solidFill>
            <a:srgbClr val="d9cc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7"/>
          <p:cNvSpPr/>
          <p:nvPr/>
        </p:nvSpPr>
        <p:spPr>
          <a:xfrm rot="16200000">
            <a:off x="8424720" y="1879560"/>
            <a:ext cx="287280" cy="360360"/>
          </a:xfrm>
          <a:prstGeom prst="rtTriangle">
            <a:avLst/>
          </a:prstGeom>
          <a:solidFill>
            <a:srgbClr val="d9cc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8"/>
          <p:cNvSpPr/>
          <p:nvPr/>
        </p:nvSpPr>
        <p:spPr>
          <a:xfrm rot="10800000">
            <a:off x="7380000" y="2637000"/>
            <a:ext cx="863640" cy="576000"/>
          </a:xfrm>
          <a:custGeom>
            <a:avLst/>
            <a:gdLst>
              <a:gd name="textAreaLeft" fmla="*/ 0 w 863640"/>
              <a:gd name="textAreaRight" fmla="*/ 864000 w 863640"/>
              <a:gd name="textAreaTop" fmla="*/ 0 h 576000"/>
              <a:gd name="textAreaBottom" fmla="*/ 205560 h 57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9"/>
          <p:cNvSpPr/>
          <p:nvPr/>
        </p:nvSpPr>
        <p:spPr>
          <a:xfrm>
            <a:off x="7740720" y="3141720"/>
            <a:ext cx="144360" cy="3095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0"/>
          <p:cNvSpPr/>
          <p:nvPr/>
        </p:nvSpPr>
        <p:spPr>
          <a:xfrm rot="5400000">
            <a:off x="8065080" y="3969360"/>
            <a:ext cx="6476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1"/>
          <p:cNvSpPr/>
          <p:nvPr/>
        </p:nvSpPr>
        <p:spPr>
          <a:xfrm rot="5400000">
            <a:off x="6948360" y="4005000"/>
            <a:ext cx="64764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nk 82" descr=""/>
          <p:cNvPicPr/>
          <p:nvPr/>
        </p:nvPicPr>
        <p:blipFill>
          <a:blip r:embed="rId4"/>
          <a:stretch/>
        </p:blipFill>
        <p:spPr>
          <a:xfrm>
            <a:off x="569880" y="5924520"/>
            <a:ext cx="27892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217080" cy="6885000"/>
          </a:xfrm>
          <a:prstGeom prst="rect">
            <a:avLst/>
          </a:prstGeom>
          <a:gradFill rotWithShape="0">
            <a:gsLst>
              <a:gs pos="0">
                <a:srgbClr val="cdc385"/>
              </a:gs>
              <a:gs pos="50000">
                <a:srgbClr val="5f5a3e"/>
              </a:gs>
              <a:gs pos="100000">
                <a:srgbClr val="cdc385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олновластный правитель Егип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Нарядные красочные одежды и украшения выделяли его среди других людей, подчёркивая особое положение в общ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ffcc"/>
                </a:solidFill>
                <a:latin typeface="Arial"/>
              </a:rPr>
              <a:t>Знаки царского могущества.                                                       Знаки власти и велич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7C35635F"/>
          <p:cNvPicPr/>
          <p:nvPr/>
        </p:nvPicPr>
        <p:blipFill>
          <a:blip r:embed="rId1"/>
          <a:stretch/>
        </p:blipFill>
        <p:spPr>
          <a:xfrm>
            <a:off x="6084720" y="2349360"/>
            <a:ext cx="2694240" cy="4175280"/>
          </a:xfrm>
          <a:prstGeom prst="rect">
            <a:avLst/>
          </a:prstGeom>
          <a:ln w="9360">
            <a:solidFill>
              <a:srgbClr val="59f5fd"/>
            </a:solidFill>
            <a:miter/>
          </a:ln>
        </p:spPr>
      </p:pic>
      <p:pic>
        <p:nvPicPr>
          <p:cNvPr id="77" name="Picture 13" descr="64DDA81D"/>
          <p:cNvPicPr/>
          <p:nvPr/>
        </p:nvPicPr>
        <p:blipFill>
          <a:blip r:embed="rId2"/>
          <a:stretch/>
        </p:blipFill>
        <p:spPr>
          <a:xfrm>
            <a:off x="324000" y="2349360"/>
            <a:ext cx="2016000" cy="4248360"/>
          </a:xfrm>
          <a:prstGeom prst="rect">
            <a:avLst/>
          </a:prstGeom>
          <a:ln w="9360">
            <a:solidFill>
              <a:srgbClr val="59f5fd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700360" y="1125360"/>
            <a:ext cx="3527280" cy="69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высокая тиара-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двойная корона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                                    грифон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искусственная 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борода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                                      кобра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два скипетра-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изогнутый жезл и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трехвостый бич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                             ожерелье в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                            виде солнц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 flipH="1">
            <a:off x="1763640" y="3068640"/>
            <a:ext cx="1008000" cy="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6"/>
          <p:cNvSpPr/>
          <p:nvPr/>
        </p:nvSpPr>
        <p:spPr>
          <a:xfrm flipH="1" flipV="1">
            <a:off x="1618920" y="3789000"/>
            <a:ext cx="1081080" cy="3603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7"/>
          <p:cNvSpPr/>
          <p:nvPr/>
        </p:nvSpPr>
        <p:spPr>
          <a:xfrm flipH="1" flipV="1">
            <a:off x="1692360" y="4149360"/>
            <a:ext cx="1008000" cy="1079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8"/>
          <p:cNvSpPr/>
          <p:nvPr/>
        </p:nvSpPr>
        <p:spPr>
          <a:xfrm flipH="1" flipV="1">
            <a:off x="684360" y="4221000"/>
            <a:ext cx="2016000" cy="12240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9"/>
          <p:cNvSpPr/>
          <p:nvPr/>
        </p:nvSpPr>
        <p:spPr>
          <a:xfrm flipV="1">
            <a:off x="5940360" y="3573360"/>
            <a:ext cx="863640" cy="2160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0"/>
          <p:cNvSpPr/>
          <p:nvPr/>
        </p:nvSpPr>
        <p:spPr>
          <a:xfrm flipV="1">
            <a:off x="5940360" y="4292280"/>
            <a:ext cx="1584360" cy="431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31"/>
          <p:cNvSpPr txBox="1"/>
          <p:nvPr/>
        </p:nvSpPr>
        <p:spPr>
          <a:xfrm>
            <a:off x="2843280" y="260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раон-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Line 33"/>
          <p:cNvSpPr/>
          <p:nvPr/>
        </p:nvSpPr>
        <p:spPr>
          <a:xfrm flipV="1">
            <a:off x="5940360" y="5516640"/>
            <a:ext cx="863640" cy="4334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nk 6" descr=""/>
          <p:cNvPicPr/>
          <p:nvPr/>
        </p:nvPicPr>
        <p:blipFill>
          <a:blip r:embed="rId5"/>
          <a:stretch/>
        </p:blipFill>
        <p:spPr>
          <a:xfrm>
            <a:off x="1020600" y="512748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88" name="Ink 8" descr=""/>
          <p:cNvPicPr/>
          <p:nvPr/>
        </p:nvPicPr>
        <p:blipFill>
          <a:blip r:embed="rId6"/>
          <a:stretch/>
        </p:blipFill>
        <p:spPr>
          <a:xfrm>
            <a:off x="1063800" y="5170320"/>
            <a:ext cx="9684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9325080" cy="6985080"/>
          </a:xfrm>
          <a:prstGeom prst="rect">
            <a:avLst/>
          </a:prstGeom>
          <a:gradFill rotWithShape="0">
            <a:gsLst>
              <a:gs pos="0">
                <a:srgbClr val="5e593d"/>
              </a:gs>
              <a:gs pos="50000">
                <a:srgbClr val="cdc385"/>
              </a:gs>
              <a:gs pos="100000">
                <a:srgbClr val="5e593d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Традиционным украш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знатных египтя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бы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уск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ротник-ожер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з золотых пласт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рагоценных камн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 жемч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403280" y="476280"/>
            <a:ext cx="6481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ашения египтянок.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7" descr="9E93D08D"/>
          <p:cNvPicPr/>
          <p:nvPr/>
        </p:nvPicPr>
        <p:blipFill>
          <a:blip r:embed="rId3"/>
          <a:stretch/>
        </p:blipFill>
        <p:spPr>
          <a:xfrm>
            <a:off x="5651640" y="1341360"/>
            <a:ext cx="3097080" cy="504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81282829"/>
          <p:cNvPicPr/>
          <p:nvPr/>
        </p:nvPicPr>
        <p:blipFill>
          <a:blip r:embed="rId4"/>
          <a:stretch/>
        </p:blipFill>
        <p:spPr>
          <a:xfrm>
            <a:off x="468360" y="1484280"/>
            <a:ext cx="5041800" cy="4897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5364000" y="1268280"/>
            <a:ext cx="37800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Египтя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украшали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ожерель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браслетам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тончайш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цепоч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360" y="17280"/>
            <a:ext cx="9288360" cy="6840360"/>
          </a:xfrm>
          <a:prstGeom prst="rect">
            <a:avLst/>
          </a:prstGeom>
          <a:gradFill rotWithShape="0">
            <a:gsLst>
              <a:gs pos="0">
                <a:srgbClr val="5f5a3e"/>
              </a:gs>
              <a:gs pos="50000">
                <a:srgbClr val="cdc385"/>
              </a:gs>
              <a:gs pos="100000">
                <a:srgbClr val="5f5a3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fe457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efe457"/>
                </a:solidFill>
                <a:latin typeface="Arial"/>
              </a:rPr>
              <a:t>Ювелиры создавали произведения декоративного искусства, поражающие непревзойдённой тонкостью работы, высоким художественным мастер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627280" y="404640"/>
            <a:ext cx="633744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1116000" y="333360"/>
            <a:ext cx="7129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усство древних  ювелиров.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9" descr="17C04CDB"/>
          <p:cNvPicPr/>
          <p:nvPr/>
        </p:nvPicPr>
        <p:blipFill>
          <a:blip r:embed="rId3"/>
          <a:stretch/>
        </p:blipFill>
        <p:spPr>
          <a:xfrm>
            <a:off x="3348000" y="2276640"/>
            <a:ext cx="3024360" cy="28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4692D6A1"/>
          <p:cNvPicPr/>
          <p:nvPr/>
        </p:nvPicPr>
        <p:blipFill>
          <a:blip r:embed="rId4"/>
          <a:stretch/>
        </p:blipFill>
        <p:spPr>
          <a:xfrm>
            <a:off x="395280" y="2276640"/>
            <a:ext cx="2635200" cy="338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5A8AA57D"/>
          <p:cNvPicPr/>
          <p:nvPr/>
        </p:nvPicPr>
        <p:blipFill>
          <a:blip r:embed="rId5"/>
          <a:stretch/>
        </p:blipFill>
        <p:spPr>
          <a:xfrm>
            <a:off x="6732720" y="2276640"/>
            <a:ext cx="1992240" cy="34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38BE476D"/>
          <p:cNvPicPr/>
          <p:nvPr/>
        </p:nvPicPr>
        <p:blipFill>
          <a:blip r:embed="rId6"/>
          <a:stretch/>
        </p:blipFill>
        <p:spPr>
          <a:xfrm>
            <a:off x="468360" y="1916280"/>
            <a:ext cx="2158920" cy="3960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5"/>
          <p:cNvSpPr/>
          <p:nvPr/>
        </p:nvSpPr>
        <p:spPr>
          <a:xfrm>
            <a:off x="324000" y="5743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суд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во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3419640" y="53478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л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ра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6367320" y="5738400"/>
            <a:ext cx="27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тляр дл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рк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C11BC984"/>
          <p:cNvPicPr/>
          <p:nvPr/>
        </p:nvPicPr>
        <p:blipFill>
          <a:blip r:embed="rId7"/>
          <a:stretch/>
        </p:blipFill>
        <p:spPr>
          <a:xfrm>
            <a:off x="3419640" y="2205000"/>
            <a:ext cx="2920680" cy="36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662F257"/>
          <p:cNvPicPr/>
          <p:nvPr/>
        </p:nvPicPr>
        <p:blipFill>
          <a:blip r:embed="rId8"/>
          <a:stretch/>
        </p:blipFill>
        <p:spPr>
          <a:xfrm>
            <a:off x="6877080" y="1916280"/>
            <a:ext cx="205092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9"/>
          <p:cNvSpPr/>
          <p:nvPr/>
        </p:nvSpPr>
        <p:spPr>
          <a:xfrm>
            <a:off x="324000" y="59698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олотая серь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348000" y="594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ктора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раона Тутанхам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6948360" y="59349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ве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3440" y="0"/>
            <a:ext cx="9217080" cy="6858000"/>
          </a:xfrm>
          <a:prstGeom prst="rect">
            <a:avLst/>
          </a:prstGeom>
          <a:gradFill rotWithShape="0">
            <a:gsLst>
              <a:gs pos="0">
                <a:srgbClr val="515635"/>
              </a:gs>
              <a:gs pos="100000">
                <a:srgbClr val="afb97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332000" y="3500280"/>
            <a:ext cx="144360" cy="10796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900000" y="3357720"/>
            <a:ext cx="100800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971640" y="2637000"/>
            <a:ext cx="863640" cy="718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1187280" y="2781360"/>
            <a:ext cx="432000" cy="4334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8101080" y="2637000"/>
            <a:ext cx="142920" cy="1728720"/>
          </a:xfrm>
          <a:prstGeom prst="rect">
            <a:avLst/>
          </a:prstGeom>
          <a:solidFill>
            <a:srgbClr val="79b9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3"/>
          <p:cNvSpPr/>
          <p:nvPr/>
        </p:nvSpPr>
        <p:spPr>
          <a:xfrm>
            <a:off x="7740720" y="4365720"/>
            <a:ext cx="863640" cy="142920"/>
          </a:xfrm>
          <a:custGeom>
            <a:avLst/>
            <a:gdLst/>
            <a:ahLst/>
            <a:rect l="l" t="t" r="r" b="b"/>
            <a:pathLst>
              <a:path w="544" h="90">
                <a:moveTo>
                  <a:pt x="272" y="0"/>
                </a:moveTo>
                <a:lnTo>
                  <a:pt x="0" y="0"/>
                </a:lnTo>
                <a:lnTo>
                  <a:pt x="45" y="90"/>
                </a:lnTo>
                <a:lnTo>
                  <a:pt x="136" y="90"/>
                </a:lnTo>
                <a:lnTo>
                  <a:pt x="91" y="45"/>
                </a:lnTo>
                <a:lnTo>
                  <a:pt x="453" y="45"/>
                </a:lnTo>
                <a:lnTo>
                  <a:pt x="408" y="90"/>
                </a:lnTo>
                <a:lnTo>
                  <a:pt x="499" y="90"/>
                </a:lnTo>
                <a:lnTo>
                  <a:pt x="544" y="0"/>
                </a:lnTo>
                <a:lnTo>
                  <a:pt x="272" y="0"/>
                </a:lnTo>
                <a:close/>
              </a:path>
            </a:pathLst>
          </a:custGeom>
          <a:solidFill>
            <a:srgbClr val="79b9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81"/>
          <p:cNvSpPr/>
          <p:nvPr/>
        </p:nvSpPr>
        <p:spPr>
          <a:xfrm>
            <a:off x="7812000" y="2637000"/>
            <a:ext cx="289080" cy="360360"/>
          </a:xfrm>
          <a:custGeom>
            <a:avLst/>
            <a:gdLst/>
            <a:ahLst/>
            <a:rect l="l" t="t" r="r" b="b"/>
            <a:pathLst>
              <a:path w="182" h="227">
                <a:moveTo>
                  <a:pt x="182" y="0"/>
                </a:moveTo>
                <a:lnTo>
                  <a:pt x="0" y="181"/>
                </a:lnTo>
                <a:lnTo>
                  <a:pt x="46" y="227"/>
                </a:lnTo>
                <a:lnTo>
                  <a:pt x="182" y="91"/>
                </a:lnTo>
                <a:lnTo>
                  <a:pt x="182" y="0"/>
                </a:lnTo>
                <a:close/>
              </a:path>
            </a:pathLst>
          </a:custGeom>
          <a:solidFill>
            <a:srgbClr val="79b9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2"/>
          <p:cNvSpPr/>
          <p:nvPr/>
        </p:nvSpPr>
        <p:spPr>
          <a:xfrm>
            <a:off x="395280" y="4672080"/>
            <a:ext cx="929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Знак жизни.                                                                                                   Знак си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86"/>
          <p:cNvSpPr txBox="1"/>
          <p:nvPr/>
        </p:nvSpPr>
        <p:spPr>
          <a:xfrm>
            <a:off x="1258920" y="549360"/>
            <a:ext cx="6697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евнеегипетская символика.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89" descr="ABD2E781"/>
          <p:cNvPicPr/>
          <p:nvPr/>
        </p:nvPicPr>
        <p:blipFill>
          <a:blip r:embed="rId3"/>
          <a:stretch/>
        </p:blipFill>
        <p:spPr>
          <a:xfrm>
            <a:off x="2987640" y="1916280"/>
            <a:ext cx="3384720" cy="3168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0"/>
          <p:cNvSpPr/>
          <p:nvPr/>
        </p:nvSpPr>
        <p:spPr>
          <a:xfrm>
            <a:off x="3492360" y="573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Глаз – Уаджет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3" descr="CF188373"/>
          <p:cNvPicPr/>
          <p:nvPr/>
        </p:nvPicPr>
        <p:blipFill>
          <a:blip r:embed="rId4"/>
          <a:stretch/>
        </p:blipFill>
        <p:spPr>
          <a:xfrm>
            <a:off x="2987640" y="1916280"/>
            <a:ext cx="338472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4"/>
          <p:cNvSpPr/>
          <p:nvPr/>
        </p:nvSpPr>
        <p:spPr>
          <a:xfrm>
            <a:off x="3132000" y="519948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Лотос – символ плодород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ечной жизни, процве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8" descr="678BBB3A"/>
          <p:cNvPicPr/>
          <p:nvPr/>
        </p:nvPicPr>
        <p:blipFill>
          <a:blip r:embed="rId5"/>
          <a:stretch/>
        </p:blipFill>
        <p:spPr>
          <a:xfrm>
            <a:off x="2700360" y="2060640"/>
            <a:ext cx="3887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55d38"/>
              </a:gs>
              <a:gs pos="100000">
                <a:srgbClr val="b8c97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D44D2E24"/>
          <p:cNvPicPr/>
          <p:nvPr/>
        </p:nvPicPr>
        <p:blipFill>
          <a:blip r:embed="rId1"/>
          <a:stretch/>
        </p:blipFill>
        <p:spPr>
          <a:xfrm>
            <a:off x="4859280" y="1268280"/>
            <a:ext cx="3606840" cy="35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3781CBD2"/>
          <p:cNvPicPr/>
          <p:nvPr/>
        </p:nvPicPr>
        <p:blipFill>
          <a:blip r:embed="rId2"/>
          <a:stretch/>
        </p:blipFill>
        <p:spPr>
          <a:xfrm>
            <a:off x="2700360" y="5084640"/>
            <a:ext cx="3751200" cy="1582920"/>
          </a:xfrm>
          <a:prstGeom prst="rect">
            <a:avLst/>
          </a:prstGeom>
          <a:ln w="0">
            <a:noFill/>
          </a:ln>
        </p:spPr>
      </p:pic>
      <p:sp>
        <p:nvSpPr>
          <p:cNvPr id="129" name="WordArt 8"/>
          <p:cNvSpPr txBox="1"/>
          <p:nvPr/>
        </p:nvSpPr>
        <p:spPr>
          <a:xfrm>
            <a:off x="324000" y="404640"/>
            <a:ext cx="8632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рагменты древнеегипетского орнамента.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5" descr="B1B2F26"/>
          <p:cNvPicPr/>
          <p:nvPr/>
        </p:nvPicPr>
        <p:blipFill>
          <a:blip r:embed="rId5"/>
          <a:stretch/>
        </p:blipFill>
        <p:spPr>
          <a:xfrm>
            <a:off x="684360" y="1341360"/>
            <a:ext cx="3779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76a4c"/>
              </a:gs>
              <a:gs pos="100000">
                <a:srgbClr val="dfe5a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имвол сол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имвол лу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имвол воскресения природы и её плодоро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имвол неба и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042920" y="549360"/>
            <a:ext cx="69850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волическое значение цвета.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755640" y="1700280"/>
            <a:ext cx="1224000" cy="865080"/>
          </a:xfrm>
          <a:prstGeom prst="ellipse">
            <a:avLst/>
          </a:prstGeom>
          <a:solidFill>
            <a:srgbClr val="f7e7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755640" y="2852640"/>
            <a:ext cx="12240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755640" y="4076640"/>
            <a:ext cx="1224000" cy="914400"/>
          </a:xfrm>
          <a:prstGeom prst="ellipse">
            <a:avLst/>
          </a:prstGeom>
          <a:solidFill>
            <a:srgbClr val="37d5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755640" y="5300640"/>
            <a:ext cx="1224000" cy="914400"/>
          </a:xfrm>
          <a:prstGeom prst="ellipse">
            <a:avLst/>
          </a:prstGeom>
          <a:solidFill>
            <a:srgbClr val="4e4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36:22Z</dcterms:created>
  <dc:creator>коля</dc:creator>
  <dc:description/>
  <dc:language>en-US</dc:language>
  <cp:lastModifiedBy>Сиета</cp:lastModifiedBy>
  <dcterms:modified xsi:type="dcterms:W3CDTF">2014-11-02T22:45:52Z</dcterms:modified>
  <cp:revision>31</cp:revision>
  <dc:subject/>
  <dc:title>Слайд 1</dc:title>
</cp:coreProperties>
</file>