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7A4-2F89-44E2-884E-F1B7B7984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96;&#1080;&#1085;,_&#1042;&#1072;&#1089;&#1080;&#1083;&#1080;&#1081;_&#1060;&#1105;&#1076;&#1086;&#1088;&#1086;&#1074;&#1080;&#1095;_%28&#1087;&#1088;&#1077;&#1076;&#1087;&#1088;&#1080;&#1085;&#1080;&#1084;&#1072;&#1090;&#1077;&#1083;&#1100;%29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candynet.ru/companies/id/359" TargetMode="External"/><Relationship Id="rId2" Type="http://schemas.openxmlformats.org/officeDocument/2006/relationships/hyperlink" Target="http://candynet.ru/companies/id/359" TargetMode="External"/><Relationship Id="rId3" Type="http://schemas.openxmlformats.org/officeDocument/2006/relationships/hyperlink" Target="http://candynet.ru/companies/id/359" TargetMode="External"/><Relationship Id="rId4" Type="http://schemas.openxmlformats.org/officeDocument/2006/relationships/slide" Target="../slides/slide17.xml"/><Relationship Id="rId5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 в том, что в Царицыне-Сталинграде-Волгограде раньше жил один известный предприниматель и меценат, один из отцов-основателей города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асилий Фёдорович Лапши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И не смотря на то, что он проложил в городе первый водопровод, основал фабрику Конфил, мебельную фабрику, пароходство, разбил Лапшин-сад на Горной Поляне (который сейчас усиленно застраиваются постройками коммерческого характера), построил церковь св. Параскевы-Пят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лгоградской области истинный шоколад производится на фабрике «Конфил», которая является дипломантом знака «Волгоградское качество». На производстве не применяются консерванты, ГМО и другие химические добавки по продлению срока годности и интенсификации вкуса, вся продукция выпускается строго согласно ГОСТу с использованием только натурального сыр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уверены в качестве используемого сырья: на оборудовании немецкого производства осуществляется первичная переработка какао-бобов, в результате чего на предприятии получают какао-масло, какао тертое, какао-порошок; благодаря итальянской линии по переработке всех видов ореха в производстве используются только свежеобработанные орехи, дающие возможность получить продукцию с ярко выраженным свежим ореховым вку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 ЗАОр «НП Конфил»  внедрена и успешно функционирует система менеджмента качества, сертифицированная международным сертификационным органом BVQI на соответствие требованиям ISO 9001. Внедренная на предприятии система менеджмента качества и наличие международного сертификата  является  подтверждением того, что система управления на предприятии  соответствует международным требованиям, и продукция конкурентоспособна и безопасна для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2  год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р "НП Конфил" приняло участие в третьей Российско-германской предрождественской ярма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ечение трех дней волгоградцы имели возможность посетить III Российско-германскую предрождественскую ярмарку. В красочном городке, разместившемся на территории Городского сада, были открыты торговые ряды, творческие мастерские, аттракционы и кафе. Украшением ярмарки стали концерты, конкурсы и викторины, в которых мог принять участие любой желающ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ители праздника — Правительство Волгоградской области, посольство Федеративной Республики Германии в РФ, а идейными вдохновителями выступили лучший пекарь Европы Эберхард Хольц (Германия) и ректор Волгоградского государственного аграрного университета Алексей Овчи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и событиями ярмарки стал флешмоб Дедов Морозов и выкладывание самой длинной в мире шоколадной дороги из шоколадных плиток.  В создании шоколадной дороги участвовали 12 немецких шоколатье, 20 студентов и 8 волгоградских кондитеров-профессионалов. На создание дороги ушло почти 4 тысячи шоколадных плиток производства волгоградского предприятия «КОНФИЛ» и 7,5 тысяч сладких фигурок, изготовленных на мануфактуре «Хольц Бекерай» (Германия). Длина сладкой дороги составила свыше 200 метров, что является мировым рекор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нению Эберхарда Хольца, это единственная в мире сладкая дорога, которая ведет к сердцу волгоград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абрика «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нфил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ходящая в число двадцати крупнейших кондитерских предприятий России, начала выпуск конфет, зефира и шоколада с изображением героев мультсериа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Летающие звери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упаков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ъем продаж фабрики - около 20 000 тонн при ассортименте более 300 наименований, изготовленных из качественного сырья согласно всем стандартам ГОСТа. В этом году фабрика «Конфил» заключила договор с благотворительным фондом «Помогать легко» и его проектом «Летающие звери» о запуске продукции с героями мультсериала. Часть денег, вырученных с продаж продукции под брендом «Летающие звери» пойдут в фонд на покупку лекарств детям с онкологическими заболев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в первые недели продаж (производство стартовало в октябре 2013-го года) конфеты, зефир и шоколад от «Летающих зверей» пользуются большим спр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етающие звери» - первый в России благотворительный медиа-бренд: мультсериал, вся прибыль от продаж которого идет на лечение детей от 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етающие звери» - это легкий вариант благотворительности. Помогать легко. Легко фактически: просто покупая любую вещь бренда «Летающие звери», вы одновременно делаете доброе дело, участвуете в спасении жизни. И легко эмоционально: вместо устрашающей информации или чувства жалости добрые мультфильмы и хорошее настроение. Благотворительный медиа-бренд «Летающие звери» - это новый механизм решения соци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региона выразил надежду на то, что «конфиловцы» удивят жителей и гостей Волгограда сладкими новинками, которые порадуют гостей и участников игр Чемпионата мира по футболу 2018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работать возможности для расширения рынков сбыта волгоградской кондитерской продукции - такую задачу врио главы региона Андрей Бочаров поставил региональному Минпромторгу по итогам встречи с руководством и коллективом народного предприятия «КОНФИЛ». «Качественные волгоградские товары необходимо шире представлять и в торговых сетях, в том числе, крупных, и в районах области», - подчеркнул Андрей Бочаров. Кроме того, он дал задание разработать с участием местных предприятий варианты сувениров с использованием местной продукции для гостей предстоящего в 2018 году чемпионата мира по футбол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брике «Конфил» глава региона осмотрел все основные цеха, где производятся известные всем волгоградцам конфеты, зефир и другие сладости. Руководитель предприятия Ольга Цубенко рассказала Андрею Бочарову о том, что только 43 процента продукции «Конфил» реализуется сегодня на территории Волгоградской области - еще 46 процентов поставляется в другие регионы страны и 11 процентов идет на экспорт - в Азербайджан, Болгарию, Германию, Таджикистан, Туркменистан и Эстонию. В настоящее время волгоградская фабрика является крупнейшей в Нижнем Поволжье и входит в число двадцати главных кондитерских предприятий страны. Работа «Конфила» по итогам 2013 года принесла свыше 260 миллионов рублей налогов. На фабрике трудится более 800 человек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пшин и 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тория предприятия началась более 126 лет назад, когда в 1887 году царицынский купец Василий Федорович Лапшин основал кондитерское и пряничное заведение "Лапшин и Ко" под вывеской "Карамель, монпансье и печенье фабрики Лапшин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 выполнялись вручную, а численность рабочих составляла 74 человека. Продукция находила свой сбыт в регионах Нижнего Поволжья и Дона, а также закупалась государственными объединениями, Среднеазиатскими эмиратами - Кокандскими и Бухарскими, княжествами Закавказ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, где когда-то располагался особняк Лапшин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1917 по 1925 годы производство Лапшина было национализировано и переименовано в Царицынский рабочий кооператив пищевиков, а в 1924 году фабрике присвоено им. В.И. Лени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ытанием для коллектива предприятия стала Великая Отечественная война. Технология производства ускоренными темпами была перестроена для выпуска продукции, необходимой фронту и армии. Вместо выпечки пряников, стали выпускать галеты, вместо конфет - концентраты. Был момент, когда ожесточенные бои в городе Сталинграде на несколько месяцев прерывали труд коллектива кондитеров, а к моменту окончания Сталинградской битвы Сталинградская кондитерская фабрика им. В.И. Ленина была почти полностью разруше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нако всего через три месяца после освобождения города от фашистов - в мае 1943 года, фабрика возобновила производство галет для нужд фронта. Люди работали при коптилках, воду носили из родников ведрами, топливо собирали в развалинах домов, но до конца 1943 года выработали 270 тонн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апреле 1944 года приказом № 19 Наркома пищевой промышленности РСФСР принято решение о восстановлении Сталинградской кондитерской фабрики им. В.И. Лени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вое серьезное техническое оснащение и реконструкция была начата в начале 1950 годов и уже к 1952 году был достигнут довоенный уровень производства кондитерских издел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торой этап технического переоснащения, увеличения объемов производства начался в 1966 году и продолжается по настоящий д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 годы своего развития "Конфил" превратился в высокомеханизированное предприятие, специализирующееся на производстве широкого ассортимента карамели, конфет, мармелада, зефира, шоколада и вафел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9 декабря 1992 года кондитерская фабрика им. В.И. Ленина стала акционерным обществом открытого типа АООТ "Фирма "КОНФИЛ", а 22 февраля 1999 года АООТ "Фирма "КОНФИЛ" было преобразовано в Закрытое акционерное общество работников "Народное предприятие "КОНФИЛ" (далее ЗАОр «НП Конфил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настоящее время ЗАОр "НП "Конфил" является крупнейшим в Нижнем Поволжье кондитерским предприятием и входит в число двадцати крупнейших кондитерских фабрик России. Годовой объем продаж предприятия составляет около 12000 тонн при ассортименте более 300 наименований кондитерских издел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обой заботой руководства предприятия является повышение конкурентоспособности всего ассортимента кондитерских изделий за счёт повышения технического уровня производства, тщательного отбора источников сырья, совершенствования технологий и управления производственными процессами, оптимизации ассортиментного ряд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дукция фабрики пользуется спросом во многих регионах РФ и странах Ближнего Зарубежья. Наших партнёров привлекает высокая конкурентоспособность ассортимента, достигаемая за счёт очень высокого уровня качества кондитерских изделий, красочной упаковки, универсальности и широты ассортимен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идерами продаж по праву можно назвать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амель «Варенька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амель «Васятка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амель «Волгоградская птаха сгущенка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еты «Отражение люкс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еты «Дивная ласточка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еты «Ясный месяц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ефир «Ванильный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еты «Жаркое лето с халвой»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также бренды, известные не только в России, но за ее пределам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н-Батюшк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ил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ксинь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филочк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енными преимуществами продукции ЗАОр «НП Конфил» на современном кондитерском рынке являются следующие фактор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пуск продукции только в соответствии с требованиями ГОС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пользование в производстве только натурального сырья, без применения консервантов и ГМИ (генетически модифицированных ингредиентов). Применение консервантов и других химических добавок по продлению срока годности и интенсификации вкуса на производстве ЗАОр «НП Конфил» исключено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вичная переработка какао-бобов и всех видов ореха, т.к. только использование в производстве свежеобработанных орехов дает возможность получить продукцию с ярко выраженным свежим ореховым вкусо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обеспечения устойчивого качества продукции на предприятии осуществляется лабораторный контроль, начиная от приемки сырья и заканчивая готовой продукцией. Предприятие имеет собственную микробиологическую лабораторию, которая до сегодняшнего дня не является обязательным требованием для кондитерской промышленност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дукция ЗАОр «НП Конфил» любима потребителями за высокое качество кондитерской продукции, подтвержденное наградами российских и международных выставок, многолетний опыт предприятия и более вековую истор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F4F-33AA-4877-AEAE-24AFFD98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455-7729-48BD-B08D-77E189A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5D1-C5D1-483F-891D-51361296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627-4EB4-470B-9D54-A50ADA9E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E4-92B0-4A19-AAD1-99E91B09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5BC-BB02-439A-AA1B-ABC9D93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AE5-596C-4A54-9874-D46A2469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E95-0E0B-4595-AA6B-ABCF666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0F7-8B20-4A1E-9791-6849882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678-61ED-4462-A48B-E947188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92B-F3FF-4655-9342-7FD451B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F80-8E7D-4668-A711-BD8D2C8D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5031-DFED-4605-8CEC-5ABB40D3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&amp;Vcy; &amp;Vcy;&amp;ocy;&amp;lcy;&amp;gcy;&amp;ocy;&amp;gcy;&amp;rcy;&amp;acy;&amp;dcy;&amp;iecy; &amp;scy;&amp;gcy;&amp;ocy;&amp;rcy;&amp;iecy;&amp;lcy; &amp;scy;&amp;kcy;&amp;lcy;&amp;acy;&amp;dcy; &quot;&amp;Kcy;&amp;ocy;&amp;ncy;&amp;fcy;&amp;icy;&amp;lcy;&amp;acy;&quot; - &amp;Icy;&amp;ncy;&amp;fcy;&amp;ocy;&amp;rcy;&amp;mcy;&amp;acy;&amp;tscy;&amp;icy;&amp;ocy;&amp;ncy;&amp;ncy;&amp;ycy;&amp;jcy; &amp;scy;&amp;acy;&amp;jcy;&amp;tcy; &amp;gcy;&amp;ocy;&amp;rcy;&amp;ocy;&amp;dcy;&amp;acy; &amp;Vcy;&amp;ocy;&amp;lcy;&amp;zhcy;&amp;scy;&amp;kcy;&amp;icy;&amp;jcy;"/>
          <p:cNvPicPr/>
          <p:nvPr/>
        </p:nvPicPr>
        <p:blipFill>
          <a:blip r:embed="rId1"/>
          <a:stretch/>
        </p:blipFill>
        <p:spPr>
          <a:xfrm>
            <a:off x="179280" y="260280"/>
            <a:ext cx="4249800" cy="282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&amp;Tcy;&amp;iecy;&amp;ncy;&amp;dcy;&amp;iecy;&amp;ncy;&amp;tscy;&amp;icy;&amp;icy;. &amp;Vcy;&amp;ocy;&amp;zcy;&amp;vcy;&amp;rcy;&amp;acy;&amp;shchcy;&amp;iecy;&amp;ncy;&amp;icy;&amp;iecy; &amp;acy;&amp;rcy;&amp;tcy;&amp;iecy;&amp;lcy;&amp;icy;"/>
          <p:cNvPicPr/>
          <p:nvPr/>
        </p:nvPicPr>
        <p:blipFill>
          <a:blip r:embed="rId2"/>
          <a:stretch/>
        </p:blipFill>
        <p:spPr>
          <a:xfrm>
            <a:off x="4427640" y="3573360"/>
            <a:ext cx="3619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&amp;SHcy;&amp;ocy;&amp;kcy;&amp;ocy;&amp;lcy;&amp;acy;&amp;dcy; &amp;scy; &amp;ncy;&amp;acy;&amp;chcy;&amp;icy;&amp;ncy;&amp;kcy;&amp;ocy;&amp;jcy; 50 &amp;gcy;&amp;rcy;&amp;acy;&amp;mcy;&amp;mcy;&amp;ocy;&amp;vcy;&amp;ycy;&amp;jcy;"/>
          <p:cNvPicPr/>
          <p:nvPr/>
        </p:nvPicPr>
        <p:blipFill>
          <a:blip r:embed="rId1"/>
          <a:stretch/>
        </p:blipFill>
        <p:spPr>
          <a:xfrm>
            <a:off x="250920" y="1916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Ocy;&amp;tcy;&amp;zcy;&amp;ycy;&amp;vcy; &amp;ocy; &amp;Kcy;&amp;ocy;&amp;ncy;&amp;fcy;&amp;iecy;&amp;tcy;&amp;ycy; &amp;Kcy;&amp;ocy;&amp;ncy;&amp;fcy;&amp;icy;&amp;lcy; &quot;&amp;Ocy;&amp;tcy;&amp;rcy;&amp;acy;&amp;zhcy;&amp;iecy;&amp;ncy;&amp;icy;&amp;iecy; &amp;lcy;&amp;yucy;&amp;kcy;&amp;scy;&quot; &amp;Ocy;&amp;chcy;&amp;iecy;&amp;ncy;&amp;softcy; &amp;vcy;&amp;kcy;&amp;ucy;&amp;scy;&amp;ncy;&amp;ycy;&amp;iecy; &amp;kcy;&amp;ocy;&amp;ncy;&amp;fcy;&amp;iecy;&amp;tcy;&amp;ycy;!"/>
          <p:cNvPicPr/>
          <p:nvPr/>
        </p:nvPicPr>
        <p:blipFill>
          <a:blip r:embed="rId2"/>
          <a:stretch/>
        </p:blipFill>
        <p:spPr>
          <a:xfrm>
            <a:off x="0" y="-17136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&amp;Kcy;&amp;Fcy; &quot;&amp;Kcy;&amp;ocy;&amp;ncy;&amp;fcy;&amp;icy;&amp;lcy;&quot; &amp;pcy;&amp;rcy;&amp;icy;&amp;scy;&amp;tcy;&amp;ucy;&amp;pcy;&amp;icy;&amp;lcy;&amp;acy; &amp;kcy; &amp;vcy;&amp;ycy;&amp;pcy;&amp;ucy;&amp;scy;&amp;kcy;&amp;ucy; &amp;ncy;&amp;ocy;&amp;vcy;&amp;ycy;&amp;khcy; &amp;kcy;&amp;ocy;&amp;ncy;&amp;fcy;&amp;iecy;&amp;tcy; &quot;&amp;Tcy;&amp;acy;&amp;ncy;&amp;iecy;&amp;tscy; &amp;Fcy;&amp;lcy;&amp;acy;&amp;mcy;&amp;icy;&amp;ncy;&amp;gcy;&amp;ocy;&quot; - &amp;Ncy;&amp;ocy;&amp;vcy;&amp;ocy;&amp;scy;&amp;tcy;&amp;icy; &amp;Tcy;&amp;IEcy;&amp;Kcy;&amp;Ncy;&amp;Ocy;&amp;Icy;&amp;Tcy;&amp;Acy;&amp;Lcy;&amp;Icy;&amp;YAcy; &amp;Gcy;&amp;Rcy;&amp;Ucy;&amp;Pcy;"/>
          <p:cNvPicPr/>
          <p:nvPr/>
        </p:nvPicPr>
        <p:blipFill>
          <a:blip r:embed="rId3"/>
          <a:stretch/>
        </p:blipFill>
        <p:spPr>
          <a:xfrm>
            <a:off x="3059280" y="0"/>
            <a:ext cx="3960720" cy="255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Mcy;&amp;ocy;&amp;lcy;&amp;ocy;&amp;chcy;&amp;ncy;&amp;ycy;&amp;jcy; &amp;shcy;&amp;ocy;&amp;kcy;&amp;ocy;&amp;lcy;&amp;acy;&amp;dcy; &amp;Zcy;&amp;Acy;&amp;Ocy; &amp;Ncy;&amp;Pcy; &amp;Kcy;&amp;Ocy;&amp;Ncy;&amp;Fcy;&amp;Icy;&amp;Lcy; &amp;SHcy;&amp;ocy;&amp;kcy;&amp;ocy;&amp;lcy;&amp;acy;&amp;dcy; &amp;Acy;&amp;kcy;&amp;scy;&amp;icy;&amp;ncy;&amp;softcy;&amp;yacy; &amp;mcy;&amp;ocy;&amp;lcy;&amp;ocy;&amp;chcy;&amp;ncy;&amp;ycy;&amp;jcy; - &quot;&amp;Ocy;&amp;chcy;&amp;iecy;&amp;ncy;&amp;softcy; &amp;pcy;&amp;ocy;&amp;ncy;&amp;rcy;&amp;acy;&amp;vcy;&amp;icy;&amp;lcy;&amp;scy;&amp;yacy; &amp;shcy;&amp;ocy;&amp;kcy;&amp;ocy;&amp;lcy;&amp;acy;&amp;dcy;!&quot; &amp;Ocy;&amp;tcy;&amp;zcy;&amp;ycy;&amp;vcy;&amp;ycy; &amp;pcy;&amp;ocy;&amp;kcy;&amp;ucy;&amp;pcy;&amp;acy;&amp;tcy;&amp;iecy;&amp;lcy;&amp;iecy;&amp;jcy;"/>
          <p:cNvPicPr/>
          <p:nvPr/>
        </p:nvPicPr>
        <p:blipFill>
          <a:blip r:embed="rId4"/>
          <a:stretch/>
        </p:blipFill>
        <p:spPr>
          <a:xfrm>
            <a:off x="3203640" y="2565360"/>
            <a:ext cx="33130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quot;&amp;Bcy;&amp;rcy;&amp;icy;&amp;zcy;&amp;gcy;&quot; - &amp;Kcy;&amp;ocy;&amp;ncy;&amp;fcy;&amp;iecy;&amp;tcy;&amp;ycy; &amp;scy; &amp;mcy;&amp;ocy;&amp;lcy;&amp;ocy;&amp;chcy;&amp;ncy;&amp;ycy;&amp;mcy; &amp;kcy;&amp;ocy;&amp;rcy;&amp;pcy;&amp;ucy;&amp;scy;&amp;ocy;&amp;mcy;"/>
          <p:cNvPicPr/>
          <p:nvPr/>
        </p:nvPicPr>
        <p:blipFill>
          <a:blip r:embed="rId5"/>
          <a:stretch/>
        </p:blipFill>
        <p:spPr>
          <a:xfrm>
            <a:off x="179280" y="371628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&amp;Kcy;&amp;acy;&amp;kcy; &amp;vcy;&amp;ycy;&amp;bcy;&amp;rcy;&amp;acy;&amp;tcy;&amp;softcy; &amp;ncy;&amp;acy;&amp;scy;&amp;tcy;&amp;ocy;&amp;yacy;&amp;shchcy;&amp;icy;&amp;jcy; &amp;shcy;&amp;ocy;&amp;kcy;&amp;ocy;&amp;lcy;&amp;acy;&amp;dcy;"/>
          <p:cNvPicPr/>
          <p:nvPr/>
        </p:nvPicPr>
        <p:blipFill>
          <a:blip r:embed="rId1"/>
          <a:stretch/>
        </p:blipFill>
        <p:spPr>
          <a:xfrm>
            <a:off x="0" y="115920"/>
            <a:ext cx="4714920" cy="525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951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0_shokold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581931.JPE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11089689_07fa2e21ad925338fec7e14b718693f1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&amp;Kcy;&amp;ocy;&amp;mcy;&amp;pcy;&amp;acy;&amp;ncy;&amp;icy;&amp;yacy; &amp;Kcy;&amp;Ocy;&amp;Ncy;&amp;Fcy;&amp;Icy;&amp;Lcy; &amp;pcy;&amp;rcy;&amp;icy;&amp;ncy;&amp;icy;&amp;mcy;&amp;acy;&amp;iecy;&amp;tcy; &amp;zcy;&amp;acy;&amp;yacy;&amp;vcy;&amp;kcy;&amp;icy; &amp;ncy;&amp;acy; &amp;scy;&amp;lcy;&amp;acy;&amp;dcy;&amp;kcy;&amp;icy;&amp;iecy; &amp;ncy;&amp;ocy;&amp;vcy;&amp;ocy;&amp;gcy;&amp;ocy;&amp;dcy;&amp;ncy;&amp;icy;&amp;iecy; &amp;ncy;&amp;acy;&amp;bcy;&amp;ocy;&amp;rcy;&amp;ycy; - Candynet.ru"/>
          <p:cNvPicPr/>
          <p:nvPr/>
        </p:nvPicPr>
        <p:blipFill>
          <a:blip r:embed="rId1"/>
          <a:stretch/>
        </p:blipFill>
        <p:spPr>
          <a:xfrm>
            <a:off x="0" y="0"/>
            <a:ext cx="8964720" cy="34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Vcy;&amp;scy;&amp;iecy; &amp;dcy;&amp;lcy;&amp;yacy; &amp;Vcy;&amp;acy;&amp;scy; - &amp;ncy;&amp;ocy;&amp;vcy;&amp;ocy;&amp;scy;&amp;tcy;&amp;icy; &amp;Vcy;&amp;ocy;&amp;lcy;&amp;gcy;&amp;ocy;&amp;gcy;&amp;rcy;&amp;acy;&amp;dcy;&amp;acy; : &amp;Gcy;&amp;rcy;&amp;ucy;&amp;pcy;&amp;pcy;&amp;acy; &amp;dcy;&amp;lcy;&amp;yacy; &amp;bcy;&amp;icy;&amp;zcy;&amp;ncy;&amp;iecy;&amp;scy;&amp;acy;. &amp;Kcy;&amp;ocy;&amp;mcy;&amp;pcy;&amp;acy;&amp;ncy;&amp;icy;&amp;yacy;. &amp;Scy;&amp;Mcy;&amp;Icy; : &amp;Ocy;&amp;dcy;&amp;ncy;&amp;ocy;&amp;kcy;&amp;lcy;&amp;acy;&amp;scy;&amp;scy;&amp;ncy;&amp;icy;&amp;kcy;&amp;icy;"/>
          <p:cNvPicPr/>
          <p:nvPr/>
        </p:nvPicPr>
        <p:blipFill>
          <a:blip r:embed="rId2"/>
          <a:stretch/>
        </p:blipFill>
        <p:spPr>
          <a:xfrm>
            <a:off x="1763640" y="3645000"/>
            <a:ext cx="4734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http://img.candynet.ru/cache/e/d/konfil_choco.jpg/w800h500.jpg"/>
          <p:cNvPicPr/>
          <p:nvPr/>
        </p:nvPicPr>
        <p:blipFill>
          <a:blip r:embed="rId1"/>
          <a:stretch/>
        </p:blipFill>
        <p:spPr>
          <a:xfrm>
            <a:off x="539640" y="301680"/>
            <a:ext cx="828036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&amp;Zcy;&amp;iecy;&amp;fcy;&amp;icy;&amp;rcy; &amp;icy; &amp;kcy;&amp;ocy;&amp;ncy;&amp;fcy;&amp;iecy;&amp;tcy;&amp;ycy; &amp;Lcy;&amp;iecy;&amp;tcy;&amp;acy;&amp;yucy;&amp;shchcy;&amp;icy;&amp;iecy; &amp;zcy;&amp;vcy;&amp;iecy;&amp;rcy;&amp;icy; (&amp;kcy;&amp;ocy;&amp;ncy;&amp;dcy;&amp;icy;&amp;tcy;&amp;iecy;&amp;rcy;&amp;scy;&amp;kcy;&amp;acy;&amp;yacy; &amp;fcy;&amp;acy;&amp;bcy;&amp;rcy;&amp;icy;&amp;kcy;&amp;acy; &amp;Kcy;&amp;ocy;&amp;ncy;&amp;fcy;&amp;icy;&amp;lcy;, &amp;Vcy;&amp;ocy;&amp;lcy;&amp;gcy;&amp;ocy;&amp;gcy;&amp;rcy;&amp;acy;&amp;dcy;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http://img.candynet.ru/cache/c/0/konfil_sbyt.jpg/w800h500.jpg"/>
          <p:cNvPicPr/>
          <p:nvPr/>
        </p:nvPicPr>
        <p:blipFill>
          <a:blip r:embed="rId1"/>
          <a:stretch/>
        </p:blipFill>
        <p:spPr>
          <a:xfrm>
            <a:off x="155520" y="46080"/>
            <a:ext cx="3911760" cy="273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88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&amp;Lcy;&amp;acy;&amp;pcy;&amp;shcy;&amp;icy;&amp;ncy;"/>
          <p:cNvPicPr/>
          <p:nvPr/>
        </p:nvPicPr>
        <p:blipFill>
          <a:blip r:embed="rId1"/>
          <a:stretch/>
        </p:blipFill>
        <p:spPr>
          <a:xfrm>
            <a:off x="2484360" y="907920"/>
            <a:ext cx="34671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&amp;tscy;&amp;iecy;&amp;rcy;&amp;kcy;&amp;ocy;&amp;vcy;&amp;softcy;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ocy;&amp;scy;&amp;ocy;&amp;bcy;&amp;ncy;&amp;yacy;&amp;k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ttp://volgograd-times.ru/material_photos/0056/1521/0_medium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Rcy;&amp;iecy;&amp;kcy;&amp;lcy;&amp;acy;&amp;mcy;&amp;acy; &amp;vcy; &amp;Vcy;&amp;ocy;&amp;lcy;&amp;gcy;&amp;ocy;&amp;gcy;&amp;rcy;&amp;acy;&amp;dcy;&amp;iecy; - &amp;Kcy;&amp;ocy;&amp;ncy;&amp;fcy;&amp;icy;&amp;lcy;"/>
          <p:cNvPicPr/>
          <p:nvPr/>
        </p:nvPicPr>
        <p:blipFill>
          <a:blip r:embed="rId1"/>
          <a:stretch/>
        </p:blipFill>
        <p:spPr>
          <a:xfrm>
            <a:off x="179280" y="0"/>
            <a:ext cx="4105440" cy="308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Ocy;&amp;bcy;&amp;rcy;&amp;acy;&amp;zcy;&amp;iecy;&amp;tscy; &amp;pcy;&amp;ocy;&amp;rcy;&amp;tcy;&amp;fcy;&amp;ocy;&amp;lcy;&amp;icy;&amp;ocy; - BTL - &amp;Pcy;&amp;rcy;&amp;ocy;&amp;dcy;&amp;vcy;&amp;icy;&amp;zhcy;&amp;iecy;&amp;ncy;&amp;icy;&amp;iecy; &amp;ncy;&amp;ocy;&amp;vcy;&amp;ocy;&amp;jcy; &amp;tcy;&amp;ocy;&amp;rcy;&amp;gcy;&amp;ocy;&amp;vcy;&amp;ocy;&amp;jcy; &amp;mcy;&amp;acy;&amp;rcy;&amp;kcy;&amp;icy; - &amp;Gcy;&amp;lcy;&amp;acy;&amp;vcy;&amp;ncy;&amp;acy;&amp;yacy; / &amp;Ecy;&amp;kcy;&amp;scy;&amp;pcy;&amp;iecy;&amp;rcy;&amp;tcy; / &amp;Pcy;&amp;ocy;&amp;rcy;&amp;tcy;&amp;fcy;&amp;ocy;&amp;lcy;&amp;icy;&amp;ocy;"/>
          <p:cNvPicPr/>
          <p:nvPr/>
        </p:nvPicPr>
        <p:blipFill>
          <a:blip r:embed="rId2"/>
          <a:stretch/>
        </p:blipFill>
        <p:spPr>
          <a:xfrm>
            <a:off x="4211640" y="2978280"/>
            <a:ext cx="48052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http://img-fotki.yandex.ru/get/51/santaoka.2/0_f2ec_d93f4da5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04:32:01Z</dcterms:created>
  <dc:creator>Admin</dc:creator>
  <dc:description/>
  <dc:language>en-US</dc:language>
  <cp:lastModifiedBy>Admin</cp:lastModifiedBy>
  <dcterms:modified xsi:type="dcterms:W3CDTF">2014-11-03T15:52:10Z</dcterms:modified>
  <cp:revision>3</cp:revision>
  <dc:subject/>
  <dc:title>Слайд 1</dc:title>
</cp:coreProperties>
</file>