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A3B-D078-4EE0-8CC8-6CF02DEF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E75-A639-4461-A2C1-8137CFB1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9F2-0757-4F00-9097-507C41FF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B44-945B-458D-B9B9-14A716F8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2CB0-2358-4ED7-9093-1759A5CE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0653-5253-4FFF-BD66-E8AB8923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C466-531B-4EB9-9792-874A1319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9A61-6E54-4B13-B347-BBA12D94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9C36-1586-4740-9D6A-D9BB7EE7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DE08-D8A5-4F72-9B2B-A3536146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9866-FE05-4498-A510-194D8633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040-4143-408D-B05D-3BAF2D3A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F8D0-32CD-45BD-A3E5-EB247B9A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6B45-F727-4874-B1A2-0CB588C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F546-48E4-427A-B9F0-166A04D8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5432-B715-46E1-968D-AA767C7A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5335-E402-4417-BFFC-AFB142C1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254B7-7913-482A-9C52-D2A28176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BA32-3A97-47CD-AD90-4153CD0B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50DF-C758-4619-B658-B15FFC23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D900-54BB-4458-AEEC-F5248B9B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ED38-7EED-4D39-9382-B35671CB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AA6-D8E8-40A6-B018-B6006920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0786-7BEE-4F7E-9165-9ADD9E29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9FBA-1731-4ACA-8924-2C70E450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443D-DBA6-4777-A6A9-E560F67A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370D-726D-4825-92A7-EB09061A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488C-046E-4050-AA26-396021D7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55FA-4CD3-4ACD-B1A6-D3F0A2C9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574A-3245-44BD-84F2-447725AE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BB9A-0557-4E42-A08A-88C7D470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92F09-1C34-4322-B7A6-532996E5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42AC-C930-45D5-89E2-E590D283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44C-C244-4628-834E-88C5C272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59E2E-4E68-4893-94F0-6BA8E585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A2BA4-1920-4F02-A41F-1518F260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F5C5-C553-41D5-B6C0-9AD223EC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A5CC-8700-4F70-B661-AC2A05EA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80AD-6DBE-4236-AF55-B6C2C5F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E40A-5F18-480D-812F-9D29D10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5DEF-5391-4545-8227-7E42B606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F5F0-F9F5-4474-9F03-B299E52C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4A66-F264-456D-BD11-2A727350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7B2BA-6FF5-4AC8-B2D0-ED729B75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F18-B21E-458E-823F-E761DB06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955AE-5293-495A-B57E-493B7A0D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CB4C9-1C91-4562-9734-7DC24E0F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26C85-2030-4253-975F-C53C6A30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4C4B1-F2F2-44A5-A79A-38A7530A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9B63-EAA9-4EA4-ABC4-A44BEBC7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98AD-B8E7-4A37-B3C1-84B0F79C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CB2BE-F13B-4E03-8D07-54C2B47D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0AFC-5FB7-450E-82EB-69B4F0A7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800E5-0FA8-452D-8F65-B127A626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0DC36-434F-46A8-8325-25BAF19D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24F-420F-4419-8649-B2F5037B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A8330-6C14-4E3D-A99A-D45AD1FE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9888E-3D60-4270-A535-93B93630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6D627-3B19-41BA-9DAA-95EFEB53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BDA89-F73C-4D26-B5A8-766ABB33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FF2F1-B039-472C-AB0D-7194F8EB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EE6F5-A287-4219-BCA1-8B05E6F3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4AA73-E79D-4900-8DEC-8408896D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44F5D-2FC1-4FC9-A936-A8CE846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C5E38-92C5-44D1-B2C1-8882BBB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1C6CE-89C6-434A-8DCC-64EC16E6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B90-5415-4E27-B60A-99200E11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0A42-1AA9-4EC8-99CB-3BC80260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3739B-60F4-44BB-AB80-FA5599E6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E23D7-4968-479B-9524-05DECF47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E2F-3778-4DB5-BA74-2C8C3F9E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F6D-9668-41C7-936F-1D0A3591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9E06-AC93-479E-A7DC-CFDC956C675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C429-FD65-4742-AB2C-E9B557F8C98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530D-07F1-47A3-8F44-522264031FB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89AE-476A-469D-87A4-3ECBC77AC16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28DE-E246-4C96-A58A-B1425FD64DF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BF5C-7575-49B4-8E58-7B4EB531BD5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91;&#1088;&#1077;&#1085;&#1080;&#1077;" TargetMode="External"/><Relationship Id="rId2" Type="http://schemas.openxmlformats.org/officeDocument/2006/relationships/hyperlink" Target="http://ru.wikipedia.org/wiki/&#1044;&#1099;&#1084;" TargetMode="External"/><Relationship Id="rId3" Type="http://schemas.openxmlformats.org/officeDocument/2006/relationships/hyperlink" Target="http://ru.wikipedia.org/wiki/&#1057;&#1091;&#1096;&#1082;&#1072;" TargetMode="External"/><Relationship Id="rId4" Type="http://schemas.openxmlformats.org/officeDocument/2006/relationships/hyperlink" Target="http://ru.wikipedia.org/wiki/&#1051;&#1080;&#1089;&#1090;" TargetMode="External"/><Relationship Id="rId5" Type="http://schemas.openxmlformats.org/officeDocument/2006/relationships/hyperlink" Target="http://ru.wikipedia.org/wiki/&#1058;&#1072;&#1073;&#1072;&#1082;" TargetMode="External"/><Relationship Id="rId6" Type="http://schemas.openxmlformats.org/officeDocument/2006/relationships/hyperlink" Target="http://ru.wikipedia.org/wiki/&#1057;&#1080;&#1075;&#1072;&#1088;&#1077;&#1090;&#1072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52280" y="30240"/>
            <a:ext cx="9808920" cy="6619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28760" y="149976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C:\Users\Neo\Desktop\8818.jpg"/>
          <p:cNvPicPr/>
          <p:nvPr/>
        </p:nvPicPr>
        <p:blipFill>
          <a:blip r:embed="rId2"/>
          <a:stretch/>
        </p:blipFill>
        <p:spPr>
          <a:xfrm>
            <a:off x="4876920" y="2670120"/>
            <a:ext cx="4541760" cy="35784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285840" y="2071800"/>
            <a:ext cx="4572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ff"/>
                </a:solidFill>
                <a:latin typeface="Tahoma"/>
              </a:rPr>
              <a:t>Курение позволяет верить, что ты что-то делаешь, когда ты ничего не делаешь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лф Эмерсон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-2430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Влияние на ребёнк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360" y="499680"/>
            <a:ext cx="60721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исследованиях доказано, что у женщин, которые во время беременности регулярно выкуривают одну пачку сигарет в день или больше, рождаются дети с весом меньше, чем у некурящих матерей. Окись углерода, вдыхаемая в составе табачного дыма, попадает в кровь плода и снижает поглощение кислорода, приводя к выраженному кислородному голоданию. Другие последствия курения включают уменьшение кровотока, что мешает переносу жизненно необходимых питательных веществ от матери к ребён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C:\Users\Neo\Desktop\i.jpg"/>
          <p:cNvPicPr/>
          <p:nvPr/>
        </p:nvPicPr>
        <p:blipFill>
          <a:blip r:embed="rId1"/>
          <a:stretch/>
        </p:blipFill>
        <p:spPr>
          <a:xfrm>
            <a:off x="5529240" y="407880"/>
            <a:ext cx="3693960" cy="2756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baby"/>
          <p:cNvPicPr/>
          <p:nvPr/>
        </p:nvPicPr>
        <p:blipFill>
          <a:blip r:embed="rId2"/>
          <a:stretch/>
        </p:blipFill>
        <p:spPr>
          <a:xfrm>
            <a:off x="6006960" y="3357720"/>
            <a:ext cx="297972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Полость р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928440"/>
            <a:ext cx="5286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зык покрывается грязно – серым налё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убы желтеют, трескается зубная эмаль, появляется неприятный запах изо рта, тошнота и изж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лено, что никотин, действуя через кровь, и попадает в желудок со слюной, вызывает повышение кислотности желудочного сока почти в 2 – 2,5 ра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данным ВОЗ, среди курящих показатель смертности от рака органов полости рта, и пищевода в 4 раза выше, чем в группе некуря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9" descr="information_items_1190663903"/>
          <p:cNvPicPr/>
          <p:nvPr/>
        </p:nvPicPr>
        <p:blipFill>
          <a:blip r:embed="rId1"/>
          <a:stretch/>
        </p:blipFill>
        <p:spPr>
          <a:xfrm>
            <a:off x="5580000" y="2344680"/>
            <a:ext cx="2906640" cy="25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Мочевой пузырь( Рак мочевого пузыря )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-360" y="1285560"/>
            <a:ext cx="4429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к мочевого пузыря встречается в основном у курильщиков старше 40 лет. У мужчин риск в 4 раза выше, чем у женщин. Самый частый ранний симптом — появление крови в моче без боли или дискомфорт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Характерные симптом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ровь в моче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оль в области таза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трудненное мочеиспуска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Содержимое 5" descr="http://www.no-smoking.ru/idb/inhtml/1/nsm7.jpg"/>
          <p:cNvPicPr/>
          <p:nvPr/>
        </p:nvPicPr>
        <p:blipFill>
          <a:blip r:embed="rId1"/>
          <a:stretch/>
        </p:blipFill>
        <p:spPr>
          <a:xfrm>
            <a:off x="5072040" y="2000160"/>
            <a:ext cx="328608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Гортань (Рак пищевода)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2349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14200" y="928800"/>
            <a:ext cx="5143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урение может вызывать рак пищевода за счет повреждения клеток, расположенных внутри органа. Чем дольше курит человек, тем выше риск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Характерные симптомы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трудненное глотание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оль или дискомфорт в груди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худани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" descr="E:\Documents and Settings\Admin\Рабочий стол\1271183291_rrryiryos-rrsr1.jpg"/>
          <p:cNvPicPr/>
          <p:nvPr/>
        </p:nvPicPr>
        <p:blipFill>
          <a:blip r:embed="rId1"/>
          <a:stretch/>
        </p:blipFill>
        <p:spPr>
          <a:xfrm>
            <a:off x="5143680" y="2500200"/>
            <a:ext cx="383688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Туберкулёз лёгких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Picture 7" descr="дббь"/>
          <p:cNvPicPr/>
          <p:nvPr/>
        </p:nvPicPr>
        <p:blipFill>
          <a:blip r:embed="rId1"/>
          <a:stretch/>
        </p:blipFill>
        <p:spPr>
          <a:xfrm>
            <a:off x="4929120" y="1571760"/>
            <a:ext cx="3929040" cy="2474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smok"/>
          <p:cNvPicPr/>
          <p:nvPr/>
        </p:nvPicPr>
        <p:blipFill>
          <a:blip r:embed="rId2"/>
          <a:stretch/>
        </p:blipFill>
        <p:spPr>
          <a:xfrm>
            <a:off x="571680" y="1643040"/>
            <a:ext cx="3000240" cy="294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8760" y="4643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 100 случаев этого заболевания – 95%  курильщ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Влияние курения на нервную систему человека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4572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тин попадает в мозг через 7 секунд после первой затяж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ются головные боли, головокружения, ослабляется память. Компоненты табака не расслабляют, а просто «тормозят» центры мозга. Привыкнув к сигарете, человек без неё уже не может расслабиться. Получается замкнутый круг: и возникновение, и прекращение стресса зависят от ку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2" descr="E:\Documents and Settings\Admin\Рабочий стол\1240756769_25332.jpg"/>
          <p:cNvPicPr/>
          <p:nvPr/>
        </p:nvPicPr>
        <p:blipFill>
          <a:blip r:embed="rId1"/>
          <a:stretch/>
        </p:blipFill>
        <p:spPr>
          <a:xfrm>
            <a:off x="4916520" y="1000080"/>
            <a:ext cx="358452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Franklin Gothic Book"/>
              </a:rPr>
              <a:t>Влияние курения на кожу человека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360" y="856800"/>
            <a:ext cx="5357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ение вызывает сужение кровеносных сосудов в глубинных слоях кожи, это уменьшает приток крови, истощая содержание в ней кислорода и важных питательны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ение разрушает коллаген и эластичные волокна, которые дают коже упругость и эласти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добавок мимика во время курения как сжимание губ при вдыхании приводит к дополнительным морщи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871515936"/>
          <p:cNvPicPr/>
          <p:nvPr/>
        </p:nvPicPr>
        <p:blipFill>
          <a:blip r:embed="rId1"/>
          <a:stretch/>
        </p:blipFill>
        <p:spPr>
          <a:xfrm>
            <a:off x="5429160" y="1506600"/>
            <a:ext cx="3473640" cy="51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Franklin Gothic Book"/>
              </a:rPr>
              <a:t>Подведём итоги…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7" name="Рисунок 5" descr="E:\Documents and Settings\Admin\Рабочий стол\КАРИНЕ\картинки\59715161_1275290198_slide0008_image052.jpg"/>
          <p:cNvPicPr/>
          <p:nvPr/>
        </p:nvPicPr>
        <p:blipFill>
          <a:blip r:embed="rId1"/>
          <a:stretch/>
        </p:blipFill>
        <p:spPr>
          <a:xfrm>
            <a:off x="1643040" y="928800"/>
            <a:ext cx="600084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4" descr=""/>
          <p:cNvPicPr/>
          <p:nvPr/>
        </p:nvPicPr>
        <p:blipFill>
          <a:blip r:embed="rId1"/>
          <a:stretch/>
        </p:blipFill>
        <p:spPr>
          <a:xfrm>
            <a:off x="-103320" y="-176040"/>
            <a:ext cx="9344160" cy="359568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6" descr="к"/>
          <p:cNvPicPr/>
          <p:nvPr/>
        </p:nvPicPr>
        <p:blipFill>
          <a:blip r:embed="rId2"/>
          <a:stretch/>
        </p:blipFill>
        <p:spPr>
          <a:xfrm>
            <a:off x="2571840" y="3643200"/>
            <a:ext cx="385740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1" name="Picture 4" descr="E:\Documents and Settings\Admin\Рабочий стол\i.jpeg"/>
          <p:cNvPicPr/>
          <p:nvPr/>
        </p:nvPicPr>
        <p:blipFill>
          <a:blip r:embed="rId1"/>
          <a:stretch/>
        </p:blipFill>
        <p:spPr>
          <a:xfrm>
            <a:off x="285840" y="4143240"/>
            <a:ext cx="3332160" cy="25099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9"/>
          <p:cNvSpPr/>
          <p:nvPr/>
        </p:nvSpPr>
        <p:spPr>
          <a:xfrm>
            <a:off x="714240" y="178596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Даже самое лёгкое курево способно довести лёгкие до тяжких последствий…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Табакокурен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или просто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курени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) — вдыхание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дым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тлеющих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высушенных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ли обработанных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листьев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5"/>
              </a:rPr>
              <a:t>табак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наиболее часто в виде курения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6"/>
              </a:rPr>
              <a:t>сигарет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сигар, сигарилл или трубок. Люди курят из-за сформировавшейся наркотической зависимости (т. н. «вредной привычки»), для получения удовольствия или по социальным причинам (для общения, за «компанию», «потому что все курят», и т. д.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Рисунок 4" descr="http://upload.wikimedia.org/wikipedia/commons/thumb/5/56/Papierosa_1_ubt_0069.jpeg/220px-Papierosa_1_ubt_0069.jpeg"/>
          <p:cNvPicPr/>
          <p:nvPr/>
        </p:nvPicPr>
        <p:blipFill>
          <a:blip r:embed="rId7"/>
          <a:stretch/>
        </p:blipFill>
        <p:spPr>
          <a:xfrm>
            <a:off x="6143760" y="4572000"/>
            <a:ext cx="3000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Franklin Gothic Book"/>
              </a:rPr>
              <a:t>Россияне курят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Picture 2" descr="J:\картинки\72171.jpg"/>
          <p:cNvPicPr/>
          <p:nvPr/>
        </p:nvPicPr>
        <p:blipFill>
          <a:blip r:embed="rId1"/>
          <a:stretch/>
        </p:blipFill>
        <p:spPr>
          <a:xfrm>
            <a:off x="285840" y="928800"/>
            <a:ext cx="82868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Franklin Gothic Book"/>
              </a:rPr>
              <a:t>Состав сигар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329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2" descr="E:\Documents and Settings\Admin\Рабочий стол\КАРИНЕ\картинки\1261006060_1.jpg"/>
          <p:cNvPicPr/>
          <p:nvPr/>
        </p:nvPicPr>
        <p:blipFill>
          <a:blip r:embed="rId1"/>
          <a:stretch/>
        </p:blipFill>
        <p:spPr>
          <a:xfrm>
            <a:off x="500040" y="1357200"/>
            <a:ext cx="82868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Мозг (Инсульт)</a:t>
            </a: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2560" y="928800"/>
            <a:ext cx="9001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сульт возникает тогда, когда кровеносный сосуд, доставляющий в головной мозг кислород, закупоривается тромбом или другими частицами. Тромбоз церебральных сосудов — самая частая причина инсульта. Тромбоз означает формирование тромба из крови и нарушение кровоснабжения головного мозга. Другой тип инсульта возникает, когда пораженная болезнью артерия головного мозга (например, при аневризме) разрывается. Это явление называют кровоизлиянием в головной моз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Содержимое 5" descr="http://www.no-smoking.ru/idb/inhtml/1/nsm1.jpg"/>
          <p:cNvPicPr/>
          <p:nvPr/>
        </p:nvPicPr>
        <p:blipFill>
          <a:blip r:embed="rId1"/>
          <a:stretch/>
        </p:blipFill>
        <p:spPr>
          <a:xfrm>
            <a:off x="2286000" y="3571920"/>
            <a:ext cx="51436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Franklin Gothic Book"/>
              </a:rPr>
              <a:t>Сердце (Болезни сердца</a:t>
            </a:r>
            <a:r>
              <a:rPr b="0" lang="ru-RU" sz="4100" spc="-1" strike="noStrike">
                <a:solidFill>
                  <a:srgbClr val="ff0000"/>
                </a:solidFill>
                <a:latin typeface="Franklin Gothic Book"/>
              </a:rPr>
              <a:t> 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6760" y="713880"/>
            <a:ext cx="85726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ение — основная причина поражения коронарных артерий, что может приводить к инфаркту миокарда. У курильщиков повышен риск атеросклероза (закупорки артерий) и других изменений, поражающих сердечно-сосудистую систему. Курение само по себе повышает риск заболеваний коронарных артерий, а в сочетании с другими факторами эти заболеваниям становятся еще более вероятными. Никотин и окись углерода, содержащиеся в табачном дыме, нарушают поступление кислорода в кровь и по разным механизмам вызывают поражение сердца и сосу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Содержимое 5" descr="http://www.no-smoking.ru/idb/inhtml/1/nsm2.jpg"/>
          <p:cNvPicPr/>
          <p:nvPr/>
        </p:nvPicPr>
        <p:blipFill>
          <a:blip r:embed="rId1"/>
          <a:stretch/>
        </p:blipFill>
        <p:spPr>
          <a:xfrm>
            <a:off x="2357280" y="4000680"/>
            <a:ext cx="50724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Легкие  (Рак легкого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60" y="928800"/>
            <a:ext cx="47862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но в 85% случаев рака легкого, возникающих за год, можно обнаружить связь с курением. У людей, выкуривающих по две или больше пачек сигарет в день в течение 20 лет риск рака легкого повышен на 60—70% по сравнению с некурящими. Риск рака легкого тем выше, чем больше сигарет выкуривают за день, чем дольше курят, чем больше количество вдыхаемого дыма, а также чем выше содержание смол и никотина в сигарет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Рисунок 5" descr="http://www.no-smoking.ru/idb/inhtml/1/nsm3.jpg"/>
          <p:cNvPicPr/>
          <p:nvPr/>
        </p:nvPicPr>
        <p:blipFill>
          <a:blip r:embed="rId1"/>
          <a:stretch/>
        </p:blipFill>
        <p:spPr>
          <a:xfrm>
            <a:off x="4643280" y="928800"/>
            <a:ext cx="2643480" cy="3071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information_items_1190670285"/>
          <p:cNvPicPr/>
          <p:nvPr/>
        </p:nvPicPr>
        <p:blipFill>
          <a:blip r:embed="rId2"/>
          <a:stretch/>
        </p:blipFill>
        <p:spPr>
          <a:xfrm>
            <a:off x="6357960" y="3143160"/>
            <a:ext cx="278604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ХОЗЛ (Хронический бронхит)</a:t>
            </a: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5680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ЗЛ — это хронические заболевания легких, для которых характерно прогрессирующее сужение и деструкция бронхиального дерева и легочных альвео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тя основной причиной ХОЗЛ является курение, играют роль и другие факторы — длительное вдыхание дыма, пыли и химических соединений, а также частые инфекции легких в детском возрасте. У некоторых людей риск ХОЗЛ повышен в силу генетических причин. У таких лиц имеется генетический дефект, который называют дефицитом альфа1-антитрипсина. К ХОЗЛ относят два основных заболевания — хронический бронхит и эмфиз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Рисунок 5" descr="http://www.no-smoking.ru/idb/inhtml/1/nsm4.jpg"/>
          <p:cNvPicPr/>
          <p:nvPr/>
        </p:nvPicPr>
        <p:blipFill>
          <a:blip r:embed="rId1"/>
          <a:stretch/>
        </p:blipFill>
        <p:spPr>
          <a:xfrm>
            <a:off x="214200" y="4572000"/>
            <a:ext cx="4429080" cy="2090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дллооо"/>
          <p:cNvPicPr/>
          <p:nvPr/>
        </p:nvPicPr>
        <p:blipFill>
          <a:blip r:embed="rId2"/>
          <a:stretch/>
        </p:blipFill>
        <p:spPr>
          <a:xfrm>
            <a:off x="5929200" y="457200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72600" cy="10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Желудок( Рак и язва желудка )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2920" y="928800"/>
            <a:ext cx="52862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фект длительного курения заключается в стимуляции секреции соляной кислоты в желудке, разъедающей защитный слой в его полости. Ноющая или жгучая боль между грудиной и пупком — самый частый симптом, возникающий после еды и рано утром. Боль может длиться от нескольких минут до нескольких часов; бывает, что боль облегчают еда или антацидные средства. Курение замедляет заживление язв и способствует их повторному возникнов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7" descr="E:\Documents and Settings\Admin\Рабочий стол\i.jpeg"/>
          <p:cNvPicPr/>
          <p:nvPr/>
        </p:nvPicPr>
        <p:blipFill>
          <a:blip r:embed="rId1"/>
          <a:stretch/>
        </p:blipFill>
        <p:spPr>
          <a:xfrm>
            <a:off x="5500800" y="3857760"/>
            <a:ext cx="3241440" cy="244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22:00:04Z</dcterms:created>
  <dc:creator>pc</dc:creator>
  <dc:description/>
  <dc:language>en-US</dc:language>
  <cp:lastModifiedBy>Admin</cp:lastModifiedBy>
  <dcterms:modified xsi:type="dcterms:W3CDTF">2010-09-30T16:47:57Z</dcterms:modified>
  <cp:revision>46</cp:revision>
  <dc:subject/>
  <dc:title>Последствия курения.</dc:title>
</cp:coreProperties>
</file>