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7D2-00BF-4E2D-819F-62557A03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89D-0B7C-4A2F-803C-7B196786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10F-DA97-4410-92D6-79A199E8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57C-6D8E-424D-A578-62D6F2AD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7362-4628-4F1E-821F-A30F52AF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E36E-1972-4BB4-B6BB-A9E2712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9963-ACB3-4F7C-8181-7172B30A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36DD-9EE3-4C2B-8D7A-DDD3217A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7D89-4436-41D3-AD0A-3070D788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C543-13C4-4147-B8EA-8D32A64F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7D48-349E-4A57-B428-A8A34E3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3A4-E9A8-4729-AF31-A20A7135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FDE4-F024-4C13-8CBA-5D332CF3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EE7E-1A0B-4A44-97A6-BBE12E1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A54D-66C4-49BC-A31A-B6F402E9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11D0-03F6-459F-B5EF-DE89EF36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816E-CD92-433D-ACCE-FAE38C2E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2157-C4E6-487B-8FEA-9B0DBA76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8A13-A0F6-4AB4-AE6A-26A7A520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4872-C789-4A5B-B52B-F71005E2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37E0-5EF5-4BDB-A857-2E90EDD3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4DE2-1F08-402F-B5E3-BC759D31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54D-1DDB-4AB8-8BCB-14326C73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82F2-8E84-442D-B494-B8547EDE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D423-0BC3-4B39-BCA8-0B7A36CB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2B80-8A77-465D-86DA-96A4F497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7D46-A8B3-4D5B-85D5-3477DFCC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CC54-A0CC-46C3-AF6A-8C0271D9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6A89-28D2-411F-BF94-8EBA90CD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2EED-D0DD-493E-A273-E9FD227D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BC0-258B-40B0-9F78-0BA74D73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7F0-2571-431B-8EFD-03A42A99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908-ED0D-47B2-A1AA-683F253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FB3-F54B-40AC-B124-410C8929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C37-932C-4A72-ABC9-96EB3864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B43-EA45-4A25-877B-C324CC65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5BD6-B540-4454-A143-8C039BE251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4E34-0D38-4DD4-9311-1B17E6CAA7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962A-5D34-43C6-BE72-25531D611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90756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Редкие раст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63640" y="3213000"/>
            <a:ext cx="5977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УДУМБАР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03640" y="5877000"/>
            <a:ext cx="56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влов Максим 2 "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401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думба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редчайшее растение в мире. Размер цветка достигает всего 1 мм в диаметре. Удумбара в переводе с санскрита означает Благоприятный цветок с не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Цветы удумбара под увеличением"/>
          <p:cNvPicPr/>
          <p:nvPr/>
        </p:nvPicPr>
        <p:blipFill>
          <a:blip r:embed="rId1"/>
          <a:stretch/>
        </p:blipFill>
        <p:spPr>
          <a:xfrm>
            <a:off x="4643280" y="692280"/>
            <a:ext cx="4016520" cy="2601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Цветы удумбара появляются особенным образом"/>
          <p:cNvPicPr/>
          <p:nvPr/>
        </p:nvPicPr>
        <p:blipFill>
          <a:blip r:embed="rId2"/>
          <a:stretch/>
        </p:blipFill>
        <p:spPr>
          <a:xfrm>
            <a:off x="4643280" y="3429000"/>
            <a:ext cx="4032360" cy="26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01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ктябре 2000 года монахи одного из буддистских храмов Сеула заметили странную вещь - на лбу позолоченной статуи божества выросли маленькие белые цветы, 21 штука. Буддистские храмы считают, что цветение этого растения является чудо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веты удумбара на статуях Будды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1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ее смущающее предположение, это причислить Буддийский цветок к яйцам насекомого. Под специальным микроскопом сфотографировали цветок, на увеличенном снимке ясно видны лепестки и его сердцевина, а далекое распространение тонкого аромата – есть волшебство этого цветк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Фото цветов удумбара"/>
          <p:cNvPicPr/>
          <p:nvPr/>
        </p:nvPicPr>
        <p:blipFill>
          <a:blip r:embed="rId1"/>
          <a:stretch/>
        </p:blipFill>
        <p:spPr>
          <a:xfrm>
            <a:off x="5076720" y="1268280"/>
            <a:ext cx="3205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423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ы Удумбара появляются особенным образом. Этот редкий цветок до сих пор находили на статуях Будд, стальных трубах, оконных стеклах, листьях и кирпича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аду у китайского дедушки Дина есть стальные трубы. Однажды он обнаружил крошечные белые цветы, растущие на трубе, прямо на гладкой стали. Ровно 38 цветочков со стеблями тоньше человеческих волос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На стальной трубе выросли цветы Удумбара"/>
          <p:cNvPicPr/>
          <p:nvPr/>
        </p:nvPicPr>
        <p:blipFill>
          <a:blip r:embed="rId1"/>
          <a:stretch/>
        </p:blipFill>
        <p:spPr>
          <a:xfrm>
            <a:off x="4643280" y="692280"/>
            <a:ext cx="4038840" cy="3033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Так вот они какие цветы Удумбара"/>
          <p:cNvPicPr/>
          <p:nvPr/>
        </p:nvPicPr>
        <p:blipFill>
          <a:blip r:embed="rId2"/>
          <a:stretch/>
        </p:blipFill>
        <p:spPr>
          <a:xfrm>
            <a:off x="4643280" y="3860640"/>
            <a:ext cx="4032360" cy="24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569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удесное в том, что цветок приходит незаметно и уходит без следа. Люди обнаруживают его случайно, и он исчезает незаме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5:43:00Z</dcterms:created>
  <dc:creator>Pavlov PA</dc:creator>
  <dc:description/>
  <dc:language>en-US</dc:language>
  <cp:lastModifiedBy>Pavlov PA</cp:lastModifiedBy>
  <dcterms:modified xsi:type="dcterms:W3CDTF">2012-12-16T17:10:07Z</dcterms:modified>
  <cp:revision>3</cp:revision>
  <dc:subject/>
  <dc:title>Редкие растения</dc:title>
</cp:coreProperties>
</file>