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DE8-B7DD-40C0-98F6-66AC303D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153-36A1-4D7F-967D-8DD573F2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4AB-733F-4B34-AA3D-60B0EC31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592-DC16-4A16-A85D-5E761E12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5F942-A2CC-467E-B81F-9F89F079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3102A-B23C-45C7-8A91-8D959666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F590-A3CD-432A-B122-326EA699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50E01-5F69-4516-9EB2-126E9DE5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17569-015E-4AB1-85AA-12E691A9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0C2F5-025E-4D37-A6D9-609AE89D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6342E-F077-4A2A-BF90-DAF10954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E68-A21D-4A36-81F1-9B6D1CC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F88D6-907C-4887-A96B-635D214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CFEED-31FA-43B3-B2CD-CE4F8D46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BFA7A-85F9-4294-B0AC-B47403A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14891-70E4-4A2F-BC4C-BAB8397D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49370-2A45-48C9-934B-C0BDCCED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14E-ED58-4F13-AC15-86C44999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67C-047A-471F-83DF-41B782A4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4D8-DC3B-498F-8414-02EB5D4A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C1F-2561-4576-8F61-480B9A8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AE7-A327-4BF1-A077-024824C0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A1C-F34A-4DE8-8221-4EEB51C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0FF-C9DD-49C7-9D37-22E8F102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2A32-D1E5-4695-967F-7EA028EB3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E760-7FAB-4B0A-8032-66C9CF4F26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39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лександровская средняя школ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ект по предмету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Проектная деятельность»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: Поделки из природного материа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р: ученица 4 «б»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острикова Ма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ководитель проекта: Маркелова Т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нсультант: Вострикова Л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огда лепестки собираются в бутон, добавляете их, пока вам не покажется достаточны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2576ee426f"/>
          <p:cNvPicPr/>
          <p:nvPr/>
        </p:nvPicPr>
        <p:blipFill>
          <a:blip r:embed="rId1"/>
          <a:stretch/>
        </p:blipFill>
        <p:spPr>
          <a:xfrm>
            <a:off x="476280" y="1927080"/>
            <a:ext cx="3887640" cy="3818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28a5af34b"/>
          <p:cNvPicPr/>
          <p:nvPr/>
        </p:nvPicPr>
        <p:blipFill>
          <a:blip r:embed="rId2"/>
          <a:stretch/>
        </p:blipFill>
        <p:spPr>
          <a:xfrm>
            <a:off x="4645080" y="1996920"/>
            <a:ext cx="4032360" cy="37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огда бутон готов, основание его обвязываем нитками, чтобы закрепить цветок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d015d2f4aa"/>
          <p:cNvPicPr/>
          <p:nvPr/>
        </p:nvPicPr>
        <p:blipFill>
          <a:blip r:embed="rId1"/>
          <a:stretch/>
        </p:blipFill>
        <p:spPr>
          <a:xfrm>
            <a:off x="1547640" y="2320920"/>
            <a:ext cx="626616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колько будет цветков в вашем букете — решать вам. Для этой „фотосессии“ нам хватило трех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481f6058c4"/>
          <p:cNvPicPr/>
          <p:nvPr/>
        </p:nvPicPr>
        <p:blipFill>
          <a:blip r:embed="rId1"/>
          <a:stretch/>
        </p:blipFill>
        <p:spPr>
          <a:xfrm>
            <a:off x="826920" y="2062080"/>
            <a:ext cx="705816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еперь займемся „зеленью“. Сюда подойдут самые пестрые листья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Равномерно подкладываем эти листья по кругу под бутонами и фиксируем теперь уже готовый букет у основания теми же нитками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от осенний букет и готов!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S7302294"/>
          <p:cNvPicPr/>
          <p:nvPr/>
        </p:nvPicPr>
        <p:blipFill>
          <a:blip r:embed="rId1"/>
          <a:stretch/>
        </p:blipFill>
        <p:spPr>
          <a:xfrm>
            <a:off x="1042920" y="2276640"/>
            <a:ext cx="568980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1" descr="S7302296"/>
          <p:cNvPicPr/>
          <p:nvPr/>
        </p:nvPicPr>
        <p:blipFill>
          <a:blip r:embed="rId1"/>
          <a:stretch/>
        </p:blipFill>
        <p:spPr>
          <a:xfrm>
            <a:off x="190800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ен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ень — яркая, красивая пора года. С клёнов опадают разноцветные солнечные ладошки-листочки. И я не могу удержаться, чтобы не собрать и не принести домой частичку тёплой солнечной осени в кленовом букете. Поставлю такой букет на стол и кажется, что в комнате светлее стало и на душе потеплело.  Но, оказывается из кленовых листьев можно собрать непросто букет, а букет роз! Невероятно красиво! А если цветы  из кленовых листьев ещё и смазать растительным маслом, то листочки не засохнут и не потеряют свой цвет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ерво-наперво собираем листья. Нам не подойдут слишком маленькие, сухие, больные, надорванные листья. Цвета будем использовать раз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b1660ea03d"/>
          <p:cNvPicPr/>
          <p:nvPr/>
        </p:nvPicPr>
        <p:blipFill>
          <a:blip r:embed="rId1"/>
          <a:stretch/>
        </p:blipFill>
        <p:spPr>
          <a:xfrm>
            <a:off x="826920" y="1484280"/>
            <a:ext cx="7490160" cy="45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ля одного цветка лучше подобрать листья одного цвета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ервый лист сворачиваем пополам поперек центральной жилки так, чтобы лицевая сторона оказалась снаруж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a38fc21ab6"/>
          <p:cNvPicPr/>
          <p:nvPr/>
        </p:nvPicPr>
        <p:blipFill>
          <a:blip r:embed="rId1"/>
          <a:stretch/>
        </p:blipFill>
        <p:spPr>
          <a:xfrm>
            <a:off x="179280" y="1628640"/>
            <a:ext cx="84250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5760" y="698040"/>
            <a:ext cx="80182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 теперь сворачиваем этот сложенный лист в плотный рулончик.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15cd016dcf"/>
          <p:cNvPicPr/>
          <p:nvPr/>
        </p:nvPicPr>
        <p:blipFill>
          <a:blip r:embed="rId1"/>
          <a:stretch/>
        </p:blipFill>
        <p:spPr>
          <a:xfrm>
            <a:off x="611280" y="1413000"/>
            <a:ext cx="4032000" cy="453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9731044160"/>
          <p:cNvPicPr/>
          <p:nvPr/>
        </p:nvPicPr>
        <p:blipFill>
          <a:blip r:embed="rId2"/>
          <a:stretch/>
        </p:blipFill>
        <p:spPr>
          <a:xfrm>
            <a:off x="5003640" y="141300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Этот рулончик будет сердцевиной будущей роз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8a9e28efc5"/>
          <p:cNvPicPr/>
          <p:nvPr/>
        </p:nvPicPr>
        <p:blipFill>
          <a:blip r:embed="rId1"/>
          <a:stretch/>
        </p:blipFill>
        <p:spPr>
          <a:xfrm>
            <a:off x="614520" y="2062080"/>
            <a:ext cx="3816360" cy="3664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99ac0553aa"/>
          <p:cNvPicPr/>
          <p:nvPr/>
        </p:nvPicPr>
        <p:blipFill>
          <a:blip r:embed="rId2"/>
          <a:stretch/>
        </p:blipFill>
        <p:spPr>
          <a:xfrm>
            <a:off x="4788000" y="2062080"/>
            <a:ext cx="374148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еперь вокруг этой сердцевины начинаем укладывать «лепестк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faea11e85a"/>
          <p:cNvPicPr/>
          <p:nvPr/>
        </p:nvPicPr>
        <p:blipFill>
          <a:blip r:embed="rId1"/>
          <a:stretch/>
        </p:blipFill>
        <p:spPr>
          <a:xfrm>
            <a:off x="539640" y="1700280"/>
            <a:ext cx="3888000" cy="424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02e28a6ba9"/>
          <p:cNvPicPr/>
          <p:nvPr/>
        </p:nvPicPr>
        <p:blipFill>
          <a:blip r:embed="rId2"/>
          <a:stretch/>
        </p:blipFill>
        <p:spPr>
          <a:xfrm>
            <a:off x="4857840" y="1996920"/>
            <a:ext cx="3819600" cy="38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ля начала — берем лист и в центре его размещаем сердцевинку. Заметьте, лицевая сторона листа — внутри цветка!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ерегибаем это лист наружу пополам. Кромка перегиба распологается выше сердцевинки на сантиметр-полтора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 теперь этот выступающий край тоже отгибаем наружу. Но сгиб уже не разглаживаем…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… и боковые края этого дважды сложенного листа обворачиваем с двух сторон вокруг сердцевины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щипываем нижние края листа у самого основания цветка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ерем новый лист для следующего „лепестка“ и повторяем только что выполненную операцию, только этот лепесток расположен с противоположной первому листу сторо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8eedd1faaa"/>
          <p:cNvPicPr/>
          <p:nvPr/>
        </p:nvPicPr>
        <p:blipFill>
          <a:blip r:embed="rId1"/>
          <a:stretch/>
        </p:blipFill>
        <p:spPr>
          <a:xfrm>
            <a:off x="250920" y="1700280"/>
            <a:ext cx="4105080" cy="453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9da16de3e"/>
          <p:cNvPicPr/>
          <p:nvPr/>
        </p:nvPicPr>
        <p:blipFill>
          <a:blip r:embed="rId2"/>
          <a:stretch/>
        </p:blipFill>
        <p:spPr>
          <a:xfrm>
            <a:off x="4572000" y="1700280"/>
            <a:ext cx="4103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07:00:47Z</dcterms:created>
  <dc:creator>Admin</dc:creator>
  <dc:description/>
  <dc:language>en-US</dc:language>
  <cp:lastModifiedBy>ДШИ</cp:lastModifiedBy>
  <dcterms:modified xsi:type="dcterms:W3CDTF">2014-10-28T12:17:07Z</dcterms:modified>
  <cp:revision>3</cp:revision>
  <dc:subject/>
  <dc:title>Александровская средняя школа Проект по предмету: «Окружающий мир» Тема: Поделки из природного материала</dc:title>
</cp:coreProperties>
</file>