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18.gif" ContentType="image/gif"/>
  <Override PartName="/ppt/media/image13.jpeg" ContentType="image/jpeg"/>
  <Override PartName="/ppt/media/image22.jpeg" ContentType="image/jpeg"/>
  <Override PartName="/ppt/media/image9.png" ContentType="image/png"/>
  <Override PartName="/ppt/media/image10.gif" ContentType="image/gif"/>
  <Override PartName="/ppt/media/image12.jpeg" ContentType="image/jpeg"/>
  <Override PartName="/ppt/media/image30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media/image27.png" ContentType="image/png"/>
  <Override PartName="/ppt/media/image28.jpeg" ContentType="image/jpeg"/>
  <Override PartName="/ppt/media/image29.png" ContentType="image/pn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FA6-04F4-43D0-99D3-6883290F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9A8-B930-42FC-A5C7-A3409D5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C5C-0969-4740-A4E9-78E494EF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6CF-3DB1-4543-8F80-23CA0A65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9E64-0DED-4679-A104-7CCD7D4F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A64-88DB-4617-B0BE-A98CCC2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61AF-BE0B-4C61-8DC1-1F9463BC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2F76-CE68-496F-812C-A2555D44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6A66-2A2B-4E5A-9A4D-22CC5990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D58E-2131-4A03-8074-2E6C02FC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C1D0-4760-427D-9F95-C9159F0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731-AD16-4FD2-B028-B5CDEE23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0746-3F39-4FC6-A1FB-F95D8B75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4338-B79E-40E7-B36D-3539B94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CBD-E6BC-4B9F-8235-C04885D0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91FC-ADC7-4B40-88F3-D1092323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A4CC-BCEC-485B-9139-A77DE989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0F60-6C4F-44E4-A0CD-6714E86D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55DB1-57D6-4D1D-A28B-B9ABC161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449A-7ED8-4C61-A748-597A67C6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0ED12-5AFE-41E0-8F1E-471546A5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AD11-B307-4F9C-AE65-86E339B3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57F-D139-4A3B-B312-1E1D9601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CF1B-C934-4C8F-9F8E-53459CEC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24FF-E9B0-4B5F-865B-96E9B3A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1C2A-F9EA-4A6F-B344-B2081F3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B25B-FD1A-4544-A2E4-759ACF4B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03624-3028-4433-841A-049C93EE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AA5F-298F-44E7-8C52-6313A253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5CEF-B686-4D65-B88A-77BDAB7C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662A-9050-438D-B20A-81E74583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29C8-DF59-44AF-AB88-4F719C64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FD62-BC1F-4410-9752-6715320D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F34-B151-4AAC-927B-D1EF98CC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07E3D-74FA-4453-8696-DA8BD46E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D2BD-06D7-496C-9E79-6B6D8CD6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2D72-C7DB-441D-B517-BDD855FC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DD957-B060-4AED-8AA8-DE9C197D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C761-AF0B-4C55-827C-EED9AC75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66F8C-A90A-417F-ADD3-0EDB4116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AAAB-1BB0-4863-8012-D0F69EBF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D16A3-36A8-4AE5-8711-42EE4F74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C0DF-90F3-4BEA-B905-293A4C50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861-6441-4283-A48E-4EAEF8DD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FF3-7242-4F8A-A3BE-EF14F754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A8B-3FD9-49E1-A1E2-BEE0B6DD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BED-AE91-4716-95D9-31F6876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F3D-5EF8-45BC-A9CE-2BD47DF8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851D-FEF4-4B4C-A049-1C4CC9E5B08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B720-EC0C-43E1-BDC9-AACF2F3BE26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04EC-14E1-4E21-ADE0-C7643DECD83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9EE6-DABB-4E81-863A-9783CEFAAF5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st-kut.ru/" TargetMode="External"/><Relationship Id="rId2" Type="http://schemas.openxmlformats.org/officeDocument/2006/relationships/hyperlink" Target="http://animalang.biggo.ru/" TargetMode="External"/><Relationship Id="rId3" Type="http://schemas.openxmlformats.org/officeDocument/2006/relationships/hyperlink" Target="http://www.fish-predator.info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:\Мама\Р1.jpg"/>
          <p:cNvPicPr/>
          <p:nvPr/>
        </p:nvPicPr>
        <p:blipFill>
          <a:blip r:embed="rId1"/>
          <a:stretch/>
        </p:blipFill>
        <p:spPr>
          <a:xfrm>
            <a:off x="142920" y="100008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2571840" y="1494000"/>
            <a:ext cx="6718320" cy="1547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286080" y="4071600"/>
            <a:ext cx="521496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7026"/>
                </a:solidFill>
                <a:latin typeface="Constantia"/>
              </a:rPr>
              <a:t>НАД ПРОЭКТОМ РАБОТАЛ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7026"/>
                </a:solidFill>
                <a:latin typeface="Constantia"/>
              </a:rPr>
              <a:t>Садыков Эльда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7026"/>
                </a:solidFill>
                <a:latin typeface="Constantia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7026"/>
                </a:solidFill>
                <a:latin typeface="Constantia"/>
              </a:rPr>
              <a:t>Боровская Н.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425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Кефаль издает звуки похожи на цоканье лошадиных копы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рноморская ставрида лает, как соба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Морской налим урчит и хрюка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Морской конек прищелкива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ьюн и угорь пища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зовский бычок рычи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фриканский чешуйчатник мяукает, как кош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Жаба – рыба</a:t>
            </a: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 издаёт хриплое ворчание или гудки идущих вдали пароход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Рыба барабанщик издаёт звуки, напоминающие удары бараба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Сциена стон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Каркальщик карка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Белуга испускает громкий тяжелый вздох, напоминающий рев, свистит и шипит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D:\Мама\белуга.jpg"/>
          <p:cNvPicPr/>
          <p:nvPr/>
        </p:nvPicPr>
        <p:blipFill>
          <a:blip r:embed="rId1"/>
          <a:stretch/>
        </p:blipFill>
        <p:spPr>
          <a:xfrm>
            <a:off x="1714680" y="23572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libri"/>
              </a:rPr>
              <a:t>Самая болтливая морская рыба — тригла. Она непрерывно ворчит и квакает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D:\Мама\тригла.jpe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C:\Documents and Settings\Admin\Local Settings\Temporary Internet Files\Content.IE5\7JEF4CT8\MP900433054[1].jpg"/>
          <p:cNvPicPr/>
          <p:nvPr/>
        </p:nvPicPr>
        <p:blipFill>
          <a:blip r:embed="rId1"/>
          <a:stretch/>
        </p:blipFill>
        <p:spPr>
          <a:xfrm>
            <a:off x="6215040" y="3565440"/>
            <a:ext cx="2536920" cy="3292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15964"/>
                </a:solidFill>
                <a:latin typeface="Calibri"/>
              </a:rPr>
              <a:t>Что же сообщают друг другу морские обитател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Рыбы «обсуждают» между собой в основном пять главных проблем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подают друг другу сигналы о том, где находится пищ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предупреждают об опас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о том, что представляет собой то место, где они находятся в настоящее время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о направлении движ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самцы и самки подают друг другу особые сигналы во время нереста. </a:t>
            </a:r>
            <a:br>
              <a:rPr sz="2400"/>
            </a:b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Как общаются рыбы в нашем аквариум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Гурами «целуются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Суматранские барбусы «бегают» друг за другом, играют в чехард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Рыбки следят за движением челове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Отзываются на пощелкивания пальцев по стеклу  аквариу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Огромный сом пугает надоедливых барбусов резкими движения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onstantia"/>
              </a:rPr>
              <a:t>Как жаль, что мы их не слышим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3" descr="C:\Documents and Settings\Admin\Local Settings\Temporary Internet Files\Content.IE5\A3MW3QB4\MP900430773[1].jpg"/>
          <p:cNvPicPr/>
          <p:nvPr/>
        </p:nvPicPr>
        <p:blipFill>
          <a:blip r:embed="rId1"/>
          <a:stretch/>
        </p:blipFill>
        <p:spPr>
          <a:xfrm>
            <a:off x="6732720" y="836640"/>
            <a:ext cx="2198520" cy="1468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E:\P1000915.JPG"/>
          <p:cNvPicPr/>
          <p:nvPr/>
        </p:nvPicPr>
        <p:blipFill>
          <a:blip r:embed="rId1"/>
          <a:stretch/>
        </p:blipFill>
        <p:spPr>
          <a:xfrm>
            <a:off x="5219640" y="1700280"/>
            <a:ext cx="3745080" cy="2741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Рыбки нашего аквариума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Picture 3" descr="C:\Documents and Settings\Admin\Мои документы\Мои рисунки\гурами.jpg"/>
          <p:cNvPicPr/>
          <p:nvPr/>
        </p:nvPicPr>
        <p:blipFill>
          <a:blip r:embed="rId2"/>
          <a:stretch/>
        </p:blipFill>
        <p:spPr>
          <a:xfrm>
            <a:off x="611280" y="3284640"/>
            <a:ext cx="3816360" cy="26971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4679280" y="494172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Целующиеся гур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E:\P1000916.JPG"/>
          <p:cNvPicPr/>
          <p:nvPr/>
        </p:nvPicPr>
        <p:blipFill>
          <a:blip r:embed="rId1"/>
          <a:stretch/>
        </p:blipFill>
        <p:spPr>
          <a:xfrm>
            <a:off x="4859280" y="3284640"/>
            <a:ext cx="3841920" cy="26654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Рыбки нашего аквариума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2" descr="E:\P1000913.JPG"/>
          <p:cNvPicPr/>
          <p:nvPr/>
        </p:nvPicPr>
        <p:blipFill>
          <a:blip r:embed="rId2"/>
          <a:stretch/>
        </p:blipFill>
        <p:spPr>
          <a:xfrm>
            <a:off x="395280" y="3213000"/>
            <a:ext cx="3668760" cy="27511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2700360" y="5904000"/>
            <a:ext cx="41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Суматранские барбусы играют в чехард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ыбки нашего аквариум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E:\P1000912.JPG"/>
          <p:cNvPicPr/>
          <p:nvPr/>
        </p:nvPicPr>
        <p:blipFill>
          <a:blip r:embed="rId1"/>
          <a:stretch/>
        </p:blipFill>
        <p:spPr>
          <a:xfrm>
            <a:off x="755640" y="2492280"/>
            <a:ext cx="4067280" cy="3051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5003640" y="292428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Огромный сом – самый важны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24000" y="4869000"/>
            <a:ext cx="2643120" cy="1779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ерна ли поговорка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нем как рыба»?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Рыбы различают в воде запах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Жесты рыб разнообразны и несут в себе различную информаци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3.     С помощью окраски и света рыбы общаются между собо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4.    Некоторые издают под водой звуки (мы их не слышим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Старинная поговорка “нем, как рыба” опровергнута современной гидроакустической наукой и стала анахронизмом. Так неопровержимо доказано, рыбы могут издавать звуки, похожие на писк, хрюканье, карканье и д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                        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Поговорка "Нем как рыба" родилась,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                        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тогда, когда люди этого не знал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Вывод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3429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dd9"/>
                </a:solidFill>
                <a:latin typeface="Constantia"/>
              </a:rPr>
              <a:t>Рыбы могут вполне составить целый оркестр. Звуки одних напоминают трески и скрипы, других — барабанную дробь, третьих — глухие монотонные стоны и вой сирен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9dd9"/>
                </a:solidFill>
                <a:latin typeface="Constantia"/>
              </a:rPr>
              <a:t>У некоторых звуки напоминают птичий щеб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3" descr="C:\Documents and Settings\Admin\Мои документы\Мои рисунки\04.gif"/>
          <p:cNvPicPr/>
          <p:nvPr/>
        </p:nvPicPr>
        <p:blipFill>
          <a:blip r:embed="rId1"/>
          <a:stretch/>
        </p:blipFill>
        <p:spPr>
          <a:xfrm>
            <a:off x="4788000" y="26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786880" cy="3076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Книга природы есть неисчерпаемый источник познаний для человека</a:t>
            </a:r>
            <a:br>
              <a:rPr sz="5400"/>
            </a:b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 Вольтер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4005000"/>
            <a:ext cx="8229600" cy="25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Не то, что мните вы, природа: </a:t>
            </a:r>
            <a:br>
              <a:rPr sz="2800"/>
            </a:b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Не слепок, не бездушный лик -</a:t>
            </a:r>
            <a:br>
              <a:rPr sz="2800"/>
            </a:b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В ней есть душа, в ней есть свобода, </a:t>
            </a:r>
            <a:br>
              <a:rPr sz="2800"/>
            </a:b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В ней есть любовь, в ней есть язы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Наши работы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3357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Буклет «Голоса в царстве безмолвия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Альбом «Морские обитатели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Презентац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Источники информации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78136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://www.ust-kut.r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animalang.biggo.r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00"/>
                </a:solidFill>
                <a:uFillTx/>
                <a:latin typeface="Calibri"/>
              </a:rPr>
              <a:t>Scarabel.Ru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cccc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fish-predator.info</a:t>
            </a:r>
            <a:r>
              <a:rPr b="0" lang="en-US" sz="2800" spc="-1" strike="noStrike">
                <a:solidFill>
                  <a:srgbClr val="cccc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Calibri"/>
              </a:rPr>
              <a:t>Энциклопедия. Я познаю мир. Удивительные животные\АСТ «АСТРЕЛЬ», 200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Calibri"/>
              </a:rPr>
              <a:t>С. Кочетов. Аквариум дома. \М. «Планета», 199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C:\Documents and Settings\Admin\Local Settings\Temporary Internet Files\Content.IE5\U25HS34E\MP900431024[1].jpg"/>
          <p:cNvPicPr/>
          <p:nvPr/>
        </p:nvPicPr>
        <p:blipFill>
          <a:blip r:embed="rId1"/>
          <a:stretch/>
        </p:blipFill>
        <p:spPr>
          <a:xfrm>
            <a:off x="5364000" y="1628640"/>
            <a:ext cx="3500640" cy="3500640"/>
          </a:xfrm>
          <a:prstGeom prst="rect">
            <a:avLst/>
          </a:prstGeom>
          <a:ln w="0">
            <a:noFill/>
          </a:ln>
        </p:spPr>
      </p:pic>
      <p:pic>
        <p:nvPicPr>
          <p:cNvPr id="201" name="Заголовок 1" descr=""/>
          <p:cNvPicPr/>
          <p:nvPr/>
        </p:nvPicPr>
        <p:blipFill>
          <a:blip r:embed="rId2"/>
          <a:stretch/>
        </p:blipFill>
        <p:spPr>
          <a:xfrm>
            <a:off x="-96840" y="463680"/>
            <a:ext cx="8869320" cy="13888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324000" y="3860640"/>
            <a:ext cx="778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1.   Как общаются животные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2.   Можно ли утверждать, что рыбы тоже говорят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3.   Что сообщают друг другу морские обитател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4.   Как общаются рыбки в нашем аквариуме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6a3"/>
                </a:solidFill>
                <a:latin typeface="Calibri"/>
              </a:rPr>
              <a:t>Как общаются животные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964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Язык запах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Язык жес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Язык  крас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Язык зву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krassota.com/i/fish/09.gif"/>
          <p:cNvPicPr/>
          <p:nvPr/>
        </p:nvPicPr>
        <p:blipFill>
          <a:blip r:embed="rId1"/>
          <a:stretch/>
        </p:blipFill>
        <p:spPr>
          <a:xfrm>
            <a:off x="4859280" y="2205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Admin\Local Settings\Temporary Internet Files\Content.IE5\U25HS34E\MP900430540[1].jpg"/>
          <p:cNvPicPr/>
          <p:nvPr/>
        </p:nvPicPr>
        <p:blipFill>
          <a:blip r:embed="rId1"/>
          <a:stretch/>
        </p:blipFill>
        <p:spPr>
          <a:xfrm>
            <a:off x="6875640" y="4005360"/>
            <a:ext cx="1873080" cy="23778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Язык запахов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Органы обоняния: парные ноздри и носовая пол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Ощущают запахи растворённые в во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Чувствуют запахи только в направлении токов во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Запахи помогают найти дорогу дом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Язык жестов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движение зигзагами – «плыви за мной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резкое движение в сторону – опас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угрожающие позы – «язык» угро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http://im5-tub.yandex.net/i?id=30255668-11-24"/>
          <p:cNvPicPr/>
          <p:nvPr/>
        </p:nvPicPr>
        <p:blipFill>
          <a:blip r:embed="rId1"/>
          <a:stretch/>
        </p:blipFill>
        <p:spPr>
          <a:xfrm>
            <a:off x="826920" y="4076640"/>
            <a:ext cx="1873440" cy="174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http://im2-tub.yandex.net/i?id=299099359-01-24"/>
          <p:cNvPicPr/>
          <p:nvPr/>
        </p:nvPicPr>
        <p:blipFill>
          <a:blip r:embed="rId2"/>
          <a:stretch/>
        </p:blipFill>
        <p:spPr>
          <a:xfrm>
            <a:off x="6227640" y="4076640"/>
            <a:ext cx="2232000" cy="1604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im7-tub.yandex.net/i?id=203078419-18-24"/>
          <p:cNvPicPr/>
          <p:nvPr/>
        </p:nvPicPr>
        <p:blipFill>
          <a:blip r:embed="rId3"/>
          <a:stretch/>
        </p:blipFill>
        <p:spPr>
          <a:xfrm>
            <a:off x="3419640" y="4149720"/>
            <a:ext cx="2304720" cy="165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Язык красок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Яркая окраска самцов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«турнирное оружи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«удостоверение личност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отличие по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А ещё многие из морских обитателей светятся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im5-tub.yandex.net/i?id=140154062-13-24"/>
          <p:cNvPicPr/>
          <p:nvPr/>
        </p:nvPicPr>
        <p:blipFill>
          <a:blip r:embed="rId1"/>
          <a:stretch/>
        </p:blipFill>
        <p:spPr>
          <a:xfrm>
            <a:off x="6659640" y="4941720"/>
            <a:ext cx="1860480" cy="139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im8-tub.yandex.net/i?id=135962210-00-24"/>
          <p:cNvPicPr/>
          <p:nvPr/>
        </p:nvPicPr>
        <p:blipFill>
          <a:blip r:embed="rId2"/>
          <a:stretch/>
        </p:blipFill>
        <p:spPr>
          <a:xfrm>
            <a:off x="468360" y="4869000"/>
            <a:ext cx="1871640" cy="1498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://im3-tub.yandex.net/i?id=80277068-10-24"/>
          <p:cNvPicPr/>
          <p:nvPr/>
        </p:nvPicPr>
        <p:blipFill>
          <a:blip r:embed="rId3"/>
          <a:stretch/>
        </p:blipFill>
        <p:spPr>
          <a:xfrm>
            <a:off x="3635280" y="4869000"/>
            <a:ext cx="1944720" cy="1458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Язык звуков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Органы «речи»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плавательный пузыр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зуб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жаберные крыш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позвон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Звуки помогаю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ориентировать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отпугивать враг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сигнализировать о тревог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ухаживать за самк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" descr="C:\Documents and Settings\Admin\Мои документы\Мои рисунки\11.gif"/>
          <p:cNvPicPr/>
          <p:nvPr/>
        </p:nvPicPr>
        <p:blipFill>
          <a:blip r:embed="rId1"/>
          <a:stretch/>
        </p:blipFill>
        <p:spPr>
          <a:xfrm>
            <a:off x="611280" y="4581360"/>
            <a:ext cx="2376360" cy="188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692280"/>
            <a:ext cx="82296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Различают две группы звуков - произвольно и непроизвольно издаваемы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Непроизвольно издаваемые звуки —  при перетирании пищи и резких движениях рыбы в в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Произвольные — в результате работы специальных звуковых орган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Documents and Settings\Admin\Мои документы\Мои рисунки\07.gif"/>
          <p:cNvPicPr/>
          <p:nvPr/>
        </p:nvPicPr>
        <p:blipFill>
          <a:blip r:embed="rId1"/>
          <a:stretch/>
        </p:blipFill>
        <p:spPr>
          <a:xfrm>
            <a:off x="3708360" y="357336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4T15:50:33Z</dcterms:modified>
  <cp:revision>97</cp:revision>
  <dc:subject/>
  <dc:title>Нем как рыба</dc:title>
</cp:coreProperties>
</file>