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930-559E-4AED-A775-0D804BF3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AE1-D680-4BFF-A73E-1E056947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A519A-5DDC-40C9-AA71-C4077529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74B66-F427-453D-A559-9EF0A6B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20732-FE64-4C25-8DD6-8CE90E6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0BF49-5084-4BF6-89E2-817C559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B5785-7DE5-4C6F-A6D2-671BC5F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D0EE-D675-47E8-9B72-78B97BC6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E284B-8A55-4D5A-BE47-728AD3A9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B4C2-D682-4510-9E4E-FDEB61E6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81D59-07F9-455C-B6DD-A152A372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9D065-E677-4F10-B498-F129251B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DD8-751E-4CB7-906C-74527BD2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F13DE-A8EB-4AE1-B90E-1499B9D1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68F64-1AB2-417F-87CA-016DA3E5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6F60C-D822-4D0E-B357-986B5D12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3BD50-DD8D-44B0-B3FB-D7B5F069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354BF-D159-4FED-94C6-CCDD93C7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F4B7D-0007-43FD-A2D6-31273F92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9D3C2-8E46-4C1E-BA21-94A6A17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DB46A-B9DC-4DF8-B511-6CD75219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37751-8CC0-4AA0-B10B-B5E79038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9E9AA-0F0B-432F-AF6D-F62D405B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889-E8D5-4240-B289-B9B8F1FB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8180A-964D-4F38-AF5B-2C91BF38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CA336-C4C8-44BB-AAD7-61B3DD05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D3DEB-BA74-45A9-BBF5-772DDC37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B81D3-8466-4BC9-AB98-593488D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026EF-7E37-4481-BBF3-AE538386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7E4D4-8150-4176-9BD2-1464B0C9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9D0B6-06D4-44CE-BE8B-70E6652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EDBE2-635F-47EA-A204-4ED973CF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E28A7-0E52-41E8-B998-870FF44E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4DE44-AA5E-4B45-8B9E-0AA4EA3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0D26-5020-4A62-A025-BD620B68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7D153-6A7A-4CED-9A1A-2408BC3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DA855-CD62-4618-9646-CEFAD3E2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E96B0-78A2-4C74-8137-9DACAFDF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C61D7-870A-4603-ABEA-2FBFC719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1C795-DEBD-4C37-926C-B818BDEA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7BA37-C14F-435C-B925-52CE0BCF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C35C4-CA5F-4384-9A9D-04A0E427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DD7CE-5462-423E-BF10-B046672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807A6-4278-4F8C-B8F0-6A4B4A09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B1E7D-5346-4F7D-B66A-0E0B05B5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2A3B-708D-440E-A8F9-DBE5A91D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8AD71-C132-4369-A129-0A731A4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63214-A2FB-4860-99E5-24E21E8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0E3D0-7944-41A9-92F5-6CEB3516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7BF9F-64D0-40DE-9C97-6B854483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EDA17-4DD5-48E0-B542-A5CCB62D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33410-5CE5-448C-85E9-C297967C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F19E1-AD70-4727-8DF4-A894AA48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C08D1-260F-400E-9C7A-5068D606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C7652-B6F0-4B7E-8C69-3A9B44EE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0A7FC-F395-4018-BA93-8D870183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74FA-ADD9-421A-9594-A086D2E6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CC5C4-B5BA-426F-A4BF-A19AEBE2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063E3-1B58-4138-AA52-7BEF45F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CEC9E-6310-4C44-B243-36B8014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2A37D-9583-41A7-87AC-5DD4EED6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6F01C-C502-406C-8D77-E1BC5BC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0E3D6-37CA-40C4-A23B-AACCDFB4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FBC16-8588-40F9-A256-2A5138F2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05524-1750-45A2-9710-1D9B7B4F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BDE68-892A-4C2D-80AF-2E28235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074F5-8FAB-4065-90D5-685F52E2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F416-A1EC-4E35-AF92-804F16AD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19756-287B-490C-868D-9EF6C951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5FB0B-F2E1-4FEC-B264-68AE63C4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8D351-9374-4993-8F25-5570A86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C5558-370D-4E73-AC20-F7D66BD9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D741E-F69A-4B5F-B360-E8B2F7C0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2F131-FB95-4ADE-9DD9-F270A65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F5686-6A39-4562-B949-D73FAC19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A4469-EA81-41D9-BA1E-F10F3494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CC428-43DC-4AA1-9359-8BB8CFD9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B0C45-13AF-49A3-9CC3-A8A9CECC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1651-3A55-45F8-8492-826FA2B8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C1A4F-C026-463C-B8FC-DACA9CDC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6D7A5-0F07-4F3E-A937-71BEE193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44C98-5955-4D28-BDB0-B1F8610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656AA-9DFD-44D4-BC5D-708D3BFD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439DD-4297-48A4-863A-638CC0E8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21B8D-C08F-4AB5-83BB-1665DE2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36219-5D25-49C5-8F2A-5A4C9923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95F98-A5D9-402E-8D30-C42883C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9EE61-8D49-4ED9-92ED-06F45448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9CFAC-A957-4E45-9C90-70563A05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0FF1-5DB0-4C0B-B017-F5EE205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D0290-9637-4846-A74C-A29C22BC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9585-845E-4305-A11A-D2D6263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4E2-19D4-49E2-B332-A93AE408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7B48-8BC2-48EB-AE57-E905116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5138-2A06-4822-817D-0E6681C5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937D-746E-49DF-8685-1D04B9E5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ACD-8BB7-4139-A4E9-9FC5F361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384-FA71-4245-BB5D-35D5115D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D17D-779D-4D74-B0CB-864F8701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D901-4FFC-453C-8E37-30B115B1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C568-11D4-4143-AA04-A9FFEB1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3464-7441-4F22-8755-27857C72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FAED-68FC-4641-8DFA-57468F38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A8A-DBD9-428D-841E-D56FA4EC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0E35-C53E-44A2-BE4B-18978A0F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F603-31A5-4877-B5CA-183163E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2ABE-1D8F-43B7-9782-DA0FE08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FF9D-ACB6-4939-B0C1-BE8EEE3B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9301-F169-4AE9-836A-5455510A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3835-935E-4C34-9F80-8C3AC731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7253-D49E-4AF5-84C3-F38E8ADF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207A-D204-43E1-A3CC-AA905E29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7E47-051C-4CA0-8AB0-BDA7D041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0AEA-65AF-448D-94D4-204C8877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02D-53C5-49B0-8153-DEDA51F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62F3-F0B2-412A-AD3A-C44A7C91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4E959-5F7D-420C-92BB-25314D7D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CE4D-3F30-4861-BA22-3E4EE951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0C8B-D043-4D2B-9BFA-F1937F0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155D2-F33A-4B08-B2EF-6C299412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4A6B-08F6-47BF-8B35-F9D3DD2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A2B1-7D90-4CC3-A167-F42CD20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9998-8E58-4EF0-B060-20A8529C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E191-C3CF-4443-BA2C-1F06BB43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CEBAF-0CF7-4832-A3F7-692BB102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148-52F5-4F4E-9C1A-9634CD6D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D2EDD-4B31-4C72-A9C2-9CFA7F69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2D73D-F424-4128-AED4-A6E4D7FA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FF552-17F0-4427-A654-1C76F1B3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68D86-8EBD-49A3-8AF1-CF29C271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6D42-2AF5-488E-A21D-337DB7AF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3379-C13C-44CB-AF50-41262FF9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D907-14B3-4522-9812-0CCBB16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1E10-9CEC-4A1D-86D6-482065AA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26087-FA59-4D72-9077-2256E33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393A-D8C7-44D4-B05C-D727F471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C82-EB5E-47F0-B7C2-3268AC7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F4E04-B847-4668-B9F0-57C02B78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5955-0CE9-4E17-975E-3CF1AAA3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D78E-87AB-4B26-B0C6-E7159D39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14DC-7217-4C60-BD7B-9673C68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D0E1-3F5F-40BD-BB2D-04CBE834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E7249-9C52-4FD5-B292-EAF98BD9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4750E-D8B2-423F-BFD8-1C94C82C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F871B-95E3-471C-B156-B5031321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8D4DC-9534-4C9B-8310-DCEAB03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A194-763A-4B47-B51F-07FBC14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955-AE61-4CA4-AACB-883399C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3D1D7-5CB6-4A65-80B8-BCBBCF59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30DAD-4828-4ECE-8A50-A3253C27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B5FEA-7A00-4C4B-97F6-75E4A526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6756-3920-4EC6-857A-3A26C4E3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6144-472B-42B7-AEC3-9F56768A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395E-9EA7-4731-A1C5-57FF21F7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F50F-49A7-456B-9D9E-5932FEC1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E868-489E-42F2-ACD3-FBD8205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6A2BD-499D-4540-B837-D771F87A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07915-F273-43F2-9370-8A25034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7D5-4088-4450-AE83-8EB54B9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AE235-574D-42B5-A1CE-5F141C77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08183-BEC4-4283-A093-08E4B02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9C6ED-8089-4FAF-B010-28E20793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FBE1A-7B96-406C-B5D6-809E1B9F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873B-D12C-46E4-AE41-4831D950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47E70-1EBF-43CE-8ECA-AA66E957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D414-7C9B-49A2-9066-93111BC2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E2590-F3E3-44B7-AF03-310B7047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1BAD2-0C9E-428D-9BBB-D8A908F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74FC-E478-46B8-B238-415104A4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A6E-D391-4FDE-B576-23F7418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A86F2-30EE-4AF9-BFCA-A8FCDED6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A872E-226D-413A-8EA9-671FB4D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2B4BE-7091-4032-9308-B9D871AA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7A6B3-5FA1-42EA-AEE1-14B35450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7DB5-1A83-4320-AA35-347254F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F1ECD-439C-432A-9F1D-A0FB67C5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A30D3-818E-4C28-A712-FDA5EBCF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72C42-9686-4245-81C6-AB98D301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44673-9FFC-4B39-823A-45720290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2B2F2-4665-4887-B54A-C0FCE70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1017-5B0F-4080-8E9F-8EA39AA650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17C-B1FA-44B2-B5DB-87F3D9639E7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7097-ADBB-4704-8688-EAEB37CDC98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389D-7FCA-4285-A3DC-DE7A9640ED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8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9409-40EE-42F9-9010-F54BF1CEBF9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708B-7054-46ED-84C7-443FC90C463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7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7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7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7A33-E3FF-43C7-8227-340127EB5A7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DBD-6A94-4999-9A03-8A94266C685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CF14-4EB4-4707-BD40-31248BDA42B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C8B3-D3CE-4518-BBF0-8E637D221A3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F7B3-9950-497F-BB83-14037941B58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D278-3280-461A-81A5-A237F818EF4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9E85-CD2A-4314-8043-779B0394128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44BF-18F8-4D7A-A666-56910CDFE41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730-B375-403C-9D1C-740FF4676F2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резентация подготовительной группы № 1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: КОНОВАЛОВА Т.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WordArt 8"/>
          <p:cNvSpPr txBox="1"/>
          <p:nvPr/>
        </p:nvSpPr>
        <p:spPr>
          <a:xfrm>
            <a:off x="1619280" y="1413000"/>
            <a:ext cx="6514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родик  мы  садили ...</a:t>
            </a:r>
            <a:endParaRPr b="1" i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WordArt 4"/>
          <p:cNvSpPr txBox="1"/>
          <p:nvPr/>
        </p:nvSpPr>
        <p:spPr>
          <a:xfrm>
            <a:off x="171360" y="692280"/>
            <a:ext cx="8972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РАСТИМ  НА  СЛАВУ  ВАМ!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5" name="Picture 9" descr="P1000110"/>
          <p:cNvPicPr/>
          <p:nvPr/>
        </p:nvPicPr>
        <p:blipFill>
          <a:blip r:embed="rId1"/>
          <a:stretch/>
        </p:blipFill>
        <p:spPr>
          <a:xfrm>
            <a:off x="395280" y="2060640"/>
            <a:ext cx="5040360" cy="4797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P1000111"/>
          <p:cNvPicPr/>
          <p:nvPr/>
        </p:nvPicPr>
        <p:blipFill>
          <a:blip r:embed="rId2"/>
          <a:stretch/>
        </p:blipFill>
        <p:spPr>
          <a:xfrm>
            <a:off x="5508720" y="4581360"/>
            <a:ext cx="3384360" cy="22766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1" descr="P1000035"/>
          <p:cNvPicPr/>
          <p:nvPr/>
        </p:nvPicPr>
        <p:blipFill>
          <a:blip r:embed="rId3"/>
          <a:stretch/>
        </p:blipFill>
        <p:spPr>
          <a:xfrm>
            <a:off x="5508720" y="1989000"/>
            <a:ext cx="3384360" cy="251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Monotype Corsiva"/>
              </a:rPr>
              <a:t>КУШАТЬ  ОВОЩИ  И  ФРУКТЫ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Monotype Corsiva"/>
              </a:rPr>
              <a:t>НУЖНО  ЛЮДЯМ  КАЖДЫЙ  ДЕНЬ !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Monotype Corsiva"/>
              </a:rPr>
              <a:t>И  ПРОБЛЕМЫ  СО  ЗДОРОВЬЕМ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Monotype Corsiva"/>
              </a:rPr>
              <a:t>ОБОЙДУТ  ТЕБЯ, КАК  ТЕНЬ 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69" name="Picture 9" descr="P1000079"/>
          <p:cNvPicPr/>
          <p:nvPr/>
        </p:nvPicPr>
        <p:blipFill>
          <a:blip r:embed="rId1"/>
          <a:stretch/>
        </p:blipFill>
        <p:spPr>
          <a:xfrm>
            <a:off x="250920" y="2060640"/>
            <a:ext cx="5113080" cy="47973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0" descr="P1000127"/>
          <p:cNvPicPr/>
          <p:nvPr/>
        </p:nvPicPr>
        <p:blipFill>
          <a:blip r:embed="rId2"/>
          <a:stretch/>
        </p:blipFill>
        <p:spPr>
          <a:xfrm>
            <a:off x="5508720" y="198900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1" descr="P1000065"/>
          <p:cNvPicPr/>
          <p:nvPr/>
        </p:nvPicPr>
        <p:blipFill>
          <a:blip r:embed="rId3"/>
          <a:stretch/>
        </p:blipFill>
        <p:spPr>
          <a:xfrm>
            <a:off x="5508720" y="4581360"/>
            <a:ext cx="3166920" cy="2276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0" descr="P1000034"/>
          <p:cNvPicPr/>
          <p:nvPr/>
        </p:nvPicPr>
        <p:blipFill>
          <a:blip r:embed="rId1"/>
          <a:stretch/>
        </p:blipFill>
        <p:spPr>
          <a:xfrm>
            <a:off x="250920" y="1844640"/>
            <a:ext cx="4105080" cy="23036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1" descr="MEMO0002"/>
          <p:cNvPicPr/>
          <p:nvPr/>
        </p:nvPicPr>
        <p:blipFill>
          <a:blip r:embed="rId2"/>
          <a:stretch/>
        </p:blipFill>
        <p:spPr>
          <a:xfrm>
            <a:off x="4427640" y="1844640"/>
            <a:ext cx="4176720" cy="23036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3" descr="P1000066"/>
          <p:cNvPicPr/>
          <p:nvPr/>
        </p:nvPicPr>
        <p:blipFill>
          <a:blip r:embed="rId3"/>
          <a:stretch/>
        </p:blipFill>
        <p:spPr>
          <a:xfrm>
            <a:off x="250920" y="4149720"/>
            <a:ext cx="4105080" cy="2708280"/>
          </a:xfrm>
          <a:prstGeom prst="rect">
            <a:avLst/>
          </a:prstGeom>
          <a:ln w="0">
            <a:noFill/>
          </a:ln>
        </p:spPr>
      </p:pic>
      <p:sp>
        <p:nvSpPr>
          <p:cNvPr id="725" name="WordArt 9"/>
          <p:cNvSpPr txBox="1"/>
          <p:nvPr/>
        </p:nvSpPr>
        <p:spPr>
          <a:xfrm>
            <a:off x="1403280" y="765000"/>
            <a:ext cx="726768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ГОРОДИК   МЫ    С А Д И Л И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26" name="Picture 16" descr="P1000040"/>
          <p:cNvPicPr/>
          <p:nvPr/>
        </p:nvPicPr>
        <p:blipFill>
          <a:blip r:embed="rId6"/>
          <a:stretch/>
        </p:blipFill>
        <p:spPr>
          <a:xfrm>
            <a:off x="4427640" y="4149720"/>
            <a:ext cx="417672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WordArt 9"/>
          <p:cNvSpPr txBox="1"/>
          <p:nvPr/>
        </p:nvSpPr>
        <p:spPr>
          <a:xfrm>
            <a:off x="971640" y="1052640"/>
            <a:ext cx="702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Н  ТИХОНЬКО  ПОДРАСТАЛ..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9" name="Picture 10" descr="P1000056"/>
          <p:cNvPicPr/>
          <p:nvPr/>
        </p:nvPicPr>
        <p:blipFill>
          <a:blip r:embed="rId1"/>
          <a:stretch/>
        </p:blipFill>
        <p:spPr>
          <a:xfrm>
            <a:off x="755640" y="177336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1" descr="P1000057"/>
          <p:cNvPicPr/>
          <p:nvPr/>
        </p:nvPicPr>
        <p:blipFill>
          <a:blip r:embed="rId2"/>
          <a:stretch/>
        </p:blipFill>
        <p:spPr>
          <a:xfrm>
            <a:off x="4643280" y="1844640"/>
            <a:ext cx="3961080" cy="2448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2" descr="P1000058"/>
          <p:cNvPicPr/>
          <p:nvPr/>
        </p:nvPicPr>
        <p:blipFill>
          <a:blip r:embed="rId3"/>
          <a:stretch/>
        </p:blipFill>
        <p:spPr>
          <a:xfrm>
            <a:off x="684360" y="4300560"/>
            <a:ext cx="3958920" cy="25574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3" descr="P1000039"/>
          <p:cNvPicPr/>
          <p:nvPr/>
        </p:nvPicPr>
        <p:blipFill>
          <a:blip r:embed="rId4"/>
          <a:stretch/>
        </p:blipFill>
        <p:spPr>
          <a:xfrm>
            <a:off x="4643280" y="4300560"/>
            <a:ext cx="3961080" cy="2557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4" name="WordArt 9"/>
          <p:cNvSpPr txBox="1"/>
          <p:nvPr/>
        </p:nvSpPr>
        <p:spPr>
          <a:xfrm>
            <a:off x="2411280" y="981000"/>
            <a:ext cx="4953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Т И ПЕРВЫЙ   УРОЖАЙ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5" name="Picture 10" descr="P1000059"/>
          <p:cNvPicPr/>
          <p:nvPr/>
        </p:nvPicPr>
        <p:blipFill>
          <a:blip r:embed="rId3"/>
          <a:stretch/>
        </p:blipFill>
        <p:spPr>
          <a:xfrm>
            <a:off x="1116000" y="1989000"/>
            <a:ext cx="3543480" cy="2362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1" descr="P1000060"/>
          <p:cNvPicPr/>
          <p:nvPr/>
        </p:nvPicPr>
        <p:blipFill>
          <a:blip r:embed="rId4"/>
          <a:stretch/>
        </p:blipFill>
        <p:spPr>
          <a:xfrm>
            <a:off x="4716360" y="1989000"/>
            <a:ext cx="3816360" cy="2376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2" descr="P1000043"/>
          <p:cNvPicPr/>
          <p:nvPr/>
        </p:nvPicPr>
        <p:blipFill>
          <a:blip r:embed="rId5"/>
          <a:stretch/>
        </p:blipFill>
        <p:spPr>
          <a:xfrm>
            <a:off x="1116000" y="4365720"/>
            <a:ext cx="3527280" cy="24922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3" descr="P1000047"/>
          <p:cNvPicPr/>
          <p:nvPr/>
        </p:nvPicPr>
        <p:blipFill>
          <a:blip r:embed="rId6"/>
          <a:stretch/>
        </p:blipFill>
        <p:spPr>
          <a:xfrm>
            <a:off x="4716360" y="4365720"/>
            <a:ext cx="3816360" cy="2492280"/>
          </a:xfrm>
          <a:prstGeom prst="rect">
            <a:avLst/>
          </a:prstGeom>
          <a:ln w="0">
            <a:noFill/>
          </a:ln>
        </p:spPr>
      </p:pic>
    </p:spTree>
  </p:cSld>
  <p:transition spd="slow" advTm="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0" name="WordArt 4"/>
          <p:cNvSpPr txBox="1"/>
          <p:nvPr/>
        </p:nvSpPr>
        <p:spPr>
          <a:xfrm>
            <a:off x="2627280" y="765000"/>
            <a:ext cx="41245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ДЕСЬ   ФАСОЛЬ ,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41" name="Picture 8" descr="P1000115"/>
          <p:cNvPicPr/>
          <p:nvPr/>
        </p:nvPicPr>
        <p:blipFill>
          <a:blip r:embed="rId1"/>
          <a:stretch/>
        </p:blipFill>
        <p:spPr>
          <a:xfrm>
            <a:off x="838080" y="1989000"/>
            <a:ext cx="3770280" cy="46087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9" descr="P1000132"/>
          <p:cNvPicPr/>
          <p:nvPr/>
        </p:nvPicPr>
        <p:blipFill>
          <a:blip r:embed="rId2"/>
          <a:stretch/>
        </p:blipFill>
        <p:spPr>
          <a:xfrm>
            <a:off x="4761000" y="1989000"/>
            <a:ext cx="3770280" cy="4608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979640" y="981000"/>
            <a:ext cx="5495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М - ПОМИДОРЫ...</a:t>
            </a:r>
            <a:endParaRPr b="1" i="1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5" name="Picture 14" descr="P1000098"/>
          <p:cNvPicPr/>
          <p:nvPr/>
        </p:nvPicPr>
        <p:blipFill>
          <a:blip r:embed="rId3"/>
          <a:stretch/>
        </p:blipFill>
        <p:spPr>
          <a:xfrm>
            <a:off x="1042920" y="1989000"/>
            <a:ext cx="3673440" cy="2519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6" descr="P1000114"/>
          <p:cNvPicPr/>
          <p:nvPr/>
        </p:nvPicPr>
        <p:blipFill>
          <a:blip r:embed="rId4"/>
          <a:stretch/>
        </p:blipFill>
        <p:spPr>
          <a:xfrm>
            <a:off x="1042920" y="4508640"/>
            <a:ext cx="3673440" cy="23493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7" descr="P1000119"/>
          <p:cNvPicPr/>
          <p:nvPr/>
        </p:nvPicPr>
        <p:blipFill>
          <a:blip r:embed="rId5"/>
          <a:stretch/>
        </p:blipFill>
        <p:spPr>
          <a:xfrm>
            <a:off x="4859280" y="4508640"/>
            <a:ext cx="3745080" cy="2349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9" descr="P1000116"/>
          <p:cNvPicPr/>
          <p:nvPr/>
        </p:nvPicPr>
        <p:blipFill>
          <a:blip r:embed="rId6"/>
          <a:stretch/>
        </p:blipFill>
        <p:spPr>
          <a:xfrm>
            <a:off x="4859280" y="1989000"/>
            <a:ext cx="3745080" cy="251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0" name="WordArt 4"/>
          <p:cNvSpPr txBox="1"/>
          <p:nvPr/>
        </p:nvSpPr>
        <p:spPr>
          <a:xfrm>
            <a:off x="1116000" y="907920"/>
            <a:ext cx="68770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ЕЛЕНЕЮТ   ОГУРЦЫ ...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51" name="Picture 10" descr="P1000088"/>
          <p:cNvPicPr/>
          <p:nvPr/>
        </p:nvPicPr>
        <p:blipFill>
          <a:blip r:embed="rId3"/>
          <a:stretch/>
        </p:blipFill>
        <p:spPr>
          <a:xfrm>
            <a:off x="971640" y="1989000"/>
            <a:ext cx="3529080" cy="244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2" descr="P1000112"/>
          <p:cNvPicPr/>
          <p:nvPr/>
        </p:nvPicPr>
        <p:blipFill>
          <a:blip r:embed="rId4"/>
          <a:stretch/>
        </p:blipFill>
        <p:spPr>
          <a:xfrm>
            <a:off x="971640" y="4437000"/>
            <a:ext cx="3529080" cy="24210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P1000120"/>
          <p:cNvPicPr/>
          <p:nvPr/>
        </p:nvPicPr>
        <p:blipFill>
          <a:blip r:embed="rId5"/>
          <a:stretch/>
        </p:blipFill>
        <p:spPr>
          <a:xfrm>
            <a:off x="4643280" y="4437000"/>
            <a:ext cx="3600720" cy="24210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9" descr="P1000095"/>
          <p:cNvPicPr/>
          <p:nvPr/>
        </p:nvPicPr>
        <p:blipFill>
          <a:blip r:embed="rId6"/>
          <a:stretch/>
        </p:blipFill>
        <p:spPr>
          <a:xfrm>
            <a:off x="4643280" y="1989000"/>
            <a:ext cx="3600720" cy="244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6" name="WordArt 4"/>
          <p:cNvSpPr txBox="1"/>
          <p:nvPr/>
        </p:nvSpPr>
        <p:spPr>
          <a:xfrm>
            <a:off x="684360" y="765000"/>
            <a:ext cx="79437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Т  КАКИЕ  УДАЛЫЕ, </a:t>
            </a:r>
            <a:endParaRPr b="1" i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7" name="Picture 8" descr="P1000061"/>
          <p:cNvPicPr/>
          <p:nvPr/>
        </p:nvPicPr>
        <p:blipFill>
          <a:blip r:embed="rId1"/>
          <a:stretch/>
        </p:blipFill>
        <p:spPr>
          <a:xfrm>
            <a:off x="395280" y="1989000"/>
            <a:ext cx="4248000" cy="4869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9" descr="P1000106"/>
          <p:cNvPicPr/>
          <p:nvPr/>
        </p:nvPicPr>
        <p:blipFill>
          <a:blip r:embed="rId2"/>
          <a:stretch/>
        </p:blipFill>
        <p:spPr>
          <a:xfrm>
            <a:off x="4788000" y="1989000"/>
            <a:ext cx="4356000" cy="4869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WordArt 4"/>
          <p:cNvSpPr txBox="1"/>
          <p:nvPr/>
        </p:nvSpPr>
        <p:spPr>
          <a:xfrm>
            <a:off x="324000" y="260280"/>
            <a:ext cx="84772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  НЕ  ТРОГАЙТЕ  ВЫ  НАС,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  НЕМНОГО  ПОДОЖДИТЕ -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1" name="Picture 8" descr="P1000039"/>
          <p:cNvPicPr/>
          <p:nvPr/>
        </p:nvPicPr>
        <p:blipFill>
          <a:blip r:embed="rId1"/>
          <a:stretch/>
        </p:blipFill>
        <p:spPr>
          <a:xfrm>
            <a:off x="0" y="236232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9" descr="P1000107"/>
          <p:cNvPicPr/>
          <p:nvPr/>
        </p:nvPicPr>
        <p:blipFill>
          <a:blip r:embed="rId2"/>
          <a:stretch/>
        </p:blipFill>
        <p:spPr>
          <a:xfrm>
            <a:off x="4572000" y="2349360"/>
            <a:ext cx="4572000" cy="4508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1:09:58Z</dcterms:created>
  <dc:creator>Admin</dc:creator>
  <dc:description/>
  <dc:language>en-US</dc:language>
  <cp:lastModifiedBy>Admin</cp:lastModifiedBy>
  <dcterms:modified xsi:type="dcterms:W3CDTF">2014-11-03T12:09:09Z</dcterms:modified>
  <cp:revision>19</cp:revision>
  <dc:subject/>
  <dc:title>Слайд 1</dc:title>
</cp:coreProperties>
</file>