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.gif" ContentType="image/gif"/>
  <Override PartName="/ppt/media/image25.gif" ContentType="image/gif"/>
  <Override PartName="/ppt/media/image26.gif" ContentType="image/gif"/>
  <Override PartName="/ppt/media/image3.gif" ContentType="image/gif"/>
  <Override PartName="/ppt/media/image7.wmf" ContentType="image/x-wmf"/>
  <Override PartName="/ppt/media/image5.gif" ContentType="image/gif"/>
  <Override PartName="/ppt/media/image30.gif" ContentType="image/gif"/>
  <Override PartName="/ppt/media/image8.wmf" ContentType="image/x-wmf"/>
  <Override PartName="/ppt/media/image10.gif" ContentType="image/gif"/>
  <Override PartName="/ppt/media/image6.gif" ContentType="image/gif"/>
  <Override PartName="/ppt/media/image9.wmf" ContentType="image/x-wmf"/>
  <Override PartName="/ppt/media/image11.gif" ContentType="image/gif"/>
  <Override PartName="/ppt/media/image12.gif" ContentType="image/gif"/>
  <Override PartName="/ppt/media/image13.gif" ContentType="image/gif"/>
  <Override PartName="/ppt/media/image1.gif" ContentType="image/gif"/>
  <Override PartName="/ppt/media/image24.gif" ContentType="image/gif"/>
  <Override PartName="/ppt/media/image27.png" ContentType="image/png"/>
  <Override PartName="/ppt/media/image4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21.png" ContentType="image/png"/>
  <Override PartName="/ppt/media/image17.gif" ContentType="image/gif"/>
  <Override PartName="/ppt/media/image18.gif" ContentType="image/gif"/>
  <Override PartName="/ppt/media/image20.gif" ContentType="image/gif"/>
  <Override PartName="/ppt/media/image19.gif" ContentType="image/gif"/>
  <Override PartName="/ppt/media/image22.gif" ContentType="image/gif"/>
  <Override PartName="/ppt/media/image23.gif" ContentType="image/gif"/>
  <Override PartName="/ppt/media/image2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758-AB24-4D4E-B86A-F9D1922E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F84-6704-4D83-B530-95F32D1C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8D5-9C2D-4047-855F-9D415713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F58-53AC-4683-A432-EC8F9590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DD2A-4F5D-4799-90FB-9DF6DBA2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56E7-7091-4F82-8D35-AC94410C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A468-676A-4393-BE6E-99E29B41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0898-85C9-4097-A9EF-0CA0FB74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795-67AD-4AB7-9DC7-240AD9FD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845-99AC-464B-9E7E-A03C59BD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E576-B504-4E7C-837F-8AD7B473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728-A95A-41EB-9454-7AB25582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2E02-6BC4-436C-BAED-4EA8B52DC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hyperlink" Target="http://smiles.33b.ru/smile.93474.html" TargetMode="External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image" Target="../media/image21.png"/><Relationship Id="rId9" Type="http://schemas.openxmlformats.org/officeDocument/2006/relationships/image" Target="../media/image22.gif"/><Relationship Id="rId10" Type="http://schemas.openxmlformats.org/officeDocument/2006/relationships/image" Target="../media/image23.gif"/><Relationship Id="rId11" Type="http://schemas.openxmlformats.org/officeDocument/2006/relationships/image" Target="../media/image24.gif"/><Relationship Id="rId12" Type="http://schemas.openxmlformats.org/officeDocument/2006/relationships/image" Target="../media/image25.gif"/><Relationship Id="rId13" Type="http://schemas.openxmlformats.org/officeDocument/2006/relationships/image" Target="../media/image26.gif"/><Relationship Id="rId14" Type="http://schemas.openxmlformats.org/officeDocument/2006/relationships/image" Target="../media/image27.png"/><Relationship Id="rId15" Type="http://schemas.openxmlformats.org/officeDocument/2006/relationships/image" Target="../media/image28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907920"/>
            <a:ext cx="7201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Times New Roman"/>
              </a:rPr>
              <a:t>Три склон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6920" y="3141720"/>
            <a:ext cx="79218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0000"/>
                    </a:gs>
                    <a:gs pos="100000">
                      <a:srgbClr val="0000ff"/>
                    </a:gs>
                  </a:gsLst>
                  <a:lin ang="13500000"/>
                </a:gradFill>
                <a:latin typeface="Impact"/>
              </a:rPr>
              <a:t>имен существительных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0000"/>
                  </a:gs>
                  <a:gs pos="100000">
                    <a:srgbClr val="0000ff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142884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1258920" cy="942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140360" y="5013360"/>
            <a:ext cx="1244520" cy="93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flipH="1">
            <a:off x="7092720" y="115920"/>
            <a:ext cx="1368360" cy="1025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116000" y="5661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 flipH="1" rot="10800000">
            <a:off x="7020000" y="5462280"/>
            <a:ext cx="11952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2133720"/>
            <a:ext cx="194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има весна минута птица река яблоня пустыняулица сеял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917640"/>
            <a:ext cx="2160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то        час          год            день  карандаш перо снегирь дрозд  озеро дерево железо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2360" y="2060640"/>
            <a:ext cx="237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ень   ночь тетрадь сирень новость опасность площад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052640"/>
            <a:ext cx="26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 склонени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59280" y="0"/>
            <a:ext cx="26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 склонени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867280" y="98100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 склонени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4360" y="115920"/>
            <a:ext cx="77752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Impact"/>
              </a:rPr>
              <a:t>Самостоятельная работ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59280" y="3068640"/>
            <a:ext cx="29476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916360" y="0"/>
            <a:ext cx="26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 уровень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2682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рой, дупло, ночь, яблоко, море, мете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ник, погода, поляна,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98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98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59280" y="1700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98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700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1628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1700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98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67280" y="98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98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627280" y="2349360"/>
            <a:ext cx="2664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 уровень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28464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изнь, печь, дочь, степь, морковь, тетрадь, лошадь, лень, боль, площ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771640" y="4221000"/>
            <a:ext cx="2664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 уровень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373720"/>
            <a:ext cx="932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ец - папа, деревня - село, торжество - празд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зение - удача, чародей - волшебник, зной - 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200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5280" y="5734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5734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5734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0872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08720" y="5734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6728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20000" y="5734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062920" y="5734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908000" y="1413000"/>
            <a:ext cx="4967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50000">
                      <a:srgbClr val="000000"/>
                    </a:gs>
                    <a:gs pos="100000">
                      <a:srgbClr val="8c3d91"/>
                    </a:gs>
                  </a:gsLst>
                  <a:lin ang="13500000"/>
                </a:gradFill>
                <a:latin typeface="Arial"/>
              </a:rPr>
              <a:t>по улиц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50000">
                    <a:srgbClr val="000000"/>
                  </a:gs>
                  <a:gs pos="100000">
                    <a:srgbClr val="8c3d91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476360" y="4149720"/>
            <a:ext cx="65516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50000">
                      <a:srgbClr val="000000"/>
                    </a:gs>
                    <a:gs pos="100000">
                      <a:srgbClr val="8c3d91"/>
                    </a:gs>
                  </a:gsLst>
                  <a:lin ang="13500000"/>
                </a:gradFill>
                <a:latin typeface="Arial"/>
              </a:rPr>
              <a:t>по площади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50000">
                    <a:srgbClr val="000000"/>
                  </a:gs>
                  <a:gs pos="100000">
                    <a:srgbClr val="8c3d91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00720" y="1052640"/>
            <a:ext cx="1150920" cy="1942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860640"/>
            <a:ext cx="1150920" cy="1943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24360" y="189000"/>
            <a:ext cx="12985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.П.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995640" y="3068640"/>
            <a:ext cx="12985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.П.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41480" y="2401920"/>
            <a:ext cx="70326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Упр. 168 стр. 89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ыучить три склон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имён существительны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16000" y="692280"/>
            <a:ext cx="698508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машнее задание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332000" y="404640"/>
            <a:ext cx="6408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132000" y="3716280"/>
            <a:ext cx="2376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55640" y="620640"/>
            <a:ext cx="52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д...ро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916360" y="1700280"/>
            <a:ext cx="554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л...си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4360" y="2997360"/>
            <a:ext cx="554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г...зе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95640" y="4005360"/>
            <a:ext cx="655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х...зяй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360" y="5589720"/>
            <a:ext cx="518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л...па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1798560" y="441000"/>
            <a:ext cx="86544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1440360" y="5409360"/>
            <a:ext cx="93492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 rot="5400000">
            <a:off x="2922120" y="4141440"/>
            <a:ext cx="92232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5400000">
            <a:off x="4031280" y="1664280"/>
            <a:ext cx="792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 rot="5400000">
            <a:off x="1553760" y="2917800"/>
            <a:ext cx="77940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211640" y="115920"/>
            <a:ext cx="216000" cy="431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850920" y="5157720"/>
            <a:ext cx="144360" cy="358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932360" y="3789360"/>
            <a:ext cx="216000" cy="431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779640" y="2492280"/>
            <a:ext cx="215640" cy="432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56360" y="1197000"/>
            <a:ext cx="216000" cy="431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107520"/>
            <a:ext cx="8988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- нет ошиб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«4»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1 ошиб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«3»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2 ошиб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«2»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- 3 и более ошиб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640" y="2205000"/>
            <a:ext cx="784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заимопроверка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18900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Обед, город, север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земляника, улиц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68360" y="115920"/>
            <a:ext cx="144720" cy="28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981000"/>
            <a:ext cx="57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981000"/>
            <a:ext cx="57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981000"/>
            <a:ext cx="57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1773360"/>
            <a:ext cx="57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27280" y="1773360"/>
            <a:ext cx="57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1773360"/>
            <a:ext cx="57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292360" y="981000"/>
            <a:ext cx="144360" cy="2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779640" y="907920"/>
            <a:ext cx="144360" cy="2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156000" y="115920"/>
            <a:ext cx="144360" cy="28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779640" y="115920"/>
            <a:ext cx="144360" cy="28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2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4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4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684760" y="3500280"/>
            <a:ext cx="3459240" cy="2222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348000" y="3933720"/>
            <a:ext cx="2962440" cy="188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3459240" cy="2222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79280" y="549360"/>
            <a:ext cx="878544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Arial"/>
              </a:rPr>
              <a:t>Автобус едет по улице Кирова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Arial"/>
              </a:rPr>
              <a:t>и по площади Свободы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00720" y="836640"/>
            <a:ext cx="430200" cy="86364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6360" y="2421000"/>
            <a:ext cx="432000" cy="93672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189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.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177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 flipH="1">
            <a:off x="6372360" y="4869000"/>
            <a:ext cx="25668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59403E-006 L -0.69149 -0.00093 E">
                                      <p:cBhvr>
                                        <p:cTn id="163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07800" y="549360"/>
            <a:ext cx="88362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ь, вода, Юра, земля, дочь, море, </a:t>
            </a:r>
            <a:endParaRPr b="1" i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тя, стол, окно, степь.</a:t>
            </a:r>
            <a:endParaRPr b="1" i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3716280"/>
            <a:ext cx="122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</a:rPr>
              <a:t>вод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</a:rPr>
              <a:t>земл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979640" y="3716280"/>
            <a:ext cx="107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</a:rPr>
              <a:t>Юр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</a:rPr>
              <a:t>Вит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419640" y="4581360"/>
            <a:ext cx="108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</a:rPr>
              <a:t>кон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</a:rPr>
              <a:t>сто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292720" y="4653000"/>
            <a:ext cx="122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</a:rPr>
              <a:t>окно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</a:rPr>
              <a:t>мор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77080" y="3573360"/>
            <a:ext cx="15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</a:rPr>
              <a:t>степь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</a:rPr>
              <a:t>дочь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1417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ущ. 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32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ущ. м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40766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ущ. м.р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7080" y="306864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ущ. 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8360" y="4076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ущ. ср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1475640" y="321192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96"/>
                </a:lnTo>
                <a:cubicBezTo>
                  <a:pt x="10800" y="9796"/>
                  <a:pt x="5400" y="10696"/>
                  <a:pt x="0" y="10696"/>
                </a:cubicBezTo>
                <a:cubicBezTo>
                  <a:pt x="5400" y="10696"/>
                  <a:pt x="10800" y="11596"/>
                  <a:pt x="10800" y="124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3645000"/>
            <a:ext cx="288720" cy="360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4149720"/>
            <a:ext cx="360360" cy="3589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3716280"/>
            <a:ext cx="362160" cy="360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5084640"/>
            <a:ext cx="360360" cy="3589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4581360"/>
            <a:ext cx="360360" cy="3589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5157720"/>
            <a:ext cx="432000" cy="3589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4581360"/>
            <a:ext cx="358920" cy="3589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17080" y="4005360"/>
            <a:ext cx="360360" cy="360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459640" y="3573360"/>
            <a:ext cx="360360" cy="360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4149720"/>
            <a:ext cx="360360" cy="289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7686360" y="3627360"/>
            <a:ext cx="432000" cy="2050920"/>
          </a:xfrm>
          <a:custGeom>
            <a:avLst/>
            <a:gdLst>
              <a:gd name="textAreaLeft" fmla="*/ 276120 w 432000"/>
              <a:gd name="textAreaRight" fmla="*/ 432360 w 43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96"/>
                </a:lnTo>
                <a:cubicBezTo>
                  <a:pt x="10800" y="9796"/>
                  <a:pt x="5400" y="10696"/>
                  <a:pt x="0" y="10696"/>
                </a:cubicBezTo>
                <a:cubicBezTo>
                  <a:pt x="5400" y="10696"/>
                  <a:pt x="10800" y="11596"/>
                  <a:pt x="10800" y="124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4872960" y="3920040"/>
            <a:ext cx="431640" cy="3624120"/>
          </a:xfrm>
          <a:custGeom>
            <a:avLst/>
            <a:gdLst>
              <a:gd name="textAreaLeft" fmla="*/ 275760 w 431640"/>
              <a:gd name="textAreaRight" fmla="*/ 432000 w 431640"/>
              <a:gd name="textAreaTop" fmla="*/ 94320 h 3624120"/>
              <a:gd name="textAreaBottom" fmla="*/ 3529800 h 36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96"/>
                </a:lnTo>
                <a:cubicBezTo>
                  <a:pt x="10800" y="9796"/>
                  <a:pt x="5400" y="10696"/>
                  <a:pt x="0" y="10696"/>
                </a:cubicBezTo>
                <a:cubicBezTo>
                  <a:pt x="5400" y="10696"/>
                  <a:pt x="10800" y="11596"/>
                  <a:pt x="10800" y="124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501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 с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77080" y="4797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 с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6021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с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00000" y="1916280"/>
            <a:ext cx="7056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6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 второму склонению относятся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7280" y="0"/>
            <a:ext cx="6624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первому склонению относятся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981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мена существительные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женского и мужского род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с окончаниям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–А, -Я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в именительном пад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2924280"/>
            <a:ext cx="698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мена существительные                                        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ужского рода с нулевым окончанием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реднего род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с окончаниям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–О, -Е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                                                 в именительном пад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522936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мена существительные                                           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женского рода с мягким знаком на конце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в именительном пад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89040" cy="658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 flipH="1">
            <a:off x="7884720" y="260280"/>
            <a:ext cx="755640" cy="79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08000" y="2492280"/>
            <a:ext cx="762120" cy="728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885080" y="2421000"/>
            <a:ext cx="774720" cy="79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826920" y="4221000"/>
            <a:ext cx="705672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6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третьему склонению относятся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 flipH="1" rot="10800000">
            <a:off x="7667640" y="4868640"/>
            <a:ext cx="7729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170640"/>
            <a:ext cx="8677080" cy="6524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действий при определ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клонения имени существите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бы определить склонение имени существительного, нуж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пределить 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ыделить окончание существительного в именительном падеже единственного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 роду и по окончанию определить склонение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бразец рас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Тетрад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она, моя – существительное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женского рода с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на конц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именительном падеже единственного числа нулевое окончание, значит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уществительное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тетрадь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третьего скло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8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76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8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944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8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36"/>
                            </p:stCondLst>
                            <p:childTnLst>
                              <p:par>
                                <p:cTn id="3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60"/>
                            </p:stCondLst>
                            <p:childTnLst>
                              <p:par>
                                <p:cTn id="3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10"/>
                            </p:stCondLst>
                            <p:childTnLst>
                              <p:par>
                                <p:cTn id="3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310"/>
                            </p:stCondLst>
                            <p:childTnLst>
                              <p:par>
                                <p:cTn id="3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11280" y="0"/>
            <a:ext cx="820872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Физминутка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796000" y="3284640"/>
            <a:ext cx="2944800" cy="2038320"/>
          </a:xfrm>
          <a:prstGeom prst="rect">
            <a:avLst/>
          </a:prstGeom>
          <a:ln w="0">
            <a:noFill/>
          </a:ln>
        </p:spPr>
      </p:pic>
      <p:pic>
        <p:nvPicPr>
          <p:cNvPr id="128" name="gr41" descr="gr41"/>
          <p:cNvPicPr/>
          <p:nvPr/>
        </p:nvPicPr>
        <p:blipFill>
          <a:blip r:embed="rId2"/>
          <a:stretch/>
        </p:blipFill>
        <p:spPr>
          <a:xfrm>
            <a:off x="2627280" y="-243000"/>
            <a:ext cx="1722600" cy="194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076640"/>
            <a:ext cx="2806920" cy="2421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39640" y="333360"/>
            <a:ext cx="820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РАН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2484360" y="3284640"/>
            <a:ext cx="4176720" cy="2811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39640" y="333360"/>
            <a:ext cx="8064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Л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0920" y="333360"/>
            <a:ext cx="7993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ЕЗ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987640" y="306864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79280" y="333360"/>
            <a:ext cx="8569440" cy="24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РТОЛЕ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2340000" y="2900520"/>
            <a:ext cx="4824360" cy="3216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95280" y="333360"/>
            <a:ext cx="874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АРМОН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2771640" y="3213000"/>
            <a:ext cx="3600720" cy="3375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50920" y="476280"/>
            <a:ext cx="8748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ВЕР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3492360" y="3141720"/>
            <a:ext cx="2111400" cy="3311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79280" y="333360"/>
            <a:ext cx="8748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РЕВ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2916360" y="2924280"/>
            <a:ext cx="3232080" cy="3716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116000" y="0"/>
            <a:ext cx="7416720" cy="22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ЁРШ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1908000" y="3716280"/>
            <a:ext cx="5689800" cy="2025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755640" y="404640"/>
            <a:ext cx="763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У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2"/>
          <a:stretch/>
        </p:blipFill>
        <p:spPr>
          <a:xfrm>
            <a:off x="3059280" y="2924280"/>
            <a:ext cx="3417840" cy="3124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826920" y="33336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МЕ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3"/>
          <a:stretch/>
        </p:blipFill>
        <p:spPr>
          <a:xfrm>
            <a:off x="3564000" y="2421000"/>
            <a:ext cx="2759040" cy="424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71640" y="33336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У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4"/>
          <a:stretch/>
        </p:blipFill>
        <p:spPr>
          <a:xfrm>
            <a:off x="3564000" y="3141720"/>
            <a:ext cx="2494080" cy="2494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5"/>
          <a:stretch/>
        </p:blipFill>
        <p:spPr>
          <a:xfrm>
            <a:off x="3276720" y="2924280"/>
            <a:ext cx="3960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7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38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0" dur="385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2" dur="38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4" dur="38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385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385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1" dur="38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3" dur="38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1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0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4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4360" y="115920"/>
            <a:ext cx="77752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Impact"/>
              </a:rPr>
              <a:t>Работа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Impact"/>
              </a:rPr>
              <a:t>с учебником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59280" y="3068640"/>
            <a:ext cx="29476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4:28:06Z</dcterms:created>
  <dc:creator>User</dc:creator>
  <dc:description/>
  <dc:language>en-US</dc:language>
  <cp:lastModifiedBy>User</cp:lastModifiedBy>
  <dcterms:modified xsi:type="dcterms:W3CDTF">2009-12-02T13:09:05Z</dcterms:modified>
  <cp:revision>7</cp:revision>
  <dc:subject/>
  <dc:title>Слайд 1</dc:title>
</cp:coreProperties>
</file>