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F570-072A-498C-9EBA-3425054DE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EBB7-6084-4BA4-9640-D2620DAE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841D-CF64-437F-83D0-1A746459E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F5F6-1393-4F4A-B1D6-BCC00C4C9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B588-9EBC-4A20-9012-BCD0C0445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C556-891D-4E48-B7C8-D8B1F23D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DB95-F535-4CD4-8DA4-A8992143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7F61-14BC-4A19-9E3B-FCC1D603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E560-7574-4D94-A1AA-7DB0CF0C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CE11-F47B-4DC5-9DC3-475059D3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DF8F-A953-40B8-B4A2-A23AF6CD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6DF8-B1A8-4FF1-8343-C3265342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03DB-067B-4F45-9503-31BC8838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DD82-76BD-42C8-8D4B-141265BA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905C-F0BB-439C-BBF7-6A4273D9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BF27-2F39-4402-92BB-CD09043F1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0500-8A6C-4358-822D-E84F2080B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52AB-8C12-4DBB-82D9-9D5CA503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7A5C-560A-47DD-8882-FDFEBC5A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EB83-2063-47F5-88CF-1F7823D8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8F90-7FF0-4BFA-8803-E948EB9B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29DA-B056-4115-B6BF-FFCE3E99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0C22-0186-4D93-ADB3-6BBD82FC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51D4-2582-4E56-9C38-970061E0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4DEB-735C-4537-8975-731B80ED9B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1A0C-A4A8-4E05-94D3-D35D1ACA55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26d18"/>
                </a:solidFill>
                <a:latin typeface="Times New Roman"/>
              </a:rPr>
              <a:t>Природа Австралии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Коала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45" name="Picture 4" descr="коала"/>
          <p:cNvPicPr/>
          <p:nvPr/>
        </p:nvPicPr>
        <p:blipFill>
          <a:blip r:embed="rId1"/>
          <a:stretch/>
        </p:blipFill>
        <p:spPr>
          <a:xfrm>
            <a:off x="971640" y="1268280"/>
            <a:ext cx="7200720" cy="394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6" name="Прямоугольник 5"/>
          <p:cNvSpPr/>
          <p:nvPr/>
        </p:nvSpPr>
        <p:spPr>
          <a:xfrm>
            <a:off x="857160" y="5572080"/>
            <a:ext cx="728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алы живут на деревьях в эвкалиптовых рощах Восточной Австралии. Они очень похожи на маленьких медвежат, поэтому их иногда называют сумчатыми медведями. Они сумчатые ,но не медвед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Тасманский (сумчатый) дьявол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48" name="Picture 4" descr="сумчатый дьявол"/>
          <p:cNvPicPr/>
          <p:nvPr/>
        </p:nvPicPr>
        <p:blipFill>
          <a:blip r:embed="rId1"/>
          <a:stretch/>
        </p:blipFill>
        <p:spPr>
          <a:xfrm>
            <a:off x="785880" y="1214280"/>
            <a:ext cx="7715160" cy="400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9" name="Прямоугольник 5"/>
          <p:cNvSpPr/>
          <p:nvPr/>
        </p:nvSpPr>
        <p:spPr>
          <a:xfrm>
            <a:off x="1000080" y="5380200"/>
            <a:ext cx="7143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умчатый или тасманский дьявол, или сумчатый черт млекопитающее семейства хищных сумчатых; единственный вид рода Sarcophilus. Его чёрная окраска, огромная пасть с острыми зубами, зловещие ночные крики и свирепый нрав дали первым европейским поселенцам основание прозвать этого коренастого хищника «дьяволом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2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Лирохвост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1" name="Picture 4" descr="лирохвост 2"/>
          <p:cNvPicPr/>
          <p:nvPr/>
        </p:nvPicPr>
        <p:blipFill>
          <a:blip r:embed="rId1"/>
          <a:stretch/>
        </p:blipFill>
        <p:spPr>
          <a:xfrm>
            <a:off x="6643800" y="1268280"/>
            <a:ext cx="2300040" cy="284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2" name="Picture 5" descr="лирохвост"/>
          <p:cNvPicPr/>
          <p:nvPr/>
        </p:nvPicPr>
        <p:blipFill>
          <a:blip r:embed="rId2"/>
          <a:stretch/>
        </p:blipFill>
        <p:spPr>
          <a:xfrm>
            <a:off x="285840" y="1500120"/>
            <a:ext cx="4438440" cy="32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3" name="Прямоугольник 6"/>
          <p:cNvSpPr/>
          <p:nvPr/>
        </p:nvSpPr>
        <p:spPr>
          <a:xfrm>
            <a:off x="285840" y="4826160"/>
            <a:ext cx="8286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рохвосты, или птицы-лиры— семейство птиц отряда воробьиных. Включает в себя два вида обитающих на земле австралийских птиц. Лирохвосты считаются национальными австралийскими птицами, несмотря на то, что в естественной среде обитания они встречаются редко. Лирохвосты также хорошо известны из-за поразительной красоты своего огромного хвоста у мужской особи птицы — ими можно полюбоваться, когда она раскрывает хвост для демонстрации или при ухаживан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Страус Эму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5" name="Picture 4" descr="страус эму"/>
          <p:cNvPicPr/>
          <p:nvPr/>
        </p:nvPicPr>
        <p:blipFill>
          <a:blip r:embed="rId1"/>
          <a:stretch/>
        </p:blipFill>
        <p:spPr>
          <a:xfrm>
            <a:off x="357120" y="1285920"/>
            <a:ext cx="8271000" cy="371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6" name="Прямоугольник 5"/>
          <p:cNvSpPr/>
          <p:nvPr/>
        </p:nvSpPr>
        <p:spPr>
          <a:xfrm>
            <a:off x="428760" y="5380200"/>
            <a:ext cx="850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́му  — птица отряда казуарообразных, крупнейшая австралийская птица. Это вторая по величине птица после страуса. Ранее эму относили к страусообразным (классификация пересмотрена в 1980-е годы). Эму распространён на большей части материка Австралии, хотя избегает густонаселённых районов, густых лесов и засушливых зо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Сидней-столица Австралии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8" name="Picture 4" descr="sydney-australia"/>
          <p:cNvPicPr/>
          <p:nvPr/>
        </p:nvPicPr>
        <p:blipFill>
          <a:blip r:embed="rId1"/>
          <a:stretch/>
        </p:blipFill>
        <p:spPr>
          <a:xfrm>
            <a:off x="611280" y="1306440"/>
            <a:ext cx="7921440" cy="5227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водопад"/>
          <p:cNvPicPr/>
          <p:nvPr/>
        </p:nvPicPr>
        <p:blipFill>
          <a:blip r:embed="rId1"/>
          <a:stretch/>
        </p:blipFill>
        <p:spPr>
          <a:xfrm>
            <a:off x="395280" y="369720"/>
            <a:ext cx="8353440" cy="6258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Столовая гора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24" name="Picture 4" descr="столовая гора"/>
          <p:cNvPicPr/>
          <p:nvPr/>
        </p:nvPicPr>
        <p:blipFill>
          <a:blip r:embed="rId1"/>
          <a:stretch/>
        </p:blipFill>
        <p:spPr>
          <a:xfrm>
            <a:off x="1116000" y="1413000"/>
            <a:ext cx="6985080" cy="492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Озеро Эйр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26" name="Picture 4" descr="Эйр сверху"/>
          <p:cNvPicPr/>
          <p:nvPr/>
        </p:nvPicPr>
        <p:blipFill>
          <a:blip r:embed="rId1"/>
          <a:stretch/>
        </p:blipFill>
        <p:spPr>
          <a:xfrm>
            <a:off x="395280" y="2492280"/>
            <a:ext cx="5429160" cy="406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Picture 5" descr="озеро Эйр"/>
          <p:cNvPicPr/>
          <p:nvPr/>
        </p:nvPicPr>
        <p:blipFill>
          <a:blip r:embed="rId2"/>
          <a:stretch/>
        </p:blipFill>
        <p:spPr>
          <a:xfrm>
            <a:off x="4643280" y="476280"/>
            <a:ext cx="4286520" cy="224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14200" y="142560"/>
            <a:ext cx="842976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зуарины — вечнозелёные кустарники или деревья, у некоторых видов высота достигает 35 м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казуарин"/>
          <p:cNvPicPr/>
          <p:nvPr/>
        </p:nvPicPr>
        <p:blipFill>
          <a:blip r:embed="rId1"/>
          <a:stretch/>
        </p:blipFill>
        <p:spPr>
          <a:xfrm>
            <a:off x="324000" y="1773360"/>
            <a:ext cx="8105760" cy="428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" name="Text Box 5"/>
          <p:cNvSpPr/>
          <p:nvPr/>
        </p:nvSpPr>
        <p:spPr>
          <a:xfrm>
            <a:off x="3429000" y="62150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зуар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эвкалипты"/>
          <p:cNvPicPr/>
          <p:nvPr/>
        </p:nvPicPr>
        <p:blipFill>
          <a:blip r:embed="rId1"/>
          <a:stretch/>
        </p:blipFill>
        <p:spPr>
          <a:xfrm>
            <a:off x="1042920" y="1773360"/>
            <a:ext cx="7048440" cy="46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Эвкалипты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Бутылочное дерево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34" name="Picture 4" descr="бутылочное 2"/>
          <p:cNvPicPr/>
          <p:nvPr/>
        </p:nvPicPr>
        <p:blipFill>
          <a:blip r:embed="rId1"/>
          <a:stretch/>
        </p:blipFill>
        <p:spPr>
          <a:xfrm>
            <a:off x="539640" y="2133720"/>
            <a:ext cx="2378160" cy="425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5" name="Picture 5" descr="бутылочное дерево"/>
          <p:cNvPicPr/>
          <p:nvPr/>
        </p:nvPicPr>
        <p:blipFill>
          <a:blip r:embed="rId2"/>
          <a:stretch/>
        </p:blipFill>
        <p:spPr>
          <a:xfrm>
            <a:off x="3132000" y="2133720"/>
            <a:ext cx="5639040" cy="42577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Ехидна и утконос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37" name="Picture 4" descr="утконос"/>
          <p:cNvPicPr/>
          <p:nvPr/>
        </p:nvPicPr>
        <p:blipFill>
          <a:blip r:embed="rId1"/>
          <a:stretch/>
        </p:blipFill>
        <p:spPr>
          <a:xfrm>
            <a:off x="5357880" y="1357200"/>
            <a:ext cx="3544920" cy="314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8" name="Picture 5" descr="ехидна"/>
          <p:cNvPicPr/>
          <p:nvPr/>
        </p:nvPicPr>
        <p:blipFill>
          <a:blip r:embed="rId2"/>
          <a:stretch/>
        </p:blipFill>
        <p:spPr>
          <a:xfrm>
            <a:off x="357120" y="1143000"/>
            <a:ext cx="3643560" cy="285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9" name="Прямоугольник 6"/>
          <p:cNvSpPr/>
          <p:nvPr/>
        </p:nvSpPr>
        <p:spPr>
          <a:xfrm>
            <a:off x="5286240" y="4714920"/>
            <a:ext cx="3857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тконос-странное животное. У него хвост, как у бобра, клюв и перепончатые лапы, как у утки. Он откладывает яйца, как рептилия, но выкармливает детенышей  молоком, как млекопитающее. Они живут в норах и охотятся в вод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Прямоугольник 7"/>
          <p:cNvSpPr/>
          <p:nvPr/>
        </p:nvSpPr>
        <p:spPr>
          <a:xfrm>
            <a:off x="214200" y="4000680"/>
            <a:ext cx="4286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хидновые — семейство отряда однопроходных. В этот же отряд наряду с ехиднами входит утконос. Семейство содержит три рода — настоящие ехидны ,проехидны и вымерший род Megalibgwilia. Ареал семейства — Австралия, Тасмания, Новая Гвинея, острова в проливе Басс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Кенгуру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42" name="Picture 4" descr="кенгуру"/>
          <p:cNvPicPr/>
          <p:nvPr/>
        </p:nvPicPr>
        <p:blipFill>
          <a:blip r:embed="rId1"/>
          <a:stretch/>
        </p:blipFill>
        <p:spPr>
          <a:xfrm>
            <a:off x="785880" y="1357200"/>
            <a:ext cx="7416720" cy="335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3" name="Прямоугольник 5"/>
          <p:cNvSpPr/>
          <p:nvPr/>
        </p:nvSpPr>
        <p:spPr>
          <a:xfrm>
            <a:off x="1143000" y="478620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енгуру живут только в Австралии. Они-прекрасные прыгуны. Кенгуру скачут благодаря сильным задним ногам, удерживая равновесие с помощью длинного хвоста. Длина прыжка достигает 10 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7T11:25:06Z</dcterms:created>
  <dc:creator>admin</dc:creator>
  <dc:description/>
  <dc:language>en-US</dc:language>
  <cp:lastModifiedBy>Пользователь</cp:lastModifiedBy>
  <dcterms:modified xsi:type="dcterms:W3CDTF">2014-11-03T13:53:56Z</dcterms:modified>
  <cp:revision>8</cp:revision>
  <dc:subject/>
  <dc:title>Природа Австралии.</dc:title>
</cp:coreProperties>
</file>