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80F-22EF-4E8A-AE13-A652FFC6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41B-36DF-402C-BBC4-EC710996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F58-5EC8-4FE2-BCE8-4F034F70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162-6EFB-4673-BBB8-B8AD91AD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D2F2-B02E-47CB-BAAB-B926F182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DFB4-D294-43C4-9803-3DAA39B2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B8D2-2B62-47ED-A72D-BD608B6C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C3F6-C160-4833-B731-C53E837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2CE-529F-4CA5-A816-B586867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048E-5E9A-4B5B-99CC-855BE326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B68D-721D-4384-B0E3-0ACF5C6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C14-88C8-44F6-AC0B-97FF387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36EA-12F0-4A5A-AD87-2B0B89B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0249-382E-4E7A-9700-532107D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183F-C237-436D-99C8-76B6472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218D-C5EE-494E-B560-EACA517E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7151-1EB5-4AFE-99C4-53351F29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8A7A2-C8BD-4EB9-A3E3-D37D8CD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1DA53-F579-48F6-86CA-1F7F44E1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81685-F87C-42D9-9A9D-154B367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5788E-8D92-4BAF-9821-B984CCB4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62381-5DCA-4723-8288-DBD9665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8EC-66CD-4E95-94AC-2BB4FD8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DEA0A-D4EC-4003-9DF3-93CE468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2B637-574F-42DB-AF59-C30D981B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73F25-76B9-4711-AD94-F84D45D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5B69B-583C-4421-A2A4-5D02942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C54C9-AEA5-4BF6-80F5-4AFC4A9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4741B-F241-43E5-8775-199951FA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48214-5FCA-420E-8C49-511E51B7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ACD4-BC18-4446-BECC-34A3A37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8E43A-AB91-4BA9-9E01-83EEF16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2380-3400-4590-A0FC-84A0FBD5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817-5630-430A-9E66-F39A6D80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ADD0-3DF0-4A25-B4C8-3D16AF01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B63D4-38CA-40A6-985D-2D07C882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1E12-438D-4658-85E4-0205A8E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621A-7802-4DB9-B1CE-AAD03144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F1AB-CAA9-4B63-821C-1380662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E964-462D-441A-B568-3584D35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77EC-2D3B-4FF4-A55D-DB13D24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0361-6598-4A23-9013-72342ADD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18F64-534E-4AA8-B68A-FEBAD7E3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6FF79-4E53-4AE4-9961-5E8EA9FC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2D4-F1AC-4772-A85C-BAC7B32B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D501E-5748-40FC-9D43-CBA1ECC1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091A2-B040-40B6-B2B4-5E721C2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BEC58-3BB0-4092-9531-59287FC2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F3D92-D2BB-4529-B011-6FDC431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0A4D4-0FC7-4C43-A93B-763AAE9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746AC-94D3-4A21-A412-5BC290E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E8EA2-9904-40F5-A295-82B98B3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0528C-65E8-4700-BBBC-A3C0129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FAE38-6F3B-492F-B782-BA7CAAD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E7859-CCE5-44A2-843B-0B5BC344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61A-22E0-44E2-B944-B824720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17881-F105-416F-A4C9-9E0BB9F4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B79DF-F50E-4ADC-A3A4-B44B320D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7911A-FBC7-40D0-B6DD-042C1510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26E96-611E-4A88-ABB2-FB65A6B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1485E-66C2-4FA9-8C0F-928F7438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14DF1-B174-4028-B71E-CA1DC1D8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05359-8E81-4967-BDD1-6B28FD8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10B08-A61F-494C-BFFF-C0F0231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E9BF7-6DB5-4EB7-8546-22E909EA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B2DD8-B6B8-49CC-AD33-15DA2F1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188-199F-47AC-AD9D-67FB382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E737E-D737-4DCD-B146-C78B2FD7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C53A2-8055-4A33-AE8E-9A585D13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B176C-E3F1-4E77-8FA0-EA6E48A4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9FF78-FA0F-4488-9B80-DFAE1D7C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B8F7F-61FB-427E-AE46-CCF4B7E3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1F58B-CE0A-4240-A3E7-95D395A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C5784-AB84-4036-BB6B-56E88949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DC3B2-F27C-4330-99F7-BFAD63A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8E414-A6FD-4A6D-BF03-F00130DA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8B6DD-79C3-4259-BEEC-FEF6AEF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ACA-8AC6-4E96-8E43-4E0E631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53548-3E2B-49B7-A939-1BE60A1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75E47-FD9A-44A7-8C4C-ABED9C4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284DD-EC33-43EC-BA8F-CC26E86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CB02E-73CF-4D44-8ABA-AB337139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0CC81-1863-42CA-BB5B-3FCA2488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7DB-DDE6-4CD5-ADF2-C605CC64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AEB-97D5-48FE-B574-828FB38D63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8A6-B7FB-4F2B-8035-897362B2F6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D1A1-E69D-44CC-822B-1861D35E42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7441-A50E-4D0E-835E-423F472924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E24-2359-4A8C-B5E8-5F29A24CEF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D397-337C-4CFE-A91E-19F76FCE50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BF8-8021-4A50-9862-DAC5A2CA7A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64332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5f6d"/>
                </a:solidFill>
                <a:latin typeface="Century Schoolbook"/>
              </a:rPr>
              <a:t>ДИЗАЙН-ПРОЕКТ. </a:t>
            </a:r>
            <a:br>
              <a:rPr sz="4800"/>
            </a:br>
            <a:r>
              <a:rPr b="1" i="1" lang="ru-RU" sz="4800" spc="-1" strike="noStrike">
                <a:solidFill>
                  <a:srgbClr val="575f6d"/>
                </a:solidFill>
                <a:latin typeface="Century Schoolbook"/>
              </a:rPr>
              <a:t>  «МЕЧТА ГИТАРИСТА».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E:\проект\xCBZ-mqaPt8.jpg"/>
          <p:cNvPicPr/>
          <p:nvPr/>
        </p:nvPicPr>
        <p:blipFill>
          <a:blip r:embed="rId1"/>
          <a:stretch/>
        </p:blipFill>
        <p:spPr>
          <a:xfrm>
            <a:off x="3357720" y="2786040"/>
            <a:ext cx="30542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>
            <a:hlinkClick r:id="rId1" action="ppaction://hlinksldjump"/>
          </p:cNvPr>
          <p:cNvSpPr/>
          <p:nvPr/>
        </p:nvSpPr>
        <p:spPr>
          <a:xfrm>
            <a:off x="642960" y="9288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>
            <a:hlinkClick r:id="rId2" action="ppaction://hlinksldjump"/>
          </p:cNvPr>
          <p:cNvSpPr/>
          <p:nvPr/>
        </p:nvSpPr>
        <p:spPr>
          <a:xfrm>
            <a:off x="5310360" y="71424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ыбор ид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>
            <a:hlinkClick r:id="rId3" action="ppaction://hlinksldjump"/>
          </p:cNvPr>
          <p:cNvSpPr/>
          <p:nvPr/>
        </p:nvSpPr>
        <p:spPr>
          <a:xfrm>
            <a:off x="500040" y="400068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Готовое изде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3025800" y="1928880"/>
            <a:ext cx="29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Ход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8"/>
          <p:cNvSpPr/>
          <p:nvPr/>
        </p:nvSpPr>
        <p:spPr>
          <a:xfrm>
            <a:off x="6179040" y="30002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3143160" y="37861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Логот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ЗАДАЧ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арить подарки – сплошное удовольствие! Но чтобы их сделать, требуется много размышлений и усилий. Подарок должен быть уникальным и полезным. И главное, от всей души. Поэтому стоит задача – создать такой презент на день рождения, который не будет пылиться в дальнем углу кладовки, а будет лишь радовать глаз и, возможно, будет полезным в жизн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Управляющая кнопка: домой 3"/>
          <p:cNvSpPr/>
          <p:nvPr/>
        </p:nvSpPr>
        <p:spPr>
          <a:xfrm>
            <a:off x="7929720" y="5643720"/>
            <a:ext cx="1214280" cy="1214280"/>
          </a:xfrm>
          <a:custGeom>
            <a:avLst/>
            <a:gdLst>
              <a:gd name="textAreaLeft" fmla="*/ 78480 w 1214280"/>
              <a:gd name="textAreaRight" fmla="*/ 1135800 w 121428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69280" cy="6388200"/>
          </a:xfrm>
          <a:prstGeom prst="rect">
            <a:avLst/>
          </a:prstGeom>
          <a:ln w="0">
            <a:noFill/>
          </a:ln>
        </p:spPr>
      </p:pic>
      <p:sp>
        <p:nvSpPr>
          <p:cNvPr id="363" name="Управляющая кнопка: домой 4"/>
          <p:cNvSpPr/>
          <p:nvPr/>
        </p:nvSpPr>
        <p:spPr>
          <a:xfrm>
            <a:off x="7929720" y="5643720"/>
            <a:ext cx="1214280" cy="1214280"/>
          </a:xfrm>
          <a:custGeom>
            <a:avLst/>
            <a:gdLst>
              <a:gd name="textAreaLeft" fmla="*/ 78480 w 1214280"/>
              <a:gd name="textAreaRight" fmla="*/ 1135800 w 121428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Управляющая кнопка: домой 3"/>
          <p:cNvSpPr/>
          <p:nvPr/>
        </p:nvSpPr>
        <p:spPr>
          <a:xfrm>
            <a:off x="7929720" y="5643720"/>
            <a:ext cx="1214280" cy="1214280"/>
          </a:xfrm>
          <a:custGeom>
            <a:avLst/>
            <a:gdLst>
              <a:gd name="textAreaLeft" fmla="*/ 78480 w 1214280"/>
              <a:gd name="textAreaRight" fmla="*/ 1135800 w 121428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 rot="658800">
            <a:off x="5931000" y="248760"/>
            <a:ext cx="2927160" cy="3286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"/>
          <p:cNvPicPr/>
          <p:nvPr/>
        </p:nvPicPr>
        <p:blipFill>
          <a:blip r:embed="rId2"/>
          <a:stretch/>
        </p:blipFill>
        <p:spPr>
          <a:xfrm>
            <a:off x="3214800" y="0"/>
            <a:ext cx="2711160" cy="3357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"/>
          <p:cNvPicPr/>
          <p:nvPr/>
        </p:nvPicPr>
        <p:blipFill>
          <a:blip r:embed="rId3"/>
          <a:stretch/>
        </p:blipFill>
        <p:spPr>
          <a:xfrm rot="20450400">
            <a:off x="441000" y="245880"/>
            <a:ext cx="2733480" cy="3152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4"/>
          <a:stretch/>
        </p:blipFill>
        <p:spPr>
          <a:xfrm rot="20879400">
            <a:off x="325080" y="1584360"/>
            <a:ext cx="3098880" cy="3452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5"/>
          <a:stretch/>
        </p:blipFill>
        <p:spPr>
          <a:xfrm>
            <a:off x="3429000" y="1785960"/>
            <a:ext cx="2976480" cy="37861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6"/>
          <a:stretch/>
        </p:blipFill>
        <p:spPr>
          <a:xfrm rot="21099600">
            <a:off x="285840" y="2357280"/>
            <a:ext cx="3214440" cy="450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"/>
          <p:cNvPicPr/>
          <p:nvPr/>
        </p:nvPicPr>
        <p:blipFill>
          <a:blip r:embed="rId7"/>
          <a:stretch/>
        </p:blipFill>
        <p:spPr>
          <a:xfrm>
            <a:off x="3214800" y="2143080"/>
            <a:ext cx="2966760" cy="4429080"/>
          </a:xfrm>
          <a:prstGeom prst="rect">
            <a:avLst/>
          </a:prstGeom>
          <a:ln w="0">
            <a:noFill/>
          </a:ln>
        </p:spPr>
      </p:pic>
      <p:grpSp>
        <p:nvGrpSpPr>
          <p:cNvPr id="372" name="Группа 15"/>
          <p:cNvGrpSpPr/>
          <p:nvPr/>
        </p:nvGrpSpPr>
        <p:grpSpPr>
          <a:xfrm>
            <a:off x="5929560" y="1571040"/>
            <a:ext cx="3023280" cy="3751920"/>
            <a:chOff x="5929560" y="1571040"/>
            <a:chExt cx="3023280" cy="3751920"/>
          </a:xfrm>
        </p:grpSpPr>
        <p:pic>
          <p:nvPicPr>
            <p:cNvPr id="373" name="Picture 6" descr=""/>
            <p:cNvPicPr/>
            <p:nvPr/>
          </p:nvPicPr>
          <p:blipFill>
            <a:blip r:embed="rId8"/>
            <a:srcRect l="0" t="0" r="8956" b="1252"/>
            <a:stretch/>
          </p:blipFill>
          <p:spPr>
            <a:xfrm rot="490200">
              <a:off x="6279480" y="1744200"/>
              <a:ext cx="2563200" cy="17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7" descr=""/>
            <p:cNvPicPr/>
            <p:nvPr/>
          </p:nvPicPr>
          <p:blipFill>
            <a:blip r:embed="rId9"/>
            <a:srcRect l="0" t="3339" r="9434" b="0"/>
            <a:stretch/>
          </p:blipFill>
          <p:spPr>
            <a:xfrm rot="490200">
              <a:off x="6038640" y="3427560"/>
              <a:ext cx="2573280" cy="172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Picture 10" descr=""/>
          <p:cNvPicPr/>
          <p:nvPr/>
        </p:nvPicPr>
        <p:blipFill>
          <a:blip r:embed="rId10"/>
          <a:stretch/>
        </p:blipFill>
        <p:spPr>
          <a:xfrm rot="639600">
            <a:off x="5851080" y="2409480"/>
            <a:ext cx="2876760" cy="39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ХОДЕ РАБОТЫ У МЕНЯ ПОЛУЧИЛАСЬ ВОТ ТАКАЯ ГИТАР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Управляющая кнопка: домой 3"/>
          <p:cNvSpPr/>
          <p:nvPr/>
        </p:nvSpPr>
        <p:spPr>
          <a:xfrm>
            <a:off x="7929720" y="5643720"/>
            <a:ext cx="1214280" cy="1214280"/>
          </a:xfrm>
          <a:custGeom>
            <a:avLst/>
            <a:gdLst>
              <a:gd name="textAreaLeft" fmla="*/ 78480 w 1214280"/>
              <a:gd name="textAreaRight" fmla="*/ 1135800 w 121428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6" descr="SAM_0192.JPG"/>
          <p:cNvPicPr/>
          <p:nvPr/>
        </p:nvPicPr>
        <p:blipFill>
          <a:blip r:embed="rId1"/>
          <a:stretch/>
        </p:blipFill>
        <p:spPr>
          <a:xfrm>
            <a:off x="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4" descr="нгишщи.jpg"/>
          <p:cNvPicPr/>
          <p:nvPr/>
        </p:nvPicPr>
        <p:blipFill>
          <a:blip r:embed="rId2"/>
          <a:stretch/>
        </p:blipFill>
        <p:spPr>
          <a:xfrm>
            <a:off x="3714840" y="1571760"/>
            <a:ext cx="396540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5f6d"/>
                </a:solidFill>
                <a:latin typeface="Century Schoolbook"/>
              </a:rPr>
              <a:t>ЛОГОТИП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Содержимое 3" descr="логотип 001.jpg"/>
          <p:cNvPicPr/>
          <p:nvPr/>
        </p:nvPicPr>
        <p:blipFill>
          <a:blip r:embed="rId1"/>
          <a:srcRect l="29810" t="19183" r="31848" b="32802"/>
          <a:stretch/>
        </p:blipFill>
        <p:spPr>
          <a:xfrm rot="15746400">
            <a:off x="2392920" y="606960"/>
            <a:ext cx="3857760" cy="6643800"/>
          </a:xfrm>
          <a:prstGeom prst="rect">
            <a:avLst/>
          </a:prstGeom>
          <a:ln w="0">
            <a:noFill/>
          </a:ln>
        </p:spPr>
      </p:pic>
      <p:sp>
        <p:nvSpPr>
          <p:cNvPr id="382" name="Управляющая кнопка: домой 4"/>
          <p:cNvSpPr/>
          <p:nvPr/>
        </p:nvSpPr>
        <p:spPr>
          <a:xfrm>
            <a:off x="7929720" y="5643720"/>
            <a:ext cx="1214280" cy="1214280"/>
          </a:xfrm>
          <a:custGeom>
            <a:avLst/>
            <a:gdLst>
              <a:gd name="textAreaLeft" fmla="*/ 78480 w 1214280"/>
              <a:gd name="textAreaRight" fmla="*/ 1135800 w 121428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924360" y="623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логотипа: Хаухия 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3" descr="логотип 001.jpg"/>
          <p:cNvPicPr/>
          <p:nvPr/>
        </p:nvPicPr>
        <p:blipFill>
          <a:blip r:embed="rId1"/>
          <a:srcRect l="29810" t="19183" r="31848" b="32802"/>
          <a:stretch/>
        </p:blipFill>
        <p:spPr>
          <a:xfrm rot="18555600">
            <a:off x="4662000" y="1274400"/>
            <a:ext cx="3586320" cy="4944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-360" y="1643040"/>
            <a:ext cx="4071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entury Schoolbook"/>
              </a:rPr>
              <a:t>Ваш друг полгода играет на невидимой гитаре? Думаете, он сошел с ума? Да нет же, он просто намекает Вам на, что на праздник хочет получить гитару! Вы осознали это, но у Вас нет денег на настоящую?  Тогда приходите к нам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РЕКЛАМ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Управляющая кнопка: домой 5"/>
          <p:cNvSpPr/>
          <p:nvPr/>
        </p:nvSpPr>
        <p:spPr>
          <a:xfrm>
            <a:off x="7929720" y="5643720"/>
            <a:ext cx="1214280" cy="1214280"/>
          </a:xfrm>
          <a:custGeom>
            <a:avLst/>
            <a:gdLst>
              <a:gd name="textAreaLeft" fmla="*/ 78480 w 1214280"/>
              <a:gd name="textAreaRight" fmla="*/ 1135800 w 121428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Дизайн-проект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Ученицы 10 класса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кецкой Анны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014 год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8:21:44Z</dcterms:created>
  <dc:creator>Ракецкая Т.С.</dc:creator>
  <dc:description/>
  <dc:language>en-US</dc:language>
  <cp:lastModifiedBy>наталья</cp:lastModifiedBy>
  <dcterms:modified xsi:type="dcterms:W3CDTF">2014-03-06T06:09:05Z</dcterms:modified>
  <cp:revision>2</cp:revision>
  <dc:subject/>
  <dc:title>Дизайн-проект.    «Мечта гитариста».</dc:title>
</cp:coreProperties>
</file>