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5F2-B9E8-47CE-BB9A-BB6D16F8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072-40D1-42F4-9E4B-C5D14A4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8F9-5DD0-4260-8B5C-BCDF7B32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974-8A47-4212-86BF-41E42CAC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BA1-79DF-4C15-8005-7CD6D9C5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F48-A1FA-401E-B6FA-64C00F7B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378-179A-4515-B01F-94470838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BF1-EE39-464B-856F-5944651D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C03-EF2D-46AB-921B-DDA747CB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0C5-F15C-4D87-B28B-3CDC0FE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9BC-EBC0-41A5-A8CF-F3E48AD0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134-DCDE-4C85-B056-19599CF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9FB1-EACB-49FF-B65E-F65267B11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ст по математи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полуго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ыбери переместительное свойство с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а + в = в +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(а + в) + с = а + (в +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(а – в) – с = а – (в –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ыбери верное решение за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На первой полке 15 книг, а на второй – на 5 книг больше. Сколько книг на двух полка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(15 – 5)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(15 +5)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15 + 15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йди единицы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см, м,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м </a:t>
            </a:r>
            <a:r>
              <a:rPr b="1" lang="ru-RU" sz="2000" spc="-1" strike="noStrike" baseline="58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ru-RU" sz="2000" spc="-1" strike="noStrike" baseline="58000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М </a:t>
            </a:r>
            <a:r>
              <a:rPr b="1" lang="ru-RU" sz="1800" spc="-1" strike="noStrike" baseline="66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ru-RU" sz="1800" spc="-1" strike="noStrike" baseline="66000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М</a:t>
            </a:r>
            <a:r>
              <a:rPr b="1" lang="ru-RU" sz="1800" spc="-1" strike="noStrike" baseline="66000">
                <a:solidFill>
                  <a:srgbClr val="7030a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кг, г,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ериметр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разность всех сторон 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сумма длин двух сторон 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сумма длин всех сторон 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Чему равен периметр прямоугольника, если его стороны 4 см и 7 с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2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2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1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ямоугольник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четырёхугольник, у которого все углы ост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четырёхугольник, у которого все углы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четырёхугольник, у которого все углы туп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йди корень уравнения 503 – Х = 2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3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ыбери формулу вычитания су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з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(а + в) – с = а – с + в -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а – (в + с) = (а – в) – с = (а – с) -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а + (в + с) = (а + в) + с = (а + с) +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ак называется число а в выраж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 – 5 =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вычит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значение р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уменьш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прос №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Дополни предложение: в 1 м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) 10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)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) 1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23T17:05:1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