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2B8-604D-4629-958B-5DA4C57E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307-4E0D-431B-B0E0-1C5D52F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D13-0ECD-4C22-AD67-7D7E889A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8216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3760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708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8216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73760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2BC-AEF8-42C6-971B-E4D8B6B2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437-F7C8-49CD-AFC7-4914E13E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5CC-A2B1-4397-9126-83C87042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EF54-03D8-4606-AD6C-DC926EF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CA82-227A-4170-9747-B79E6BFD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4A3-231D-4D51-A061-C84C701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27080" y="40140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815-5590-49B9-83D2-A555FEE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84D5-8D2D-4647-AD27-54FB37B6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7E-99F2-4D43-8312-538ACA7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043-3B20-4EF5-8818-B3F07DD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A0E9-D7B2-420C-AC5F-AF517E9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4CF-CABB-4331-AC48-8DD9BD5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BF6-CC62-4F70-8F58-62BCC27A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8216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3760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2708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8216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73760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6A49-75D5-4636-9C72-75F6732A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F0C-AE3F-406A-AE32-A81D19F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C90-408D-48E5-83D7-E1B4834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240-52D3-4CE3-8DD1-6A5AC94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27080" y="40140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3D0-7283-4F24-9238-6570DBE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6C0-F356-4838-902E-7CF357D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968-2953-4907-9162-39458AD3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BC7-E517-470C-B297-6A2050E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428920" y="0"/>
            <a:ext cx="8943840" cy="5079600"/>
            <a:chOff x="-2428920" y="0"/>
            <a:chExt cx="8943840" cy="5079600"/>
          </a:xfrm>
        </p:grpSpPr>
        <p:sp>
          <p:nvSpPr>
            <p:cNvPr id="1" name=""/>
            <p:cNvSpPr/>
            <p:nvPr/>
          </p:nvSpPr>
          <p:spPr>
            <a:xfrm>
              <a:off x="-2428920" y="914400"/>
              <a:ext cx="3085920" cy="4165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819080" y="0"/>
              <a:ext cx="2320200" cy="4205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28520" y="20318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8798-7E4A-4D3B-AB58-0AB3CAD4E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2417760" y="406440"/>
            <a:ext cx="8932680" cy="6298560"/>
            <a:chOff x="-2417760" y="406440"/>
            <a:chExt cx="8932680" cy="6298560"/>
          </a:xfrm>
        </p:grpSpPr>
        <p:sp>
          <p:nvSpPr>
            <p:cNvPr id="46" name=""/>
            <p:cNvSpPr/>
            <p:nvPr/>
          </p:nvSpPr>
          <p:spPr>
            <a:xfrm>
              <a:off x="1085400" y="3352680"/>
              <a:ext cx="54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886400" y="1828440"/>
              <a:ext cx="2743200" cy="48765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17760" y="406440"/>
              <a:ext cx="3029400" cy="5384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901E-1400-4FB9-9191-C108C0E1AC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7080" y="401760"/>
            <a:ext cx="548640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отовность детей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 обучению в школ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0280" y="2195280"/>
            <a:ext cx="62532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упление в школу вызывает перестройку всего образа жизни и деятельности ребен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ая деятельность требует определенного запаса знаний об окружающем мире, сформированности элементарных поня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должен уметь планировать свою деятельность и осуществлять самоконтроль. Не менее важны и навыки речевого общения, развитая мелкая моторика руки и зрительно-двигательная координаци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8280" y="6588000"/>
            <a:ext cx="35956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33000" y="395280"/>
            <a:ext cx="6264360" cy="83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В 6 – 7 лет ребенок должен уме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Вним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выполнять задание не отвлекаясь около 15 минут; находить 5-6 отличий между предметами; удерживать в поле зрения 8-10 предметов; выполнять самостоятельно быстро и правильно задание по предложенному образцу; копировать в точности узор или движ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Памят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запоминать 8-10 картинок; рассказывать по памяти литературные произведения, стихи, содержание картины; повторять в точности текст, состоящий из 3-4 предлож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Мышлени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определять последовательность событий, складывать разрезную картинку из 9-10 частей; находить и объяснять несоответствия на рисунках; находить и объяснять отличия между предметами и явлениями, находить среди предложенных предметов лишний, объяснять свой выбо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4640" y="250920"/>
            <a:ext cx="6134400" cy="85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Математи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называть числа в прямом и обратном порядке; соотносить цифру и число предметов; составлять и решать задачи в одно действие на сложение и вычитание; пользоваться арифметическими знаками действий; измерять длину предметов с помощью условной меры; ориентироваться на листе бумаги; определять время по час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Развитие реч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правильно произносить все звуки; определять место звука в слове; использовать в речи сложные предложения разных видов; составлять рассказы по сюжетной картине или по серии картинок, из личного опыта, не менее чем из 6-7 предложений; составлять предложения из 5-6 слов, членить простые предложения на слова; делить слова на сло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20280" y="250560"/>
            <a:ext cx="5892840" cy="84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Развитие мелкой моторик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свободно владеть карандашом и кистью при разных приемах рисования; изображать в рисунке несколько предметов, объединяя их единым содержанием; штриховать или раскрашивать рисунки, не выходя за контуры; ориентироваться в тетради в клетку или в линию; передавать в рисунке точную форму предмета, пропорции, расположение част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Ознакомление с окружающи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называть свое имя,   фамилию и отчество, имя и отчество своих родителей; название своего родного города, столицы; последовательность времен года, частей суток, дней недели; называть весенние, летние, осенние, зимние месяцы; отличать хищных животных от травоядных, перелетных птиц от зимующих, садовые цветы от полевых, деревья от кустарников; называть все явления природы, название нашей планеты и спутника Зем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20280" y="2436840"/>
            <a:ext cx="5892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Не забывайте, что ваши занятия с ребенком должны проходить на достаточно хорошем эмоциональном уровн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Если ваш ребенок в данный момент не настроен заниматься, отложите занятия до более удобного момен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Желаем Вам успех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воспитании детей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0:17:13Z</dcterms:created>
  <dc:creator>Садик</dc:creator>
  <dc:description/>
  <dc:language>en-US</dc:language>
  <cp:lastModifiedBy>Организация</cp:lastModifiedBy>
  <dcterms:modified xsi:type="dcterms:W3CDTF">2009-09-22T05:02:33Z</dcterms:modified>
  <cp:revision>4</cp:revision>
  <dc:subject/>
  <dc:title>Слайд 1</dc:title>
</cp:coreProperties>
</file>