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1.gif" ContentType="image/gif"/>
  <Override PartName="/ppt/media/image9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2.gif" ContentType="image/gif"/>
  <Override PartName="/ppt/media/image25.gif" ContentType="image/gif"/>
  <Override PartName="/ppt/media/image10.gif" ContentType="image/gif"/>
  <Override PartName="/ppt/media/image5.gif" ContentType="image/gif"/>
  <Override PartName="/ppt/media/image23.jpeg" ContentType="image/jpeg"/>
  <Override PartName="/ppt/media/image21.jpeg" ContentType="image/jpeg"/>
  <Override PartName="/ppt/media/image19.png" ContentType="image/png"/>
  <Override PartName="/ppt/media/image16.gif" ContentType="image/gif"/>
  <Override PartName="/ppt/media/image14.gif" ContentType="image/gif"/>
  <Override PartName="/ppt/media/image24.gif" ContentType="image/gif"/>
  <Override PartName="/ppt/media/image1.gif" ContentType="image/gif"/>
  <Override PartName="/ppt/media/image7.jpeg" ContentType="image/jpeg"/>
  <Override PartName="/ppt/media/image17.jpeg" ContentType="image/jpeg"/>
  <Override PartName="/ppt/media/image3.png" ContentType="image/png"/>
  <Override PartName="/ppt/media/image22.jpeg" ContentType="image/jpeg"/>
  <Override PartName="/ppt/media/image4.gif" ContentType="image/gi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E72-DE96-46D2-97B9-89DEA40C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49A-8674-43A7-984E-C6A34B5F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C38-113E-48B9-95E7-C86357F6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0B4-807E-4EF2-ADB0-4EA26150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177-35D9-4470-A702-A379CD5B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A17-D286-4A5C-ABD3-231486D8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884-DBFB-4B6A-8411-19FC8A52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73A-3AEA-4559-9A33-930B1F1D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CCD-E24D-43EA-A646-8620BEE3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C8D-F616-4F68-A715-7534B0A2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441-1831-4530-AD0E-7997F3B1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C49-B827-46E3-BCA3-CDE67E51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231D-0722-4FFC-93ED-CE2F312D6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108000" y="3357720"/>
            <a:ext cx="6002280" cy="2303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disson"/>
              </a:rPr>
              <a:t>Урок игра по математ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disson"/>
              </a:rPr>
              <a:t>Путешествие в сказку</a:t>
            </a:r>
            <a:r>
              <a:rPr b="1" lang="ru-RU" sz="4000" spc="-1" strike="noStrike">
                <a:solidFill>
                  <a:srgbClr val="000000"/>
                </a:solidFill>
                <a:latin typeface="Edisso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flover_0033"/>
          <p:cNvPicPr/>
          <p:nvPr/>
        </p:nvPicPr>
        <p:blipFill>
          <a:blip r:embed="rId2"/>
          <a:stretch/>
        </p:blipFill>
        <p:spPr>
          <a:xfrm>
            <a:off x="5138640" y="4724280"/>
            <a:ext cx="971640" cy="1433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938040" y="645156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Гришанина О. 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6360" y="1700280"/>
            <a:ext cx="7221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5+15=40(шт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0-11=29(шт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твет: 29 шту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cinderella25"/>
          <p:cNvPicPr/>
          <p:nvPr/>
        </p:nvPicPr>
        <p:blipFill>
          <a:blip r:embed="rId2"/>
          <a:stretch/>
        </p:blipFill>
        <p:spPr>
          <a:xfrm>
            <a:off x="395280" y="836640"/>
            <a:ext cx="3495600" cy="57340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5"/>
          <p:cNvSpPr/>
          <p:nvPr/>
        </p:nvSpPr>
        <p:spPr>
          <a:xfrm>
            <a:off x="468360" y="6165720"/>
            <a:ext cx="3095640" cy="49392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4284720" y="620640"/>
            <a:ext cx="4680000" cy="4321080"/>
          </a:xfrm>
          <a:prstGeom prst="cloudCallout">
            <a:avLst>
              <a:gd name="adj1" fmla="val -89384"/>
              <a:gd name="adj2" fmla="val -1414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911840" y="1263600"/>
            <a:ext cx="3908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золушка отправ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бал, надо тыкву преврат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рету, мышей – в лошад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ысу – в кучер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, ребята, в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выполн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ее зад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395280" y="981000"/>
            <a:ext cx="252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7+40 * 27+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+3 * 2+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059280" y="2565360"/>
            <a:ext cx="280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2+50 * 32+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1+8 * 41+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940360" y="9810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3+30 * 30+ 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+6 * 24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971640" y="2492280"/>
            <a:ext cx="792000" cy="792360"/>
          </a:xfrm>
          <a:prstGeom prst="downArrow">
            <a:avLst>
              <a:gd name="adj1" fmla="val 50000"/>
              <a:gd name="adj2" fmla="val 250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3851280" y="371628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5"/>
          <p:cNvSpPr/>
          <p:nvPr/>
        </p:nvSpPr>
        <p:spPr>
          <a:xfrm>
            <a:off x="6804000" y="2349360"/>
            <a:ext cx="792360" cy="863640"/>
          </a:xfrm>
          <a:prstGeom prst="downArrow">
            <a:avLst>
              <a:gd name="adj1" fmla="val 50000"/>
              <a:gd name="adj2" fmla="val 272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6" descr="Cinderella11"/>
          <p:cNvPicPr/>
          <p:nvPr/>
        </p:nvPicPr>
        <p:blipFill>
          <a:blip r:embed="rId2"/>
          <a:stretch/>
        </p:blipFill>
        <p:spPr>
          <a:xfrm>
            <a:off x="3492360" y="404640"/>
            <a:ext cx="1846440" cy="2059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tehno20"/>
          <p:cNvPicPr/>
          <p:nvPr/>
        </p:nvPicPr>
        <p:blipFill>
          <a:blip r:embed="rId3"/>
          <a:stretch/>
        </p:blipFill>
        <p:spPr>
          <a:xfrm>
            <a:off x="179280" y="3860640"/>
            <a:ext cx="2700360" cy="2433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losh12"/>
          <p:cNvPicPr/>
          <p:nvPr/>
        </p:nvPicPr>
        <p:blipFill>
          <a:blip r:embed="rId4"/>
          <a:stretch/>
        </p:blipFill>
        <p:spPr>
          <a:xfrm>
            <a:off x="2987640" y="4653000"/>
            <a:ext cx="2448000" cy="1838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0" descr="кучер"/>
          <p:cNvPicPr/>
          <p:nvPr/>
        </p:nvPicPr>
        <p:blipFill>
          <a:blip r:embed="rId5"/>
          <a:stretch/>
        </p:blipFill>
        <p:spPr>
          <a:xfrm>
            <a:off x="6372360" y="3500280"/>
            <a:ext cx="21463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-2160" y="333360"/>
            <a:ext cx="89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 Золушка едет на бал, давайте решим веселые задач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523"/>
          <p:cNvPicPr/>
          <p:nvPr/>
        </p:nvPicPr>
        <p:blipFill>
          <a:blip r:embed="rId2"/>
          <a:stretch/>
        </p:blipFill>
        <p:spPr>
          <a:xfrm>
            <a:off x="324000" y="1989000"/>
            <a:ext cx="3235320" cy="35290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6"/>
          <p:cNvSpPr/>
          <p:nvPr/>
        </p:nvSpPr>
        <p:spPr>
          <a:xfrm>
            <a:off x="4140360" y="1700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3851280" y="371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796000" y="2997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5364000" y="5229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7451640" y="422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7380360" y="1557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8101080" y="6165720"/>
            <a:ext cx="718920" cy="432000"/>
          </a:xfrm>
          <a:prstGeom prst="rightArrow">
            <a:avLst>
              <a:gd name="adj1" fmla="val 50000"/>
              <a:gd name="adj2" fmla="val 416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4"/>
          <p:cNvSpPr/>
          <p:nvPr/>
        </p:nvSpPr>
        <p:spPr>
          <a:xfrm>
            <a:off x="8172360" y="5734080"/>
            <a:ext cx="554040" cy="6969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В тарелке лежали 3 морковки и 4 яблока. Сколько фруктов было в тарел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174_0"/>
          <p:cNvPicPr/>
          <p:nvPr/>
        </p:nvPicPr>
        <p:blipFill>
          <a:blip r:embed="rId2"/>
          <a:stretch/>
        </p:blipFill>
        <p:spPr>
          <a:xfrm>
            <a:off x="3203640" y="3573360"/>
            <a:ext cx="2879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юстре горело 5 лампочек. Д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них погасли. Сколько ламп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алось в люст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8172360" y="5734080"/>
            <a:ext cx="554040" cy="6969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5a996594903b8b39f163091c96469707"/>
          <p:cNvPicPr/>
          <p:nvPr/>
        </p:nvPicPr>
        <p:blipFill>
          <a:blip r:embed="rId2"/>
          <a:stretch/>
        </p:blipFill>
        <p:spPr>
          <a:xfrm>
            <a:off x="1547640" y="692280"/>
            <a:ext cx="3171960" cy="428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5a996594903b8b39f163091c96469707"/>
          <p:cNvPicPr/>
          <p:nvPr/>
        </p:nvPicPr>
        <p:blipFill>
          <a:blip r:embed="rId3"/>
          <a:stretch/>
        </p:blipFill>
        <p:spPr>
          <a:xfrm>
            <a:off x="4716360" y="692280"/>
            <a:ext cx="31719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амы дочка Даша, сын Саша, соб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жок и кот Пушок. Сколько детей 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8172360" y="5734080"/>
            <a:ext cx="554040" cy="6969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033"/>
          <p:cNvPicPr/>
          <p:nvPr/>
        </p:nvPicPr>
        <p:blipFill>
          <a:blip r:embed="rId2"/>
          <a:stretch/>
        </p:blipFill>
        <p:spPr>
          <a:xfrm>
            <a:off x="2411280" y="3213000"/>
            <a:ext cx="1209960" cy="261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котик (69)"/>
          <p:cNvPicPr/>
          <p:nvPr/>
        </p:nvPicPr>
        <p:blipFill>
          <a:blip r:embed="rId3"/>
          <a:stretch/>
        </p:blipFill>
        <p:spPr>
          <a:xfrm>
            <a:off x="4427640" y="5013360"/>
            <a:ext cx="1095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олке стояли детские книжки. Подбежала собачка, взяла одну книжку, потом еще одну, потом еще две. Сколько книжек она прочита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8172360" y="5734080"/>
            <a:ext cx="554040" cy="6969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kniga35"/>
          <p:cNvPicPr/>
          <p:nvPr/>
        </p:nvPicPr>
        <p:blipFill>
          <a:blip r:embed="rId2"/>
          <a:stretch/>
        </p:blipFill>
        <p:spPr>
          <a:xfrm>
            <a:off x="3492360" y="4005360"/>
            <a:ext cx="2159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летели два чижа, два стрижа, два ужа. Сколько птиц летало около моего до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172360" y="5734080"/>
            <a:ext cx="554040" cy="6969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malch65"/>
          <p:cNvPicPr/>
          <p:nvPr/>
        </p:nvPicPr>
        <p:blipFill>
          <a:blip r:embed="rId2"/>
          <a:stretch/>
        </p:blipFill>
        <p:spPr>
          <a:xfrm>
            <a:off x="3348000" y="350028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толе стояло 5 стаканов ягоды. Миша съел один и поставил его на стол. Сколько стаканов стоит на ст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172360" y="5734080"/>
            <a:ext cx="554040" cy="6969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5" descr="0_81dd_dcc90cf1_XL.jpg"/>
          <p:cNvPicPr/>
          <p:nvPr/>
        </p:nvPicPr>
        <p:blipFill>
          <a:blip r:embed="rId2"/>
          <a:stretch/>
        </p:blipFill>
        <p:spPr>
          <a:xfrm>
            <a:off x="4357800" y="3429000"/>
            <a:ext cx="2357280" cy="31431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0_81dd_dcc90cf1_XL.jpg"/>
          <p:cNvPicPr/>
          <p:nvPr/>
        </p:nvPicPr>
        <p:blipFill>
          <a:blip r:embed="rId3"/>
          <a:stretch/>
        </p:blipFill>
        <p:spPr>
          <a:xfrm>
            <a:off x="2000160" y="3429000"/>
            <a:ext cx="23576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мачеха"/>
          <p:cNvPicPr/>
          <p:nvPr/>
        </p:nvPicPr>
        <p:blipFill>
          <a:blip r:embed="rId2"/>
          <a:stretch/>
        </p:blipFill>
        <p:spPr>
          <a:xfrm>
            <a:off x="5940360" y="2637000"/>
            <a:ext cx="2762280" cy="2781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inderella19"/>
          <p:cNvPicPr/>
          <p:nvPr/>
        </p:nvPicPr>
        <p:blipFill>
          <a:blip r:embed="rId3"/>
          <a:stretch/>
        </p:blipFill>
        <p:spPr>
          <a:xfrm>
            <a:off x="1042920" y="1052640"/>
            <a:ext cx="3133800" cy="50576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9"/>
          <p:cNvSpPr/>
          <p:nvPr/>
        </p:nvSpPr>
        <p:spPr>
          <a:xfrm>
            <a:off x="4427640" y="115920"/>
            <a:ext cx="3097080" cy="2305080"/>
          </a:xfrm>
          <a:prstGeom prst="cloudCallout">
            <a:avLst>
              <a:gd name="adj1" fmla="val -76500"/>
              <a:gd name="adj2" fmla="val 65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чеха приготовила м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ного трудны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ю ли я на б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мачеха"/>
          <p:cNvPicPr/>
          <p:nvPr/>
        </p:nvPicPr>
        <p:blipFill>
          <a:blip r:embed="rId4"/>
          <a:stretch/>
        </p:blipFill>
        <p:spPr>
          <a:xfrm>
            <a:off x="5940360" y="2637000"/>
            <a:ext cx="2762280" cy="27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inderella19"/>
          <p:cNvPicPr/>
          <p:nvPr/>
        </p:nvPicPr>
        <p:blipFill>
          <a:blip r:embed="rId5"/>
          <a:stretch/>
        </p:blipFill>
        <p:spPr>
          <a:xfrm>
            <a:off x="1042920" y="1052640"/>
            <a:ext cx="31338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cinderella23"/>
          <p:cNvPicPr/>
          <p:nvPr/>
        </p:nvPicPr>
        <p:blipFill>
          <a:blip r:embed="rId2"/>
          <a:stretch/>
        </p:blipFill>
        <p:spPr>
          <a:xfrm>
            <a:off x="3924360" y="765000"/>
            <a:ext cx="4091040" cy="52452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538560" y="1052640"/>
            <a:ext cx="354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б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пасибо вам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мощ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ез вас я 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 успела на б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Cinderella13"/>
          <p:cNvPicPr/>
          <p:nvPr/>
        </p:nvPicPr>
        <p:blipFill>
          <a:blip r:embed="rId2"/>
          <a:stretch/>
        </p:blipFill>
        <p:spPr>
          <a:xfrm>
            <a:off x="2805120" y="1004760"/>
            <a:ext cx="35337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мачеха"/>
          <p:cNvPicPr/>
          <p:nvPr/>
        </p:nvPicPr>
        <p:blipFill>
          <a:blip r:embed="rId2"/>
          <a:stretch/>
        </p:blipFill>
        <p:spPr>
          <a:xfrm>
            <a:off x="324000" y="333360"/>
            <a:ext cx="2762280" cy="27813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3995640" y="476280"/>
            <a:ext cx="3816360" cy="1512720"/>
          </a:xfrm>
          <a:prstGeom prst="cloudCallout">
            <a:avLst>
              <a:gd name="adj1" fmla="val -83027"/>
              <a:gd name="adj2" fmla="val 355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940360" y="857160"/>
            <a:ext cx="30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551480" y="712800"/>
            <a:ext cx="22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ушка! Проп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ядки со свекл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свекл"/>
          <p:cNvPicPr/>
          <p:nvPr/>
        </p:nvPicPr>
        <p:blipFill>
          <a:blip r:embed="rId3"/>
          <a:stretch/>
        </p:blipFill>
        <p:spPr>
          <a:xfrm>
            <a:off x="1547640" y="4076640"/>
            <a:ext cx="951120" cy="868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свекл"/>
          <p:cNvPicPr/>
          <p:nvPr/>
        </p:nvPicPr>
        <p:blipFill>
          <a:blip r:embed="rId4"/>
          <a:stretch/>
        </p:blipFill>
        <p:spPr>
          <a:xfrm>
            <a:off x="2484360" y="4076640"/>
            <a:ext cx="951120" cy="868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свекл"/>
          <p:cNvPicPr/>
          <p:nvPr/>
        </p:nvPicPr>
        <p:blipFill>
          <a:blip r:embed="rId5"/>
          <a:stretch/>
        </p:blipFill>
        <p:spPr>
          <a:xfrm>
            <a:off x="3419640" y="4076640"/>
            <a:ext cx="950760" cy="86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свекл"/>
          <p:cNvPicPr/>
          <p:nvPr/>
        </p:nvPicPr>
        <p:blipFill>
          <a:blip r:embed="rId6"/>
          <a:stretch/>
        </p:blipFill>
        <p:spPr>
          <a:xfrm>
            <a:off x="4356000" y="4076640"/>
            <a:ext cx="951120" cy="868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свекл"/>
          <p:cNvPicPr/>
          <p:nvPr/>
        </p:nvPicPr>
        <p:blipFill>
          <a:blip r:embed="rId7"/>
          <a:stretch/>
        </p:blipFill>
        <p:spPr>
          <a:xfrm>
            <a:off x="2484360" y="4941720"/>
            <a:ext cx="951120" cy="86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свекл"/>
          <p:cNvPicPr/>
          <p:nvPr/>
        </p:nvPicPr>
        <p:blipFill>
          <a:blip r:embed="rId8"/>
          <a:stretch/>
        </p:blipFill>
        <p:spPr>
          <a:xfrm>
            <a:off x="1547640" y="4941720"/>
            <a:ext cx="951120" cy="86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свекл"/>
          <p:cNvPicPr/>
          <p:nvPr/>
        </p:nvPicPr>
        <p:blipFill>
          <a:blip r:embed="rId9"/>
          <a:stretch/>
        </p:blipFill>
        <p:spPr>
          <a:xfrm>
            <a:off x="5292720" y="4076640"/>
            <a:ext cx="950760" cy="868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свекл"/>
          <p:cNvPicPr/>
          <p:nvPr/>
        </p:nvPicPr>
        <p:blipFill>
          <a:blip r:embed="rId10"/>
          <a:stretch/>
        </p:blipFill>
        <p:spPr>
          <a:xfrm>
            <a:off x="3419640" y="4941720"/>
            <a:ext cx="950760" cy="86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свекл"/>
          <p:cNvPicPr/>
          <p:nvPr/>
        </p:nvPicPr>
        <p:blipFill>
          <a:blip r:embed="rId11"/>
          <a:stretch/>
        </p:blipFill>
        <p:spPr>
          <a:xfrm>
            <a:off x="6227640" y="4076640"/>
            <a:ext cx="951120" cy="86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свекл"/>
          <p:cNvPicPr/>
          <p:nvPr/>
        </p:nvPicPr>
        <p:blipFill>
          <a:blip r:embed="rId12"/>
          <a:stretch/>
        </p:blipFill>
        <p:spPr>
          <a:xfrm>
            <a:off x="7164360" y="4076640"/>
            <a:ext cx="951120" cy="868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" descr="свекл"/>
          <p:cNvPicPr/>
          <p:nvPr/>
        </p:nvPicPr>
        <p:blipFill>
          <a:blip r:embed="rId13"/>
          <a:stretch/>
        </p:blipFill>
        <p:spPr>
          <a:xfrm>
            <a:off x="4356000" y="4941720"/>
            <a:ext cx="951120" cy="86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свекл"/>
          <p:cNvPicPr/>
          <p:nvPr/>
        </p:nvPicPr>
        <p:blipFill>
          <a:blip r:embed="rId14"/>
          <a:stretch/>
        </p:blipFill>
        <p:spPr>
          <a:xfrm>
            <a:off x="5292720" y="4941720"/>
            <a:ext cx="950760" cy="86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свекл"/>
          <p:cNvPicPr/>
          <p:nvPr/>
        </p:nvPicPr>
        <p:blipFill>
          <a:blip r:embed="rId15"/>
          <a:stretch/>
        </p:blipFill>
        <p:spPr>
          <a:xfrm>
            <a:off x="6227640" y="4941720"/>
            <a:ext cx="951120" cy="868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" descr="свекл"/>
          <p:cNvPicPr/>
          <p:nvPr/>
        </p:nvPicPr>
        <p:blipFill>
          <a:blip r:embed="rId16"/>
          <a:stretch/>
        </p:blipFill>
        <p:spPr>
          <a:xfrm>
            <a:off x="7164360" y="4941720"/>
            <a:ext cx="951120" cy="8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inderella19"/>
          <p:cNvPicPr/>
          <p:nvPr/>
        </p:nvPicPr>
        <p:blipFill>
          <a:blip r:embed="rId2"/>
          <a:stretch/>
        </p:blipFill>
        <p:spPr>
          <a:xfrm>
            <a:off x="324000" y="836640"/>
            <a:ext cx="2187360" cy="35290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6"/>
          <p:cNvSpPr/>
          <p:nvPr/>
        </p:nvSpPr>
        <p:spPr>
          <a:xfrm>
            <a:off x="3635280" y="260280"/>
            <a:ext cx="3311640" cy="1656000"/>
          </a:xfrm>
          <a:prstGeom prst="cloudCallout">
            <a:avLst>
              <a:gd name="adj1" fmla="val -70467"/>
              <a:gd name="adj2" fmla="val 86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070160" y="476280"/>
            <a:ext cx="24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ята вы помож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, если бы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авильно реш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2340000" y="3933720"/>
            <a:ext cx="6553080" cy="216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556000" y="407664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 + 5 – 10 + 9 – 4 – 8 + 3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8029440" y="4076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2628720" y="4724280"/>
            <a:ext cx="55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+ 7 + 9 – 10 + 43 + 6 – 36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8172360" y="472428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277164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2628720" y="5300640"/>
            <a:ext cx="576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5 + 30 + 2 + 3 + 28 – 8 – 6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8318520" y="5300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мачеха"/>
          <p:cNvPicPr/>
          <p:nvPr/>
        </p:nvPicPr>
        <p:blipFill>
          <a:blip r:embed="rId2"/>
          <a:stretch/>
        </p:blipFill>
        <p:spPr>
          <a:xfrm>
            <a:off x="6012000" y="3573360"/>
            <a:ext cx="2762280" cy="27813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>
            <a:off x="3708360" y="404640"/>
            <a:ext cx="3456000" cy="1584360"/>
          </a:xfrm>
          <a:prstGeom prst="cloudCallout">
            <a:avLst>
              <a:gd name="adj1" fmla="val 73976"/>
              <a:gd name="adj2" fmla="val 1536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264920" y="63972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ожи фрукты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корз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cinderella19"/>
          <p:cNvPicPr/>
          <p:nvPr/>
        </p:nvPicPr>
        <p:blipFill>
          <a:blip r:embed="rId3"/>
          <a:stretch/>
        </p:blipFill>
        <p:spPr>
          <a:xfrm>
            <a:off x="468360" y="2565360"/>
            <a:ext cx="2190600" cy="35370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8"/>
          <p:cNvSpPr/>
          <p:nvPr/>
        </p:nvSpPr>
        <p:spPr>
          <a:xfrm>
            <a:off x="3203640" y="2708280"/>
            <a:ext cx="2808360" cy="1617480"/>
          </a:xfrm>
          <a:prstGeom prst="cloudCallout">
            <a:avLst>
              <a:gd name="adj1" fmla="val -94263"/>
              <a:gd name="adj2" fmla="val 200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3545640" y="301608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ята, вместе 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мся быстре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жрпижщшюд"/>
          <p:cNvPicPr/>
          <p:nvPr/>
        </p:nvPicPr>
        <p:blipFill>
          <a:blip r:embed="rId2"/>
          <a:stretch/>
        </p:blipFill>
        <p:spPr>
          <a:xfrm rot="2367600">
            <a:off x="1476000" y="4653000"/>
            <a:ext cx="1944720" cy="1795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жрпижщшюд"/>
          <p:cNvPicPr/>
          <p:nvPr/>
        </p:nvPicPr>
        <p:blipFill>
          <a:blip r:embed="rId3"/>
          <a:stretch/>
        </p:blipFill>
        <p:spPr>
          <a:xfrm rot="2367600">
            <a:off x="5565600" y="4621320"/>
            <a:ext cx="1872000" cy="172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jablok33"/>
          <p:cNvPicPr/>
          <p:nvPr/>
        </p:nvPicPr>
        <p:blipFill>
          <a:blip r:embed="rId4"/>
          <a:stretch/>
        </p:blipFill>
        <p:spPr>
          <a:xfrm>
            <a:off x="1042920" y="549360"/>
            <a:ext cx="1495440" cy="158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jablok33"/>
          <p:cNvPicPr/>
          <p:nvPr/>
        </p:nvPicPr>
        <p:blipFill>
          <a:blip r:embed="rId5"/>
          <a:stretch/>
        </p:blipFill>
        <p:spPr>
          <a:xfrm>
            <a:off x="3851280" y="2708280"/>
            <a:ext cx="1360440" cy="144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jablok33"/>
          <p:cNvPicPr/>
          <p:nvPr/>
        </p:nvPicPr>
        <p:blipFill>
          <a:blip r:embed="rId6"/>
          <a:stretch/>
        </p:blipFill>
        <p:spPr>
          <a:xfrm>
            <a:off x="6659640" y="404640"/>
            <a:ext cx="1563480" cy="165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grusha21"/>
          <p:cNvPicPr/>
          <p:nvPr/>
        </p:nvPicPr>
        <p:blipFill>
          <a:blip r:embed="rId7"/>
          <a:stretch/>
        </p:blipFill>
        <p:spPr>
          <a:xfrm>
            <a:off x="3780000" y="476280"/>
            <a:ext cx="1565280" cy="1657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grusha21"/>
          <p:cNvPicPr/>
          <p:nvPr/>
        </p:nvPicPr>
        <p:blipFill>
          <a:blip r:embed="rId8"/>
          <a:stretch/>
        </p:blipFill>
        <p:spPr>
          <a:xfrm>
            <a:off x="1042920" y="2565360"/>
            <a:ext cx="1563840" cy="165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grusha21"/>
          <p:cNvPicPr/>
          <p:nvPr/>
        </p:nvPicPr>
        <p:blipFill>
          <a:blip r:embed="rId9"/>
          <a:stretch/>
        </p:blipFill>
        <p:spPr>
          <a:xfrm>
            <a:off x="6659640" y="2565360"/>
            <a:ext cx="1427040" cy="15112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7"/>
          <p:cNvSpPr/>
          <p:nvPr/>
        </p:nvSpPr>
        <p:spPr>
          <a:xfrm>
            <a:off x="1260360" y="112536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2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1476360" y="35002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9+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4211640" y="1413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0+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6948360" y="981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1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4067280" y="3284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5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6877080" y="3357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2+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167760" y="115920"/>
            <a:ext cx="85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укты с выражениями, в которых к двухзначным числам прибавл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1260720" y="638172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знач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5869080" y="630864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7 0.00486 -0.00034 0.01111 0.00226 0.01458 C 0.01129 0.02637 0.01875 0.03956 0.02761 0.05136 C 0.03039 0.05506 0.03334 0.05899 0.03612 0.06269 C 0.03768 0.06477 0.04098 0.06917 0.04098 0.06917 C 0.04514 0.08814 0.04132 0.10849 0.04688 0.127 C 0.04827 0.14273 0.05174 0.16424 0.04566 0.17835 C 0.0448 0.1802 0.04306 0.18136 0.04202 0.18298 C 0.04115 0.18437 0.04046 0.18622 0.03976 0.18784 C 0.03108 0.20865 0.0224 0.23017 0.00955 0.24728 C 0.0073 0.25954 0.00973 0.25237 -0.00243 0.26487 C -0.01232 0.27504 -0.01909 0.27713 -0.03142 0.27944 C -0.03767 0.2836 -0.04409 0.28406 -0.05069 0.2873 C -0.05798 0.28684 -0.07239 0.28592 -0.07239 0.28592 E">
                                      <p:cBhvr>
                                        <p:cTn id="17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7 0.00486 -0.00034 0.01111 0.00226 0.01458 C 0.01129 0.02637 0.01875 0.03956 0.02761 0.05136 C 0.03039 0.05506 0.03334 0.05899 0.03612 0.06269 C 0.03768 0.06477 0.04098 0.06917 0.04098 0.06917 C 0.04514 0.08814 0.04132 0.10849 0.04688 0.127 C 0.04827 0.14273 0.05174 0.16424 0.04566 0.17835 C 0.0448 0.1802 0.04306 0.18136 0.04202 0.18298 C 0.04115 0.18437 0.04046 0.18622 0.03976 0.18784 C 0.03108 0.20865 0.0224 0.23017 0.00955 0.24728 C 0.0073 0.25954 0.00973 0.25237 -0.00243 0.26487 C -0.01232 0.27504 -0.01909 0.27713 -0.03142 0.27944 C -0.03767 0.2836 -0.04409 0.28406 -0.05069 0.2873 C -0.05798 0.28684 -0.07239 0.28592 -0.07239 0.28592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04 0.02036 0.00243 0.03979 0.00607 0.05945 C 0.0085 0.09207 0.00729 0.12468 0.00486 0.1573 C 0.0052 0.1765 0.00468 0.19593 0.00607 0.21513 C 0.00677 0.22392 0.00937 0.23225 0.01093 0.24081 C 0.0118 0.24497 0.01336 0.25353 0.01336 0.25353 C 0.01371 0.26209 0.01388 0.27065 0.01458 0.27921 C 0.0151 0.28406 0.01666 0.28892 0.01701 0.29378 C 0.01857 0.31182 0.01753 0.32825 0.02291 0.34513 C 0.02638 0.35624 0.0335 0.37983 0.03854 0.39001 C 0.05694 0.42679 0.08003 0.45825 0.09756 0.49595 C 0.09895 0.50313 0.09947 0.514 0.10364 0.52001 C 0.11059 0.53019 0.11493 0.53597 0.12048 0.54708 C 0.12135 0.54916 0.12361 0.55008 0.12413 0.55217 C 0.12482 0.55471 0.12413 0.55749 0.12413 0.56026 E">
                                      <p:cBhvr>
                                        <p:cTn id="17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04 0.02036 0.00243 0.03979 0.00607 0.05945 C 0.0085 0.09207 0.00729 0.12468 0.00486 0.1573 C 0.0052 0.1765 0.00468 0.19593 0.00607 0.21513 C 0.00677 0.22392 0.00937 0.23225 0.01093 0.24081 C 0.0118 0.24497 0.01336 0.25353 0.01336 0.25353 C 0.01371 0.26209 0.01388 0.27065 0.01458 0.27921 C 0.0151 0.28406 0.01666 0.28892 0.01701 0.29378 C 0.01857 0.31182 0.01753 0.32825 0.02291 0.34513 C 0.02638 0.35624 0.0335 0.37983 0.03854 0.39001 C 0.05694 0.42679 0.08003 0.45825 0.09756 0.49595 C 0.09895 0.50313 0.09947 0.514 0.10364 0.52001 C 0.11059 0.53019 0.11493 0.53597 0.12048 0.54708 C 0.12135 0.54916 0.12361 0.55008 0.12413 0.55217 C 0.12482 0.55471 0.12413 0.55749 0.12413 0.56026 E">
                                      <p:cBhvr>
                                        <p:cTn id="17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49 -0.00208 0.04011 -0.00278 0.08924 0 C 0.09931 0.00046 0.11927 0.00324 0.11927 0.00324 C 0.1632 0.00185 0.20747 0.00231 0.2507 -0.00486 C 0.26111 -0.00995 0.2632 -0.01411 0.27483 -0.01596 C 0.29393 -0.03378 0.32136 -0.0199 0.34462 -0.0192 C 0.3533 -0.01157 0.3658 -0.01434 0.37604 -0.01273 C 0.3816 -0.01018 0.3875 -0.00301 0.39288 -0.00162 C 0.39913 0 0.40573 -0.00047 0.41215 0 C 0.42083 0.003 0.4158 0 0.42535 0.01295 C 0.42656 0.01457 0.42865 0.01388 0.43021 0.01457 C 0.43195 0.0155 0.43351 0.01665 0.43507 0.01781 C 0.43594 0.02105 0.43768 0.02405 0.43854 0.02729 C 0.44167 0.04048 0.44028 0.04603 0.4507 0.05297 C 0.45417 0.06222 0.45538 0.06639 0.4507 0.07541 C 0.44948 0.09044 0.44948 0.09484 0.44948 0.08836 E">
                                      <p:cBhvr>
                                        <p:cTn id="18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49 -0.00208 0.04011 -0.00278 0.08924 0 C 0.09931 0.00046 0.11927 0.00324 0.11927 0.00324 C 0.1632 0.00185 0.20747 0.00231 0.2507 -0.00486 C 0.26111 -0.00995 0.2632 -0.01411 0.27483 -0.01596 C 0.29393 -0.03378 0.32136 -0.0199 0.34462 -0.0192 C 0.3533 -0.01157 0.3658 -0.01434 0.37604 -0.01273 C 0.3816 -0.01018 0.3875 -0.00301 0.39288 -0.00162 C 0.39913 0 0.40573 -0.00047 0.41215 0 C 0.42083 0.003 0.4158 0 0.42535 0.01295 C 0.42656 0.01457 0.42865 0.01388 0.43021 0.01457 C 0.43195 0.0155 0.43351 0.01665 0.43507 0.01781 C 0.43594 0.02105 0.43768 0.02405 0.43854 0.02729 C 0.44167 0.04048 0.44028 0.04603 0.4507 0.05297 C 0.45417 0.06222 0.45538 0.06639 0.4507 0.07541 C 0.44948 0.09044 0.44948 0.09484 0.44948 0.08836 E">
                                      <p:cBhvr>
                                        <p:cTn id="184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8 0.00046 -0.06406 -0.00347 -0.08923 0.00486 C -0.09166 0.00694 -0.09392 0.00902 -0.09635 0.01111 C -0.09757 0.01226 -0.09757 0.01504 -0.09878 0.01596 C -0.10139 0.01804 -0.10781 0.01966 -0.11094 0.02082 C -0.11614 0.0229 -0.12656 0.02568 -0.12656 0.02568 C -0.13906 0.03678 -0.15347 0.04187 -0.16753 0.04812 C -0.17639 0.05205 -0.18212 0.0576 -0.19149 0.05922 C -0.19462 0.07148 -0.19479 0.08351 -0.19635 0.09623 C -0.1967 0.10363 -0.19618 0.1115 -0.19757 0.11867 C -0.19791 0.12029 -0.2 0.11983 -0.20121 0.12029 C -0.20451 0.12145 -0.20764 0.12237 -0.21094 0.12353 C -0.21788 0.12584 -0.22378 0.13371 -0.23021 0.1381 C -0.23159 0.14435 -0.23125 0.14111 -0.23125 0.14758 E">
                                      <p:cBhvr>
                                        <p:cTn id="18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8 0.00046 -0.06406 -0.00347 -0.08923 0.00486 C -0.09166 0.00694 -0.09392 0.00902 -0.09635 0.01111 C -0.09757 0.01226 -0.09757 0.01504 -0.09878 0.01596 C -0.10139 0.01804 -0.10781 0.01966 -0.11094 0.02082 C -0.11614 0.0229 -0.12656 0.02568 -0.12656 0.02568 C -0.13906 0.03678 -0.15347 0.04187 -0.16753 0.04812 C -0.17639 0.05205 -0.18212 0.0576 -0.19149 0.05922 C -0.19462 0.07148 -0.19479 0.08351 -0.19635 0.09623 C -0.1967 0.10363 -0.19618 0.1115 -0.19757 0.11867 C -0.19791 0.12029 -0.2 0.11983 -0.20121 0.12029 C -0.20451 0.12145 -0.20764 0.12237 -0.21094 0.12353 C -0.21788 0.12584 -0.22378 0.13371 -0.23021 0.1381 C -0.23159 0.14435 -0.23125 0.14111 -0.23125 0.14758 E">
                                      <p:cBhvr>
                                        <p:cTn id="19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233 -0.00555 -0.03247 0.00948 -0.03993 0.02244 C -0.04427 0.0303 -0.0441 0.03932 -0.04948 0.04649 C -0.05052 0.05112 -0.05035 0.05251 -0.05296 0.05621 C -0.05556 0.06014 -0.06146 0.06731 -0.06146 0.06731 C -0.06493 0.08535 -0.06893 0.1034 -0.07101 0.1219 C -0.07101 0.12213 -0.0724 0.15221 -0.07344 0.1573 C -0.07605 0.16909 -0.08264 0.18783 -0.08681 0.19916 C -0.08855 0.20379 -0.09375 0.21466 -0.09514 0.21998 C -0.09705 0.22739 -0.1 0.24242 -0.1 0.24242 C -0.09948 0.29077 -0.10105 0.32709 -0.09636 0.3708 C -0.09584 0.39324 -0.09688 0.42008 -0.09271 0.44298 C -0.0915 0.44992 -0.09219 0.45801 -0.08924 0.46403 C -0.08421 0.47467 -0.07223 0.4786 -0.06389 0.47999 C -0.05764 0.48554 -0.04844 0.4867 -0.04098 0.48808 C -0.02379 0.49711 0.00121 0.49202 0.01805 0.49132 C 0.01198 0.486 0.00503 0.48901 -0.00122 0.48485 C -0.00712 0.48091 -0.0125 0.47675 -0.01806 0.47189 C -0.02327 0.4675 -0.03004 0.46958 -0.03611 0.46865 C -0.04202 0.4638 -0.04983 0.4631 -0.0566 0.46079 C -0.06372 0.45848 -0.0632 0.45917 -0.05417 0.45917 E">
                                      <p:cBhvr>
                                        <p:cTn id="19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233 -0.00555 -0.03247 0.00948 -0.03993 0.02244 C -0.04427 0.0303 -0.0441 0.03932 -0.04948 0.04649 C -0.05052 0.05112 -0.05035 0.05251 -0.05296 0.05621 C -0.05556 0.06014 -0.06146 0.06731 -0.06146 0.06731 C -0.06493 0.08535 -0.06893 0.1034 -0.07101 0.1219 C -0.07101 0.12213 -0.0724 0.15221 -0.07344 0.1573 C -0.07605 0.16909 -0.08264 0.18783 -0.08681 0.19916 C -0.08855 0.20379 -0.09375 0.21466 -0.09514 0.21998 C -0.09705 0.22739 -0.1 0.24242 -0.1 0.24242 C -0.09948 0.29077 -0.10105 0.32709 -0.09636 0.3708 C -0.09584 0.39324 -0.09688 0.42008 -0.09271 0.44298 C -0.0915 0.44992 -0.09219 0.45801 -0.08924 0.46403 C -0.08421 0.47467 -0.07223 0.4786 -0.06389 0.47999 C -0.05764 0.48554 -0.04844 0.4867 -0.04098 0.48808 C -0.02379 0.49711 0.00121 0.49202 0.01805 0.49132 C 0.01198 0.486 0.00503 0.48901 -0.00122 0.48485 C -0.00712 0.48091 -0.0125 0.47675 -0.01806 0.47189 C -0.02327 0.4675 -0.03004 0.46958 -0.03611 0.46865 C -0.04202 0.4638 -0.04983 0.4631 -0.0566 0.46079 C -0.06372 0.45848 -0.0632 0.45917 -0.05417 0.45917 E">
                                      <p:cBhvr>
                                        <p:cTn id="19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21 -0.00161 -0.00208 -0.00416 -0.00364 -0.00485 C -0.00573 -0.00578 -0.00955 -0.00069 -0.01094 0 C -0.01319 0.00093 -0.01562 0.00116 -0.01805 0.00162 C -0.03142 0.01041 -0.02413 0.00764 -0.03976 0.00972 C -0.05555 0.0199 -0.04583 0.01573 -0.06996 0.01759 C -0.0809 0.02129 -0.09253 0.02059 -0.10364 0.02244 C -0.11753 0.02476 -0.13073 0.03123 -0.14462 0.03378 C -0.15191 0.03748 -0.1651 0.04789 -0.17344 0.04974 C -0.22691 0.06177 -0.28507 0.06154 -0.33854 0.06269 C -0.34896 0.06616 -0.35434 0.07865 -0.36389 0.08513 C -0.36753 0.08744 -0.37396 0.08791 -0.37708 0.08837 C -0.40382 0.09207 -0.41094 0.09045 -0.44826 0.09161 C -0.44878 0.0923 -0.45364 0.10086 -0.45417 0.10271 C -0.45521 0.10572 -0.4566 0.11243 -0.4566 0.11243 C -0.45469 0.13718 -0.45555 0.1617 -0.45781 0.18622 C -0.45868 0.20611 -0.46007 0.22439 -0.46146 0.24405 C -0.46076 0.25538 -0.4618 0.27111 -0.4566 0.28083 C -0.45347 0.30188 -0.45417 0.30003 -0.45417 0.33218 E">
                                      <p:cBhvr>
                                        <p:cTn id="20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21 -0.00161 -0.00208 -0.00416 -0.00364 -0.00485 C -0.00573 -0.00578 -0.00955 -0.00069 -0.01094 0 C -0.01319 0.00093 -0.01562 0.00116 -0.01805 0.00162 C -0.03142 0.01041 -0.02413 0.00764 -0.03976 0.00972 C -0.05555 0.0199 -0.04583 0.01573 -0.06996 0.01759 C -0.0809 0.02129 -0.09253 0.02059 -0.10364 0.02244 C -0.11753 0.02476 -0.13073 0.03123 -0.14462 0.03378 C -0.15191 0.03748 -0.1651 0.04789 -0.17344 0.04974 C -0.22691 0.06177 -0.28507 0.06154 -0.33854 0.06269 C -0.34896 0.06616 -0.35434 0.07865 -0.36389 0.08513 C -0.36753 0.08744 -0.37396 0.08791 -0.37708 0.08837 C -0.40382 0.09207 -0.41094 0.09045 -0.44826 0.09161 C -0.44878 0.0923 -0.45364 0.10086 -0.45417 0.10271 C -0.45521 0.10572 -0.4566 0.11243 -0.4566 0.11243 C -0.45469 0.13718 -0.45555 0.1617 -0.45781 0.18622 C -0.45868 0.20611 -0.46007 0.22439 -0.46146 0.24405 C -0.46076 0.25538 -0.4618 0.27111 -0.4566 0.28083 C -0.45347 0.30188 -0.45417 0.30003 -0.45417 0.33218 E">
                                      <p:cBhvr>
                                        <p:cTn id="20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мачеха"/>
          <p:cNvPicPr/>
          <p:nvPr/>
        </p:nvPicPr>
        <p:blipFill>
          <a:blip r:embed="rId2"/>
          <a:stretch/>
        </p:blipFill>
        <p:spPr>
          <a:xfrm>
            <a:off x="6012000" y="3573360"/>
            <a:ext cx="2762280" cy="27813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"/>
          <p:cNvSpPr/>
          <p:nvPr/>
        </p:nvSpPr>
        <p:spPr>
          <a:xfrm>
            <a:off x="3708360" y="404640"/>
            <a:ext cx="3456000" cy="1584360"/>
          </a:xfrm>
          <a:prstGeom prst="cloudCallout">
            <a:avLst>
              <a:gd name="adj1" fmla="val 73976"/>
              <a:gd name="adj2" fmla="val 1536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266360" y="639720"/>
            <a:ext cx="27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ушка, перемой п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м дом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inderella19"/>
          <p:cNvPicPr/>
          <p:nvPr/>
        </p:nvPicPr>
        <p:blipFill>
          <a:blip r:embed="rId3"/>
          <a:stretch/>
        </p:blipFill>
        <p:spPr>
          <a:xfrm>
            <a:off x="468360" y="2565360"/>
            <a:ext cx="2190600" cy="3537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3203640" y="2708280"/>
            <a:ext cx="2808360" cy="1617480"/>
          </a:xfrm>
          <a:prstGeom prst="cloudCallout">
            <a:avLst>
              <a:gd name="adj1" fmla="val -94263"/>
              <a:gd name="adj2" fmla="val 200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547080" y="3016080"/>
            <a:ext cx="24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ята, мне с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а ваша помощ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мачеха"/>
          <p:cNvPicPr/>
          <p:nvPr/>
        </p:nvPicPr>
        <p:blipFill>
          <a:blip r:embed="rId4"/>
          <a:stretch/>
        </p:blipFill>
        <p:spPr>
          <a:xfrm>
            <a:off x="6012000" y="3573360"/>
            <a:ext cx="2762280" cy="278136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9"/>
          <p:cNvSpPr/>
          <p:nvPr/>
        </p:nvSpPr>
        <p:spPr>
          <a:xfrm>
            <a:off x="3708360" y="404640"/>
            <a:ext cx="3456000" cy="1584360"/>
          </a:xfrm>
          <a:prstGeom prst="cloudCallout">
            <a:avLst>
              <a:gd name="adj1" fmla="val 73976"/>
              <a:gd name="adj2" fmla="val 1536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266360" y="639720"/>
            <a:ext cx="27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ушка, перемой п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м дом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cinderella19"/>
          <p:cNvPicPr/>
          <p:nvPr/>
        </p:nvPicPr>
        <p:blipFill>
          <a:blip r:embed="rId5"/>
          <a:stretch/>
        </p:blipFill>
        <p:spPr>
          <a:xfrm>
            <a:off x="468360" y="2565360"/>
            <a:ext cx="2190600" cy="3537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2"/>
          <p:cNvSpPr/>
          <p:nvPr/>
        </p:nvSpPr>
        <p:spPr>
          <a:xfrm>
            <a:off x="3203640" y="2708280"/>
            <a:ext cx="2808360" cy="1617480"/>
          </a:xfrm>
          <a:prstGeom prst="cloudCallout">
            <a:avLst>
              <a:gd name="adj1" fmla="val -94263"/>
              <a:gd name="adj2" fmla="val 200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547080" y="3016080"/>
            <a:ext cx="24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ята, мне с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а ваша помощ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периметр треугольника и квадрата. Сосчитайте периметр всего дом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042920" y="3213000"/>
            <a:ext cx="2879640" cy="2665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042920" y="1916280"/>
            <a:ext cx="2881440" cy="1296720"/>
          </a:xfrm>
          <a:prstGeom prst="triangle">
            <a:avLst>
              <a:gd name="adj" fmla="val 5002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 rot="18684000">
            <a:off x="1189800" y="22755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 rot="2603400">
            <a:off x="3133080" y="234900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125800" y="328464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573080" y="2637000"/>
            <a:ext cx="40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 = 3 + 3 + 4 = 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4788000" y="2997360"/>
            <a:ext cx="217440" cy="1425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285440" y="350028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 = 4 + 4 + 4 + 4 = 16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572000" y="3933720"/>
            <a:ext cx="144360" cy="14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4068000" y="4292640"/>
            <a:ext cx="49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   +  Р  = 10 + 16 = 26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4284720" y="4653000"/>
            <a:ext cx="217440" cy="1429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5364000" y="4724280"/>
            <a:ext cx="144720" cy="14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cinderella19"/>
          <p:cNvPicPr/>
          <p:nvPr/>
        </p:nvPicPr>
        <p:blipFill>
          <a:blip r:embed="rId2"/>
          <a:stretch/>
        </p:blipFill>
        <p:spPr>
          <a:xfrm>
            <a:off x="468360" y="2565360"/>
            <a:ext cx="2190600" cy="3537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9"/>
          <p:cNvSpPr/>
          <p:nvPr/>
        </p:nvSpPr>
        <p:spPr>
          <a:xfrm>
            <a:off x="3564000" y="476280"/>
            <a:ext cx="5184720" cy="3560760"/>
          </a:xfrm>
          <a:prstGeom prst="cloudCallout">
            <a:avLst>
              <a:gd name="adj1" fmla="val -73972"/>
              <a:gd name="adj2" fmla="val 36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3990960" y="1341360"/>
            <a:ext cx="47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чеха приготовила 25 семян круп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кови, редиса на 15шт больше,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урцов на 11 меньше чем реди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семян огурцов при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чех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8:10:57Z</dcterms:created>
  <dc:creator>Гербер</dc:creator>
  <dc:description/>
  <dc:language>en-US</dc:language>
  <cp:lastModifiedBy>lena</cp:lastModifiedBy>
  <dcterms:modified xsi:type="dcterms:W3CDTF">2014-11-03T06:26:43Z</dcterms:modified>
  <cp:revision>12</cp:revision>
  <dc:subject/>
  <dc:title>Слайд 1</dc:title>
</cp:coreProperties>
</file>