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10CD-1924-4413-8A85-C5C1255F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94B8-10D8-48E1-A971-536023F9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94E-D8F0-4304-90FF-E8F135D6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8453-4960-45F3-B52E-FC45C05B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C16A-5497-43BF-A72E-11D1C491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5235-65D7-4CBD-A734-989FB886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DA42-20FD-4FFE-A225-30C59A7D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AD3D-DFA7-43B2-802E-E7661CCC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EA11-7D40-4524-87D4-3FB42C2F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CC58-EA1A-437A-8659-47B8D0FA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B766-28B9-4FD2-AF86-51172C45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E3D-32CE-45BD-8BDB-C72FFCAA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99CD-08DB-4CDF-B7E9-4F80F060E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6713" t="11070" r="342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34837" t="20269" r="10206" b="12126"/>
          <a:stretch/>
        </p:blipFill>
        <p:spPr>
          <a:xfrm>
            <a:off x="684360" y="0"/>
            <a:ext cx="76327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-2233800"/>
            <a:ext cx="74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Крупнейшие агломерации в России с численностью жителей более   1 млн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1. Москва  - 13,5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2. Санкт-Петербург  - 4,75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3. Нижний Новгород  - 1,7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4. Екатеринбург  - 1,54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5. Новосибирск  - 1,5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6. Самара  - 1,41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7. Волгоград  - 1,35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8. Челябинск  - 1,32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9. Ростов-на-Дону  - 1,29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10. Омск  - 1,15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11. Казань  - 1,12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12. Пермь  - 1,07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13. Саратов -  1,07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14. Уфа 1,07 - 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15. Красноярск  - 1,02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5133240"/>
            <a:ext cx="154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 – населенный пункт с населением более 12 тыс человек, из них 80%  не работают в сельсом хозяй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а различ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функциям и числ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-5060520"/>
            <a:ext cx="2271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По численности  населения города бываю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малые -   до 50 тыс. чел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средние -   50 – 100тыс. чел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большие – 100-250тыс. че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крупные – 250 – 500тыс. чел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крупнейшие – 500 -10000чел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города – миллионер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-5370840"/>
            <a:ext cx="82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о функциям города различ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нтральные мес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лица Моск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официальные столиц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эк - х  районов, ФО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кт – Петербург, Новосибирск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тры республик, краев, областей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зань,Уфа,Наль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йонные цент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-       Алагир, Беслан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-520416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функциямТранспортные центры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324648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кограды –Обнинск, Зеленоград 4. Районные центры  Тур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02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ода – курорты – Со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-5204160"/>
            <a:ext cx="82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89000"/>
            <a:ext cx="8229600" cy="65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Города – миллионеры Росс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осква – 8,4 млн.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анкт – Петербург – 5 млн.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овосибирск -1,4 млн.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ижний Новгород -1,4 млн.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Екатеринбург – 1,3 млн.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амара – 1,2 млн.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мск – 1,2 млн.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елябинск – 1,0 млн.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ермь – 1,0 млн.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фа - 1,0 млн.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зань – 1,0 млн.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остов -на – Дону -1,0 млн.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7T13:44:53Z</dcterms:created>
  <dc:creator>Мзоков</dc:creator>
  <dc:description/>
  <dc:language>en-US</dc:language>
  <cp:lastModifiedBy>Мзоков</cp:lastModifiedBy>
  <dcterms:modified xsi:type="dcterms:W3CDTF">2014-10-05T09:12:25Z</dcterms:modified>
  <cp:revision>4</cp:revision>
  <dc:subject/>
  <dc:title>Слайд 1</dc:title>
</cp:coreProperties>
</file>