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6984-FAD4-49FF-9FF1-882020DDB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53B2-120E-4ED1-B4B9-1714236B0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41ED-F994-4390-AF67-EA54DF56D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8A51-B6D9-4013-A065-E8A3E1CD5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F58C-68FC-423D-9D5C-D09FB0272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06A8-A087-41CE-82C9-790F446B3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E41D-C74B-4CC0-B34E-D6BB6BB4C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6D5A-9542-4156-B96B-ACD9197A5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252000"/>
            <a:ext cx="73119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A952-8726-4DEA-B049-B65F6DF30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A208-62DB-4B43-8366-84EF997AC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8151-7B32-491E-8423-F8877A46F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B18D-8E02-4AB2-9D9B-D5DF87B47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434C0A-653E-46CC-B095-02429875E886}" type="slidenum">
              <a:rPr b="0" lang="ru-RU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0" y="216000"/>
            <a:ext cx="9144000" cy="6927840"/>
            <a:chOff x="0" y="216000"/>
            <a:chExt cx="9144000" cy="6927840"/>
          </a:xfrm>
        </p:grpSpPr>
        <p:pic>
          <p:nvPicPr>
            <p:cNvPr id="4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2858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3"/>
            <p:cNvSpPr/>
            <p:nvPr/>
          </p:nvSpPr>
          <p:spPr>
            <a:xfrm>
              <a:off x="0" y="21600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Биологический фантомас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кусственное существо, наделённое комплексом самых совершенных органов чувств животных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" name="Group 2"/>
          <p:cNvGrpSpPr/>
          <p:nvPr/>
        </p:nvGrpSpPr>
        <p:grpSpPr>
          <a:xfrm>
            <a:off x="12600" y="12600"/>
            <a:ext cx="9129960" cy="6926400"/>
            <a:chOff x="12600" y="12600"/>
            <a:chExt cx="9129960" cy="6926400"/>
          </a:xfrm>
        </p:grpSpPr>
        <p:pic>
          <p:nvPicPr>
            <p:cNvPr id="71" name="Picture 3" descr=""/>
            <p:cNvPicPr/>
            <p:nvPr/>
          </p:nvPicPr>
          <p:blipFill>
            <a:blip r:embed="rId1"/>
            <a:stretch/>
          </p:blipFill>
          <p:spPr>
            <a:xfrm>
              <a:off x="12600" y="12600"/>
              <a:ext cx="9129960" cy="692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4"/>
            <p:cNvSpPr/>
            <p:nvPr/>
          </p:nvSpPr>
          <p:spPr>
            <a:xfrm>
              <a:off x="12600" y="12600"/>
              <a:ext cx="9129960" cy="69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а урока: Человек будущего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103640" y="161928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: изобретение человека будущего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868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900000" y="1619280"/>
            <a:ext cx="7425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1370160" y="549360"/>
            <a:ext cx="731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ритерии оценивания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9360" y="1444680"/>
            <a:ext cx="853128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Назва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Что взято за осно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006666"/>
              </a:buClr>
              <a:buFont typeface="Verdana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сть для челове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006666"/>
              </a:buClr>
              <a:buFont typeface="Verdana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имуще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006666"/>
              </a:buClr>
              <a:buFont typeface="Verdana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туаль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006666"/>
              </a:buClr>
              <a:buFont typeface="Verdana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006666"/>
              </a:buClr>
              <a:buFont typeface="Verdana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006666"/>
              </a:buClr>
              <a:buFont typeface="Verdana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ватор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006666"/>
              </a:buClr>
              <a:buFont typeface="Verdana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ходчивость объяс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006666"/>
              </a:buClr>
              <a:buFont typeface="Verdana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ение изображ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 50 балл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5»- (41 – 50 баллов) 80 - 100 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4»- (30 – 40 баллов) 60 - 8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3»- (25 – 29 баллов) 50 – 58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БИО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логия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ех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Н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580000" y="3240000"/>
            <a:ext cx="3564000" cy="361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62948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«Наука – перекрёсток»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66560" y="0"/>
            <a:ext cx="8229600" cy="116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8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8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8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Бионика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- интеграция различных наук, отрасль новейшей техники, использующей в практических целях решения, найденных живой природой в результате эволюции.</a:t>
            </a:r>
            <a:r>
              <a:rPr b="0" lang="ru-RU" sz="28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8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8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Бионика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-  отрасль, занимающаяся  моделированием технических устройств, конструкций по принципам, лежащим в основе соответствующих биологических явлений, функций, орган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370160" y="162000"/>
            <a:ext cx="7313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БИОНИКА – это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а уро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600360" y="2700360"/>
            <a:ext cx="5543640" cy="4135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5640" y="1827000"/>
            <a:ext cx="382284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«Бионика органов чувств человека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  уро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868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недрение в  производство новаторских изобретений.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680000" y="2160720"/>
            <a:ext cx="44640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облем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908000"/>
            <a:ext cx="65865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оздание устройств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иологического управл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иологической стимуляц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иологического протезир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300720" y="4319640"/>
            <a:ext cx="2847960" cy="2538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3640" y="1382760"/>
            <a:ext cx="78102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 романтики без мечты, без творческого труда не может развиваться ни  одна наука, в  том  числе и бионика. Здесь  требуется пытливый ум, полёт строгой и смелой мысли, упорство и творческая фантазия, логика и дерзновенность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И.Б.Литин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цкий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ритерии оцениван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370160" y="1827360"/>
            <a:ext cx="731340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: 50 баллов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«5»- (41 – 50 баллов) 80 - 100 %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«4»- (30 – 40 баллов) 60 - 80%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«3»- (25 – 29 баллов) 50 – 58%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ние изобрет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Что взято за осно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Актуаль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Новиз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Биологическая отрасль (внедрени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Новаторств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Простота использо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Стоимость прибо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Доходчивость объяс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оставление изобретения ( макет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– совершенное существо, но, если бы он попал во внутрь обитаемой вселенной, то увидел бы великое множество новых, неведомых ему миров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я</cp:lastModifiedBy>
  <dcterms:modified xsi:type="dcterms:W3CDTF">2014-09-28T12:21:5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