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B24-2F9F-4760-B682-4808E986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509-6945-4B93-9F30-A28E403F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AB3-6437-4B43-9CE2-2ACD3559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925-A969-4641-A19B-D8B293EC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5141-9D86-405F-9C90-BD37EDE9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7038-0F46-4957-853E-D4E6FD4B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50B4-F36A-481E-8AA6-23FAF735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FC70-1577-4B8E-8375-86736448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0B46-9132-4974-8D16-A1D5FB49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DA90-45A1-4C4C-95F4-3369D268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5D7C-C506-4BFD-92EC-FA327933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560-641B-4FB0-BB64-4ED2358B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2D9C-3002-47BE-A558-6947ED6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6A3F-C07F-48EE-B2CD-9FD578CA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E89A-04F1-406F-A1AB-3823CB16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A4CF-FC41-4E2D-AFDD-C688842C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EE52-1BF4-40B8-A374-77705AEE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4C9-6EBA-439B-896A-20287FB9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DD7-0CA8-42F7-8DED-D5589820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335-C8D3-4092-B9B5-D2EF7E39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A90-B391-422F-B08C-0B796B35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15D-51F2-4F40-9683-F55B7A60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90B-98C5-486D-98B7-1D75EDF6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5B9-95EC-4439-8A88-488B464A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B4E7-FCC4-4E87-90DE-AA2B4BFBB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858E-A0C8-40AC-983D-500B85CB8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Tahoma"/>
              </a:rPr>
              <a:t>Большой Кавказ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4000" y="6308640"/>
            <a:ext cx="712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268280"/>
          <a:ext cx="8856720" cy="5024520"/>
        </p:xfrm>
        <a:graphic>
          <a:graphicData uri="http://schemas.openxmlformats.org/drawingml/2006/table">
            <a:tbl>
              <a:tblPr/>
              <a:tblGrid>
                <a:gridCol w="3348000"/>
                <a:gridCol w="2809800"/>
                <a:gridCol w="26989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Запад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Централь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Восточ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Черное море- </a:t>
                      </a:r>
                      <a:r>
                        <a:rPr b="1" i="1" lang="en-US" sz="18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г</a:t>
                      </a:r>
                      <a:r>
                        <a:rPr b="1" i="1" lang="en-US" sz="20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.Эльбр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г</a:t>
                      </a:r>
                      <a:r>
                        <a:rPr b="1" i="1" lang="en-US" sz="20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.Эльбрус- </a:t>
                      </a:r>
                      <a:r>
                        <a:rPr b="1" i="1" lang="en-US" sz="18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г</a:t>
                      </a:r>
                      <a:r>
                        <a:rPr b="1" i="1" lang="en-US" sz="20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.Казб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г.</a:t>
                      </a:r>
                      <a:r>
                        <a:rPr b="1" i="1" lang="en-US" sz="20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Казбек -Касп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.Пшиш -3780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.Чугуш -3238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.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льбрус-5642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.Дыхтау-5049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.Шхара-5058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жангитау-5049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.Каштан-Тау-5131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.Джимарай-4780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вершин высотой более 4000м из них г.Тебулосмта-4493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.Базардюзю-4466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ccff"/>
                </a:solidFill>
                <a:latin typeface="Tahoma"/>
              </a:rPr>
              <a:t>Ледники Кавказа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844640"/>
          <a:ext cx="8785440" cy="420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3299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адный Кав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тральный Кав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точный Кав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0 ледник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щ.=300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в.к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0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д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щ.=1116кв.к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дники г.Эльбрус – 17 ледников, занимаю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щ.-168,5кв.к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дники г.Казбек -81кв.к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3 ледник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щ.=100кв.к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54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актику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22960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1     Расшифруйте  чис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1.6231401409050334780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2.  5642503340904466140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ffff"/>
                </a:solidFill>
                <a:latin typeface="Tahoma"/>
              </a:rPr>
              <a:t>Задание2   составить трехзначное число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125360"/>
          <a:ext cx="8805960" cy="5410440"/>
        </p:xfrm>
        <a:graphic>
          <a:graphicData uri="http://schemas.openxmlformats.org/drawingml/2006/table">
            <a:tbl>
              <a:tblPr/>
              <a:tblGrid>
                <a:gridCol w="2880000"/>
                <a:gridCol w="2665080"/>
                <a:gridCol w="3260880"/>
              </a:tblGrid>
              <a:tr h="54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.Р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.Озер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.Верш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. Равн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. Г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6. Полуост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7. Республ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8. Нагорь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9. </a:t>
                      </a: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Низм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1.Дагест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. Апшер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3. Талыш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4. Армянск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5. Джимара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6. Сев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7. Приазовь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8. Ку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9. Колхи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1. Предкавказь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2. Бол.  Кав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3. Закавказь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4. Зап. Кав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5. Вост.Кав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471348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Ответы: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Tahoma"/>
              </a:rPr>
              <a:t>181, 185,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4400" spc="-1" strike="noStrike">
                <a:solidFill>
                  <a:srgbClr val="cc00ff"/>
                </a:solidFill>
                <a:latin typeface="Tahoma"/>
              </a:rPr>
              <a:t>263,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4400" spc="-1" strike="noStrike">
                <a:solidFill>
                  <a:srgbClr val="00ccff"/>
                </a:solidFill>
                <a:latin typeface="Tahoma"/>
              </a:rPr>
              <a:t>352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493, 471, 474,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4400" spc="-1" strike="noStrike">
                <a:solidFill>
                  <a:srgbClr val="2b5481"/>
                </a:solidFill>
                <a:latin typeface="Tahoma"/>
              </a:rPr>
              <a:t>533, 535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cc00ff"/>
                </a:solidFill>
                <a:latin typeface="Tahoma"/>
              </a:rPr>
              <a:t>623, 625,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4400" spc="-1" strike="noStrike">
                <a:solidFill>
                  <a:srgbClr val="00ccff"/>
                </a:solidFill>
                <a:latin typeface="Tahoma"/>
              </a:rPr>
              <a:t>715,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843,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993,  971,  974,  99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НИМОК....вид Э Л Ь Б Р У С А из Космоса...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63640" y="2130480"/>
            <a:ext cx="51134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Дыхтау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Казбе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Базардюзю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9900"/>
                </a:solidFill>
                <a:latin typeface="Tahoma"/>
              </a:rPr>
              <a:t>Малый Кавказ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г.Арагац -4090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Г.Гямыш – 3724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Армянское нагорь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Равнины Кавказ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533520"/>
          <a:ext cx="8229600" cy="6154560"/>
        </p:xfrm>
        <a:graphic>
          <a:graphicData uri="http://schemas.openxmlformats.org/drawingml/2006/table">
            <a:tbl>
              <a:tblPr/>
              <a:tblGrid>
                <a:gridCol w="4537080"/>
                <a:gridCol w="369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ПРЕДКАВКАЗЬ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Кубано-Приазовская низме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-100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тавропольская возвыше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600-650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гСтрижамнет-832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г.Бештау-1400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Терско-Кум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рикубан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Кабардин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сетинская накл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Грозненская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500 – (-28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рикум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Закавказь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Колхида (Рионска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-150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Курин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100м- (-28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8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ff"/>
                </a:solidFill>
                <a:latin typeface="Tahoma"/>
              </a:rPr>
              <a:t>Факторы, влияющие на клима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1.Географическое полож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                               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( 40-45с.ш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2.Высота над уровнем мор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3.Близость море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4.Протяженность хребто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                                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с С-З на Ю-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ff"/>
                </a:solidFill>
                <a:uFillTx/>
                <a:latin typeface="Tahoma"/>
              </a:rPr>
              <a:t>Климат </a:t>
            </a:r>
            <a:br>
              <a:rPr sz="4000"/>
            </a:br>
            <a:r>
              <a:rPr b="0" lang="ru-RU" sz="4000" spc="-1" strike="noStrike">
                <a:solidFill>
                  <a:srgbClr val="00ccff"/>
                </a:solidFill>
                <a:latin typeface="Tahoma"/>
              </a:rPr>
              <a:t>Предкавказь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280" y="1628640"/>
          <a:ext cx="8785440" cy="4767480"/>
        </p:xfrm>
        <a:graphic>
          <a:graphicData uri="http://schemas.openxmlformats.org/drawingml/2006/table">
            <a:tbl>
              <a:tblPr/>
              <a:tblGrid>
                <a:gridCol w="3540240"/>
                <a:gridCol w="2652840"/>
                <a:gridCol w="2592360"/>
              </a:tblGrid>
              <a:tr h="13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Зап. Кав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400-500м над уровнем мор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Центр. Кав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2000-3000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Вост. Кав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200-250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л=+21,+24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з=-2,-4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.К.О.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0-600мм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имат-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меренно-континент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л=+4,+14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з=-6,-17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.К.О.=1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 –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меренно-континент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л=+25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з=-4,-6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.К.О.=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-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хой континент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Tahoma"/>
              </a:rPr>
              <a:t>Закавказье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1484280"/>
          <a:ext cx="8640720" cy="403560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Колхид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Малый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         </a:t>
                      </a:r>
                      <a:r>
                        <a:rPr b="1" i="1" lang="en-US" sz="32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Кавка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Куринская низ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л=+23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з=+4,+7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.К.О.=2500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-влажный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бтропи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л=+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з=-10,-15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.К.О.=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00м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-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инент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л=+24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з=+5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.К.О.=300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м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-сухой субтроп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6T14:23:27Z</dcterms:created>
  <dc:creator>Мзоков</dc:creator>
  <dc:description/>
  <dc:language>en-US</dc:language>
  <cp:lastModifiedBy>Мзоков</cp:lastModifiedBy>
  <dcterms:modified xsi:type="dcterms:W3CDTF">2014-05-28T12:56:39Z</dcterms:modified>
  <cp:revision>7</cp:revision>
  <dc:subject/>
  <dc:title>Слайд 1</dc:title>
</cp:coreProperties>
</file>