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3.gif" ContentType="image/gif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DD-5B36-4532-9057-5B1DD9AE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AFC-EC27-4E5E-8FD0-40D1468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3A4-CDD1-4351-93F2-4FDC9163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3A6-2FDA-4391-8AD7-D561E555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13A-59D2-455B-9B84-57F95D2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2E0-221D-4D63-B557-930FC508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448-F69B-41DD-BCE7-2320BAA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4D5-DE80-46EA-81C0-C7F8488F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3C7-EBEB-4FBE-8B7E-B92BF4D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1B9-192F-444C-A975-4F325E1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289-8EF5-4975-B3D8-5EEDFCD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2CB-C663-491D-8A11-FFC90F1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C453-B834-4AC7-BD44-D7037BDA4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9840" y="0"/>
            <a:ext cx="62866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следовательская работа по теме: </a:t>
            </a:r>
            <a:br>
              <a:rPr sz="4400"/>
            </a:br>
            <a:r>
              <a:rPr b="1" lang="ru-RU" sz="5400" spc="-1" strike="noStrike">
                <a:solidFill>
                  <a:srgbClr val="254061"/>
                </a:solidFill>
                <a:latin typeface="Calibri"/>
              </a:rPr>
              <a:t>«Почему мы пишем синими чернилами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9880" y="4428720"/>
            <a:ext cx="4000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ли ученики 2 «Б»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тникова Катя, Чупрын Вова, Крепковский Влад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вченко В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Swetlana\Desktop\исследовательская\чернила\vb_200075.jpg"/>
          <p:cNvPicPr/>
          <p:nvPr/>
        </p:nvPicPr>
        <p:blipFill>
          <a:blip r:embed="rId1"/>
          <a:stretch/>
        </p:blipFill>
        <p:spPr>
          <a:xfrm>
            <a:off x="0" y="1714680"/>
            <a:ext cx="7072200" cy="514332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liubavyshka.ru/_ph/65/1/82126933.jpg"/>
          <p:cNvPicPr/>
          <p:nvPr/>
        </p:nvPicPr>
        <p:blipFill>
          <a:blip r:embed="rId1"/>
          <a:stretch/>
        </p:blipFill>
        <p:spPr>
          <a:xfrm>
            <a:off x="-642960" y="642960"/>
            <a:ext cx="2679840" cy="388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ма исследования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очему мы пишем синими чернилами?»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знать, почему школьники в школе пишут синими чернилами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озможно, синие и фиолетовые чернила лучше воспринимаются глазо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liubavyshka.ru/_ph/65/1/82126933.jpg"/>
          <p:cNvPicPr/>
          <p:nvPr/>
        </p:nvPicPr>
        <p:blipFill>
          <a:blip r:embed="rId1"/>
          <a:stretch/>
        </p:blipFill>
        <p:spPr>
          <a:xfrm>
            <a:off x="144360" y="-380880"/>
            <a:ext cx="55260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00240" y="713880"/>
            <a:ext cx="6143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историю создания черн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какими чернилами писали раньше и пишут сей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ить, почему принято  в школе писать синими черни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эксперимент, выясняющий свойства чернил четырех ц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полученные данные и сделать вы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42800" y="-360"/>
            <a:ext cx="60008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чернила для руч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войства черн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: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зучение теоретических материалов, опрос, эксперимент, сравнение, анализ, обобщение полученных да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71280" y="0"/>
          <a:ext cx="9215280" cy="6858000"/>
        </p:xfrm>
        <a:graphic>
          <a:graphicData uri="http://schemas.openxmlformats.org/drawingml/2006/table">
            <a:tbl>
              <a:tblPr/>
              <a:tblGrid>
                <a:gridCol w="1725480"/>
                <a:gridCol w="1346040"/>
                <a:gridCol w="1514520"/>
                <a:gridCol w="2363760"/>
                <a:gridCol w="2265480"/>
              </a:tblGrid>
              <a:tr h="5922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А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ЯТИЕ ГЛАЗАМИ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Т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-приятный 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14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ас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% - приятный, мало морга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% - раздражает, пуг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чело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елё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% - слишком бледный, плохо видно, расплыв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чело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ё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% - слишком тёмный, пугает, неприятный 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wetlana\Desktop\исследовательская\чернила\i (1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Загнутый угол 2"/>
          <p:cNvSpPr/>
          <p:nvPr/>
        </p:nvSpPr>
        <p:spPr>
          <a:xfrm>
            <a:off x="857160" y="285840"/>
            <a:ext cx="2000520" cy="1928880"/>
          </a:xfrm>
          <a:prstGeom prst="foldedCorner">
            <a:avLst>
              <a:gd name="adj" fmla="val 16666"/>
            </a:avLst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нутый угол 3"/>
          <p:cNvSpPr/>
          <p:nvPr/>
        </p:nvSpPr>
        <p:spPr>
          <a:xfrm>
            <a:off x="3643200" y="1000080"/>
            <a:ext cx="2000520" cy="1928880"/>
          </a:xfrm>
          <a:prstGeom prst="foldedCorner">
            <a:avLst>
              <a:gd name="adj" fmla="val 16666"/>
            </a:avLst>
          </a:prstGeom>
          <a:solidFill>
            <a:srgbClr val="c0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нутый угол 4"/>
          <p:cNvSpPr/>
          <p:nvPr/>
        </p:nvSpPr>
        <p:spPr>
          <a:xfrm>
            <a:off x="6357960" y="1571760"/>
            <a:ext cx="2000160" cy="1928520"/>
          </a:xfrm>
          <a:prstGeom prst="foldedCorner">
            <a:avLst>
              <a:gd name="adj" fmla="val 16666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нутый угол 5"/>
          <p:cNvSpPr/>
          <p:nvPr/>
        </p:nvSpPr>
        <p:spPr>
          <a:xfrm>
            <a:off x="6929280" y="785880"/>
            <a:ext cx="2000520" cy="1928880"/>
          </a:xfrm>
          <a:prstGeom prst="foldedCorner">
            <a:avLst>
              <a:gd name="adj" fmla="val 16666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2" name="click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wetlana\Desktop\исследовательская\SAM_23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Swetlana\Desktop\исследовательская\SAM_23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3" name="click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Swetlana</cp:lastModifiedBy>
  <dcterms:modified xsi:type="dcterms:W3CDTF">2014-11-04T19:12:17Z</dcterms:modified>
  <cp:revision>28</cp:revision>
  <dc:subject/>
  <dc:title>Презентация PowerPoint</dc:title>
</cp:coreProperties>
</file>