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1CC-C0E2-4AD5-A197-B299EF9C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5FF-DFD4-45E2-B3EB-0CE5245F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8A7-17F1-47EA-A658-15F595B6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F660-4A2B-46EE-A688-B5140721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8C87-2168-44CA-80A1-F8FC4CAF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5707-359D-4AC4-B83A-1C1FD9FF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6C60-3D46-442A-BE04-341D56F5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EF62-8401-46C7-A090-D2A5B69F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6DA4-3CCE-46A2-ABA8-7956F43C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A2DF-7341-443D-8586-BD2A7A54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E99C-0994-4BD7-9FDD-8C2F864B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C9F-F9CC-4342-972F-9717D955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297A-DF99-4354-B311-EC80848B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80C5-3D5A-4F86-B5D6-7FB068E8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55D9-EA74-42F1-AFF0-DFD966F4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C3C1-A7F6-4CBE-8BC2-0DB9A7CC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3175-7AEF-46E7-B16E-DDAB8043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63DF-9FFE-4A82-A7F0-602E3EF0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D65-E962-47D6-8E70-727BD7E3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482B-DA1A-41A2-8BD7-5C909EAD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7267-0F92-4FA5-A9BC-A0E26D16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94B-0D0A-4EB9-845C-A2C259FA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8FB2-DCA0-482F-AE8C-CC4395B2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7E6-7DD8-4805-ABB7-7D0A520C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D730-EBF6-4C08-AF9F-FFC15050D3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4FC1-80C3-4720-87DA-DFBCE8DE5AA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090520"/>
            <a:ext cx="7772400" cy="13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СЫЙФАТ ФИГЫЛЬ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03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зента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ff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Шахмат уйнаучы малай минем дустым ид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ff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Зәңгәр балконлы квартирада яшәүче әбинең улы кайт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ff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Эшлисе эшләрем бик күп әле”, - диде Маһруй әб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ff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Сабантуйга кайткан кунаклар клубка җыелдыла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ff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Эшкә китәр вакытың җитте, тиз бул”, - диде ә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2484360" y="1989000"/>
            <a:ext cx="1366920" cy="144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2"/>
          <a:stretch/>
        </p:blipFill>
        <p:spPr>
          <a:xfrm>
            <a:off x="5580000" y="2492280"/>
            <a:ext cx="1152720" cy="144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"/>
          <p:cNvPicPr/>
          <p:nvPr/>
        </p:nvPicPr>
        <p:blipFill>
          <a:blip r:embed="rId3"/>
          <a:stretch/>
        </p:blipFill>
        <p:spPr>
          <a:xfrm>
            <a:off x="1258920" y="3429000"/>
            <a:ext cx="1225440" cy="144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"/>
          <p:cNvPicPr/>
          <p:nvPr/>
        </p:nvPicPr>
        <p:blipFill>
          <a:blip r:embed="rId4"/>
          <a:stretch/>
        </p:blipFill>
        <p:spPr>
          <a:xfrm>
            <a:off x="2987640" y="4365720"/>
            <a:ext cx="1224000" cy="142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" descr=""/>
          <p:cNvPicPr/>
          <p:nvPr/>
        </p:nvPicPr>
        <p:blipFill>
          <a:blip r:embed="rId5"/>
          <a:stretch/>
        </p:blipFill>
        <p:spPr>
          <a:xfrm>
            <a:off x="2268360" y="5300640"/>
            <a:ext cx="790920" cy="158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3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3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6560"/>
                            </p:stCondLst>
                            <p:childTnLst>
                              <p:par>
                                <p:cTn id="4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Сыйфат фигыль </a:t>
            </a: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(причастие)</a:t>
            </a: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гыль төркемч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әс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Үзендә фигыл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ь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һәм сыйфат билгеләрен күрсәт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826920" y="476280"/>
            <a:ext cx="7274160" cy="1008000"/>
          </a:xfrm>
          <a:prstGeom prst="rect">
            <a:avLst/>
          </a:prstGeom>
          <a:solidFill>
            <a:srgbClr val="00cc99">
              <a:alpha val="22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СЫЙФАТ ФИГЫЛ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_s1035"/>
          <p:cNvSpPr/>
          <p:nvPr/>
        </p:nvSpPr>
        <p:spPr>
          <a:xfrm>
            <a:off x="403200" y="3284640"/>
            <a:ext cx="2519280" cy="1260360"/>
          </a:xfrm>
          <a:prstGeom prst="roundRect">
            <a:avLst>
              <a:gd name="adj" fmla="val 16667"/>
            </a:avLst>
          </a:prstGeom>
          <a:solidFill>
            <a:srgbClr val="00cc99">
              <a:alpha val="29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tt-RU" sz="4400" spc="-1" strike="noStrike">
                <a:solidFill>
                  <a:srgbClr val="ffffff"/>
                </a:solidFill>
                <a:latin typeface="Times New Roman"/>
              </a:rPr>
              <a:t>әзерг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imes New Roman"/>
              </a:rPr>
              <a:t>зама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_s1036"/>
          <p:cNvSpPr/>
          <p:nvPr/>
        </p:nvSpPr>
        <p:spPr>
          <a:xfrm>
            <a:off x="3203640" y="3284640"/>
            <a:ext cx="2519280" cy="1260360"/>
          </a:xfrm>
          <a:prstGeom prst="roundRect">
            <a:avLst>
              <a:gd name="adj" fmla="val 16667"/>
            </a:avLst>
          </a:prstGeom>
          <a:solidFill>
            <a:srgbClr val="00cc99">
              <a:alpha val="29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imes New Roman"/>
              </a:rPr>
              <a:t>Үткә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imes New Roman"/>
              </a:rPr>
              <a:t>зама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_s1037"/>
          <p:cNvSpPr/>
          <p:nvPr/>
        </p:nvSpPr>
        <p:spPr>
          <a:xfrm>
            <a:off x="6012000" y="3284640"/>
            <a:ext cx="2519280" cy="1260360"/>
          </a:xfrm>
          <a:prstGeom prst="roundRect">
            <a:avLst>
              <a:gd name="adj" fmla="val 16667"/>
            </a:avLst>
          </a:prstGeom>
          <a:solidFill>
            <a:srgbClr val="00cc99">
              <a:alpha val="29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imes New Roman"/>
              </a:rPr>
              <a:t>Киләчә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imes New Roman"/>
              </a:rPr>
              <a:t>зама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8" name="AutoShape 10"/>
          <p:cNvCxnSpPr>
            <a:stCxn id="124" idx="2"/>
            <a:endCxn id="125" idx="0"/>
          </p:cNvCxnSpPr>
          <p:nvPr/>
        </p:nvCxnSpPr>
        <p:spPr>
          <a:xfrm rot="5400000">
            <a:off x="2175480" y="984240"/>
            <a:ext cx="1775520" cy="2800800"/>
          </a:xfrm>
          <a:prstGeom prst="bentConnector3">
            <a:avLst>
              <a:gd name="adj1" fmla="val 49908"/>
            </a:avLst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29" name="AutoShape 11"/>
          <p:cNvCxnSpPr>
            <a:stCxn id="124" idx="2"/>
            <a:endCxn id="127" idx="0"/>
          </p:cNvCxnSpPr>
          <p:nvPr/>
        </p:nvCxnSpPr>
        <p:spPr>
          <a:xfrm flipH="1" rot="16200000">
            <a:off x="4979880" y="979920"/>
            <a:ext cx="1775520" cy="2809080"/>
          </a:xfrm>
          <a:prstGeom prst="bentConnector3">
            <a:avLst>
              <a:gd name="adj1" fmla="val 49908"/>
            </a:avLst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30" name="AutoShape 12"/>
          <p:cNvCxnSpPr>
            <a:stCxn id="124" idx="2"/>
            <a:endCxn id="126" idx="0"/>
          </p:cNvCxnSpPr>
          <p:nvPr/>
        </p:nvCxnSpPr>
        <p:spPr>
          <a:xfrm>
            <a:off x="4463640" y="1496880"/>
            <a:ext cx="1080" cy="1775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</p:spTree>
  </p:cSld>
  <p:transition spd="slow">
    <p:newsflash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5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7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tt-RU" sz="4400" spc="-1" strike="noStrike">
                <a:solidFill>
                  <a:srgbClr val="ffffff"/>
                </a:solidFill>
                <a:latin typeface="Times New Roman"/>
              </a:rPr>
              <a:t>әзерге заман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ыйфат фигыль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учы/ -</a:t>
            </a:r>
            <a:r>
              <a:rPr b="1" lang="tt-RU" sz="3200" spc="-1" strike="noStrike">
                <a:solidFill>
                  <a:srgbClr val="ffffcc"/>
                </a:solidFill>
                <a:latin typeface="Times New Roman"/>
              </a:rPr>
              <a:t>үче</a:t>
            </a:r>
            <a:br>
              <a:rPr sz="3200"/>
            </a:br>
            <a:r>
              <a:rPr b="1" lang="tt-RU" sz="3200" spc="-1" strike="noStrike">
                <a:solidFill>
                  <a:srgbClr val="ffffcc"/>
                </a:solidFill>
                <a:latin typeface="Times New Roman"/>
              </a:rPr>
              <a:t>х.з.х.ф.+торган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042920" y="4797360"/>
            <a:ext cx="32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Китап алучы ба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041120" y="2637000"/>
            <a:ext cx="36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Әкият сөйләүче кы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343680" y="3139920"/>
            <a:ext cx="474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Безгә килә торган таңна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135680" y="5300640"/>
            <a:ext cx="370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Йоклый</a:t>
            </a:r>
            <a:r>
              <a:rPr b="0" lang="tt-RU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торган</a:t>
            </a:r>
            <a:r>
              <a:rPr b="0" lang="tt-RU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ба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4209840" y="4221000"/>
            <a:ext cx="32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Бии торган мала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968760" y="3645000"/>
            <a:ext cx="32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Укый торган әсә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3274920" y="2781360"/>
            <a:ext cx="64764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28"/>
          <p:cNvSpPr/>
          <p:nvPr/>
        </p:nvSpPr>
        <p:spPr>
          <a:xfrm>
            <a:off x="5291280" y="3284640"/>
            <a:ext cx="151272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29"/>
          <p:cNvSpPr/>
          <p:nvPr/>
        </p:nvSpPr>
        <p:spPr>
          <a:xfrm>
            <a:off x="1547640" y="3789360"/>
            <a:ext cx="180036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30"/>
          <p:cNvSpPr/>
          <p:nvPr/>
        </p:nvSpPr>
        <p:spPr>
          <a:xfrm>
            <a:off x="4788000" y="4363920"/>
            <a:ext cx="1441440" cy="43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31"/>
          <p:cNvSpPr/>
          <p:nvPr/>
        </p:nvSpPr>
        <p:spPr>
          <a:xfrm>
            <a:off x="2698920" y="4940280"/>
            <a:ext cx="720720" cy="43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32"/>
          <p:cNvSpPr/>
          <p:nvPr/>
        </p:nvSpPr>
        <p:spPr>
          <a:xfrm>
            <a:off x="5148360" y="5445000"/>
            <a:ext cx="1800000" cy="43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275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3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3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3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1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3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3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3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9600"/>
                            </p:stCondLst>
                            <p:childTnLst>
                              <p:par>
                                <p:cTn id="1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3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3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3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2850"/>
                            </p:stCondLst>
                            <p:childTnLst>
                              <p:par>
                                <p:cTn id="1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385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3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3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3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6100"/>
                            </p:stCondLst>
                            <p:childTnLst>
                              <p:par>
                                <p:cTn id="1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3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3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3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9350"/>
                            </p:stCondLst>
                            <p:childTnLst>
                              <p:par>
                                <p:cTn id="1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035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3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3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3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2900"/>
                            </p:stCondLst>
                            <p:childTnLst>
                              <p:par>
                                <p:cTn id="1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imes New Roman"/>
              </a:rPr>
              <a:t>Үткән заман с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ыйфат фигыль</a:t>
            </a:r>
            <a:br>
              <a:rPr sz="44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ган/-гән, -кан/-кән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Караган ки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Күргән кеш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Яккан уча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Үткән кө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692360" y="2349360"/>
            <a:ext cx="647640" cy="43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5796000" y="2924280"/>
            <a:ext cx="64764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5580000" y="4076640"/>
            <a:ext cx="647640" cy="43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908000" y="3500280"/>
            <a:ext cx="648000" cy="43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1230"/>
                            </p:stCondLst>
                            <p:childTnLst>
                              <p:par>
                                <p:cTn id="20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3230"/>
                            </p:stCondLst>
                            <p:childTnLst>
                              <p:par>
                                <p:cTn id="20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5230"/>
                            </p:stCondLst>
                            <p:childTnLst>
                              <p:par>
                                <p:cTn id="21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7230"/>
                            </p:stCondLst>
                            <p:childTnLst>
                              <p:par>
                                <p:cTn id="21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t-RU" sz="4000" spc="-1" strike="noStrike">
                <a:solidFill>
                  <a:srgbClr val="ffffff"/>
                </a:solidFill>
                <a:latin typeface="Times New Roman"/>
              </a:rPr>
              <a:t>Киләчәк заман</a:t>
            </a:r>
            <a:r>
              <a:rPr b="1" lang="tt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tt-RU" sz="40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ыйфат фигыль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ачак/-әчәк, -ячак/-ячәк, -ыр/-ер, -ар/-әр, -р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асы/-әсе, -ыйсы/-исе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Барачак юл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Киләчәк кө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Караячак спектакл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ь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Киячәк кие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Барыр юл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Күрер кеш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Сатар мал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Җитәр кө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Сөйләр сүз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Аласы акч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Бирәсе буры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Кайтасы уры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Көйлисе кө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619280" y="1773360"/>
            <a:ext cx="863640" cy="434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5940360" y="1773360"/>
            <a:ext cx="863640" cy="434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1835280" y="2349360"/>
            <a:ext cx="863640" cy="435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5724360" y="2349360"/>
            <a:ext cx="863640" cy="435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1692360" y="2924280"/>
            <a:ext cx="504720" cy="434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5940360" y="2924280"/>
            <a:ext cx="432000" cy="434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6012000" y="3500280"/>
            <a:ext cx="428400" cy="435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1763640" y="3500280"/>
            <a:ext cx="360360" cy="435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2195640" y="4149720"/>
            <a:ext cx="282600" cy="434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5724360" y="4076640"/>
            <a:ext cx="720720" cy="434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4284720" y="4653000"/>
            <a:ext cx="574560" cy="434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22"/>
          <p:cNvSpPr/>
          <p:nvPr/>
        </p:nvSpPr>
        <p:spPr>
          <a:xfrm>
            <a:off x="4427640" y="5229360"/>
            <a:ext cx="645840" cy="434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23"/>
          <p:cNvSpPr/>
          <p:nvPr/>
        </p:nvSpPr>
        <p:spPr>
          <a:xfrm>
            <a:off x="4572000" y="5805360"/>
            <a:ext cx="647640" cy="435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3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3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3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3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3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3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3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3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3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3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3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3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3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3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3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3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3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3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3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3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3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3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3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3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27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7700"/>
                            </p:stCondLst>
                            <p:childTnLst>
                              <p:par>
                                <p:cTn id="27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8700"/>
                            </p:stCondLst>
                            <p:childTnLst>
                              <p:par>
                                <p:cTn id="28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9700"/>
                            </p:stCondLst>
                            <p:childTnLst>
                              <p:par>
                                <p:cTn id="28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28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1700"/>
                            </p:stCondLst>
                            <p:childTnLst>
                              <p:par>
                                <p:cTn id="29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29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3700"/>
                            </p:stCondLst>
                            <p:childTnLst>
                              <p:par>
                                <p:cTn id="30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0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4700"/>
                            </p:stCondLst>
                            <p:childTnLst>
                              <p:par>
                                <p:cTn id="30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0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5700"/>
                            </p:stCondLst>
                            <p:childTnLst>
                              <p:par>
                                <p:cTn id="30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1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31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1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7700"/>
                            </p:stCondLst>
                            <p:childTnLst>
                              <p:par>
                                <p:cTn id="31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1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8700"/>
                            </p:stCondLst>
                            <p:childTnLst>
                              <p:par>
                                <p:cTn id="32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2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51868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6000" spc="-1" strike="noStrike">
                <a:solidFill>
                  <a:srgbClr val="ffffcc"/>
                </a:solidFill>
                <a:latin typeface="Times New Roman"/>
              </a:rPr>
              <a:t>Ә хәзер</a:t>
            </a:r>
            <a:br>
              <a:rPr sz="6000"/>
            </a:br>
            <a:r>
              <a:rPr b="1" i="1" lang="tt-RU" sz="6000" spc="-1" strike="noStrike">
                <a:solidFill>
                  <a:srgbClr val="ffffcc"/>
                </a:solidFill>
                <a:latin typeface="Times New Roman"/>
              </a:rPr>
              <a:t>  берничә минут </a:t>
            </a:r>
            <a:br>
              <a:rPr sz="6000"/>
            </a:br>
            <a:r>
              <a:rPr b="1" i="1" lang="tt-RU" sz="6000" spc="-1" strike="noStrike">
                <a:solidFill>
                  <a:srgbClr val="ffffcc"/>
                </a:solidFill>
                <a:latin typeface="Times New Roman"/>
              </a:rPr>
              <a:t>ял итү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ffffcc"/>
                </a:solidFill>
                <a:latin typeface="Times New Roman"/>
              </a:rPr>
              <a:t>Җөмләләрдән сыйфат фигыл</a:t>
            </a: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ь</a:t>
            </a:r>
            <a:r>
              <a:rPr b="1" lang="tt-RU" sz="5400" spc="-1" strike="noStrike">
                <a:solidFill>
                  <a:srgbClr val="ffffcc"/>
                </a:solidFill>
                <a:latin typeface="Times New Roman"/>
              </a:rPr>
              <a:t>не табыгыз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66ff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imes New Roman"/>
              </a:rPr>
              <a:t>Әни мин яраткан ашны пешергән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13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718920" cy="144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"/>
          <p:cNvPicPr/>
          <p:nvPr/>
        </p:nvPicPr>
        <p:blipFill>
          <a:blip r:embed="rId2"/>
          <a:stretch/>
        </p:blipFill>
        <p:spPr>
          <a:xfrm>
            <a:off x="3348000" y="2205000"/>
            <a:ext cx="719280" cy="144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"/>
          <p:cNvPicPr/>
          <p:nvPr/>
        </p:nvPicPr>
        <p:blipFill>
          <a:blip r:embed="rId3"/>
          <a:stretch/>
        </p:blipFill>
        <p:spPr>
          <a:xfrm>
            <a:off x="4572000" y="2205000"/>
            <a:ext cx="719280" cy="144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6"/>
          <p:cNvSpPr/>
          <p:nvPr/>
        </p:nvSpPr>
        <p:spPr>
          <a:xfrm>
            <a:off x="3419640" y="148428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ff0000"/>
                </a:solidFill>
                <a:latin typeface="Times New Roman"/>
              </a:rPr>
              <a:t>Нинд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2:22:23Z</dcterms:created>
  <dc:creator>Раиса</dc:creator>
  <dc:description/>
  <dc:language>en-US</dc:language>
  <cp:lastModifiedBy>Рая</cp:lastModifiedBy>
  <dcterms:modified xsi:type="dcterms:W3CDTF">2012-12-19T09:33:19Z</dcterms:modified>
  <cp:revision>10</cp:revision>
  <dc:subject/>
  <dc:title>СЫЙФАТ ФИГЫЛЬ</dc:title>
</cp:coreProperties>
</file>