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6E89C-E4C0-4B63-A058-9CB7CFBB5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E79CC-60B6-4F18-850B-2CCAC94A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DDCB2-7A34-4CA9-9659-D483A7727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09C35-A298-4187-8205-78109CC98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ACD3-BA6D-44A0-AD57-90BF62F2E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4963-0806-4242-8B20-4298CFE4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7FE4C-5C9E-43D5-9F77-8704DCAD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D3E9-F12E-44DC-AD13-6F814CCC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0A040-F807-4E93-B76B-28B3E374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089C-A58C-4D44-8C6E-2C422773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6F42-2D88-4C6B-9D7A-AF0B0C62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0D2F5-F109-4033-8748-4CA226A2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D376-6505-4F75-A490-F395D9F7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7244-4534-476E-A398-3E02C328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AB9C0-8F7D-4514-AC90-0637CBAE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EE665-D49A-4578-B2CC-BE63385C5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7C58-FA8B-497C-A4C8-CE2B30E58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8D7D6-33DC-48C1-9767-752252D2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4E7A3-AA01-4B58-8C09-5D3A42BF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6FA3C-781E-450A-95D6-482C8D51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EEA5D-5031-40EB-BB52-73009792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39637-0AD6-421C-9639-F02FD766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E29A8-5101-48F5-845A-6CDB37CC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F86B5-A700-4E6C-B037-67F5B281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193D-239F-4253-ADEB-F4C0B4F49C30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31B6-4A63-49DC-9CF5-10088D2457F6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domsrubim.ru/images/stories/strogbrevno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g.geocaching.com/cache/log/4ade2447-07f6-4fe9-ba1d-3da246599355.jp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ceramics-pottery.ru/images/ceramica457.jpg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www.booksite.ru/ancient/archeologia/20.jpg" TargetMode="External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02920" y="1483920"/>
            <a:ext cx="7443720" cy="27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Деловая игра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Образовательная область «Безопасность»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Arial"/>
              </a:rPr>
              <a:t>Рязанская Н.А.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Arial"/>
              </a:rPr>
              <a:t>Ст. воспитатель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Arial"/>
              </a:rPr>
              <a:t>МБДОУ №15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971640" y="1341360"/>
            <a:ext cx="741672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2600">
                  <a:solidFill>
                    <a:srgbClr val="99cc00"/>
                  </a:solidFill>
                  <a:custDash>
                    <a:ds d="100000" sp="1000"/>
                  </a:custDash>
                  <a:miter/>
                </a:ln>
                <a:solidFill>
                  <a:srgbClr val="00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cap="rnd" w="12600">
                <a:solidFill>
                  <a:srgbClr val="99cc00"/>
                </a:solidFill>
                <a:custDash>
                  <a:ds d="100000" sp="1000"/>
                </a:custDash>
                <a:miter/>
              </a:ln>
              <a:solidFill>
                <a:srgbClr val="0099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2600">
                  <a:solidFill>
                    <a:srgbClr val="99cc00"/>
                  </a:solidFill>
                  <a:custDash>
                    <a:ds d="100000" sp="1000"/>
                  </a:custDash>
                  <a:miter/>
                </a:ln>
                <a:solidFill>
                  <a:srgbClr val="00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cap="rnd" w="12600">
                  <a:solidFill>
                    <a:srgbClr val="99cc00"/>
                  </a:solidFill>
                  <a:custDash>
                    <a:ds d="100000" sp="1000"/>
                  </a:custDash>
                  <a:miter/>
                </a:ln>
                <a:solidFill>
                  <a:srgbClr val="00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 внимание</a:t>
            </a:r>
            <a:endParaRPr b="0" lang="en-US" sz="1800" spc="1" strike="noStrike">
              <a:ln cap="rnd" w="12600">
                <a:solidFill>
                  <a:srgbClr val="99cc00"/>
                </a:solidFill>
                <a:custDash>
                  <a:ds d="100000" sp="1000"/>
                </a:custDash>
                <a:miter/>
              </a:ln>
              <a:solidFill>
                <a:srgbClr val="0099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95280" y="476280"/>
            <a:ext cx="8569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Сколько направлений развития детей дошкольного возраста предлагают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федеральные государственные образовательные стандарты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2. Назовите их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«Физическое развитие»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«Социально-личностное развитие»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«Познавательно-речевое развитие»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«Художественно-эстетическое развитие»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3. К какому направлению развития относится  образовательная область «Безопасность»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«Социально-личностное развитие»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0160" y="22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44720" y="22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21080" y="22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2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9152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4. Какие  образовательные области включает в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себя направление «Социально-личностное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развитие»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«Социализация»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«Труд»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5. Сколько разделов содержит образовательная область «Безопасность»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6. Назовите их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Бережем своё здоровье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Безопасный отдых на природе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Безопасность на дорогах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Безопасность собственной жизнедеятельности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308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1780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9416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" dur="2000" fill="hold"/>
                                        <p:tgtEl>
                                          <p:spTgt spid="1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"</a:t>
            </a:r>
            <a:r>
              <a:rPr b="1" lang="en-US" sz="4400" spc="-1" strike="noStrike">
                <a:solidFill>
                  <a:srgbClr val="003300"/>
                </a:solidFill>
                <a:latin typeface="Arial"/>
              </a:rPr>
              <a:t>Найди правильный ответ"</a:t>
            </a: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00"/>
                </a:solidFill>
                <a:latin typeface="Times New Roman"/>
              </a:rPr>
              <a:t>«Арба» 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00"/>
                </a:solidFill>
                <a:latin typeface="Times New Roman"/>
              </a:rPr>
              <a:t>«Колесница»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003300"/>
                </a:solidFill>
                <a:latin typeface="Times New Roman"/>
              </a:rPr>
              <a:t>«Омнибус»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211280" y="2060280"/>
            <a:ext cx="4475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00"/>
                </a:solidFill>
                <a:latin typeface="Times New Roman"/>
              </a:rPr>
              <a:t>«Карета» 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00"/>
                </a:solidFill>
                <a:latin typeface="Times New Roman"/>
              </a:rPr>
              <a:t>«Автомобиль»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00"/>
                </a:solidFill>
                <a:latin typeface="Times New Roman"/>
              </a:rPr>
              <a:t>«Колымага»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Arial"/>
              </a:rPr>
              <a:t>"Сформулируй правило"</a:t>
            </a: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76360" y="1981080"/>
            <a:ext cx="3800520" cy="3886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572000" y="1989000"/>
            <a:ext cx="3745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Arial"/>
              </a:rPr>
              <a:t>"Сформулируй правило"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3886200" cy="3886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765680" y="1981080"/>
            <a:ext cx="3803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Arial"/>
              </a:rPr>
              <a:t>"Сформулируй правило"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3673800" cy="3600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932360" y="1916280"/>
            <a:ext cx="37162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"История транспорта и знаков</a:t>
            </a: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" 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9280" y="1989000"/>
            <a:ext cx="2590920" cy="14558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835280" y="1628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692360" y="3716280"/>
            <a:ext cx="2520720" cy="2468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7"/>
          </p:cNvPr>
          <p:cNvPicPr/>
          <p:nvPr/>
        </p:nvPicPr>
        <p:blipFill>
          <a:blip r:embed="rId8"/>
          <a:srcRect l="0" t="0" r="5362" b="11851"/>
          <a:stretch/>
        </p:blipFill>
        <p:spPr>
          <a:xfrm>
            <a:off x="5076720" y="3860640"/>
            <a:ext cx="217008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Times New Roman"/>
              </a:rPr>
              <a:t>Литература.</a:t>
            </a:r>
            <a:r>
              <a:rPr b="0" lang="en-US" sz="4000" spc="-1" strike="noStrike">
                <a:solidFill>
                  <a:srgbClr val="0033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Times New Roman"/>
              </a:rPr>
              <a:t>Елжова Н.В. "Педсоветы, семинары, методические объединения в ДОУ" -Изд. 2-е.-Ростов н\Д: Феникс, 2008г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Times New Roman"/>
              </a:rPr>
              <a:t>Коган М.С. "Правила дорожные знать каждому положено". 4-е изд., -Новосибирск: Сиб. Унив. </a:t>
            </a: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Изд-во, 2008г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Times New Roman"/>
              </a:rPr>
              <a:t>Справочник старшего воспитателя дошкольного учреждения. </a:t>
            </a: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№6 2009г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6T12:07:39Z</dcterms:created>
  <dc:creator>Admin</dc:creator>
  <dc:description/>
  <dc:language>en-US</dc:language>
  <cp:lastModifiedBy>Admin</cp:lastModifiedBy>
  <dcterms:modified xsi:type="dcterms:W3CDTF">2013-02-16T13:08:23Z</dcterms:modified>
  <cp:revision>2</cp:revision>
  <dc:subject/>
  <dc:title>Деловая игра Образовательная область «Безопасность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