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985F-224A-43F5-A80B-2691AB8185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он "Мэйфлауэр" был построен в 1615 году в Англии и в этом же году вышел из Плимута со 102 пассажирами, представителями религиозной протестантской секты пуритан, в Северную Америку. Через 67 дей "Мэйфлауэр" пристал к североамериканскому берегу в заливе Массачусетс. Здесь был основан порт Провинстаун и первая английская колония в Северной Америке Плимут-Рок (поселение "отцов-пилигримов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003-94BA-4CBE-84B5-53AF5626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6B8-FA3B-4A0B-B4CC-94C375F4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A7F-4014-4953-8C18-7559C369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3DE-2887-4C52-BD9F-4AC2488F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242B-A81A-4055-AD0D-D3637196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E031-0243-45EF-B3F1-C8E8B7FD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4145-5322-4616-A764-336EAF0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3775-79B0-46AB-84A8-F00D8A8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DFB3-DDE1-4AF0-8223-B23D5F9B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80C-8C70-4EBD-9023-7C9C551D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2FF7-540E-4282-8041-766DF37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EE7-C42C-4102-8941-618F617C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1B07-EAEA-4DE7-A26B-C539E8B4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8F51-1C20-4F4C-B4E7-84EE5E3F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F69-3808-420B-8BAC-0A6E835A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932-EAAA-4E95-B651-A0B80E27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32C-78C4-4707-8DE9-549393EE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216-E9D8-4B8C-A735-513CD461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985-9E2F-47F0-BF9E-F7F29672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EEE-BCF7-42DA-A052-D0FBDE03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F84-5D4B-41B1-B1D3-336B55FE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A1D-8FAF-4290-BB6A-440002A5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11B-664B-4524-9623-08B0EA38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697-CD7E-4AD9-9ABD-0BDF744E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634-D18E-40D7-BEFC-367E357FCB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E166-878A-4A8C-9FBB-9DD125FDC0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тория Дня благодар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719600" cy="3189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549360"/>
            <a:ext cx="537228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>
                        <a:alpha val="81176"/>
                      </a:srgbClr>
                    </a:gs>
                    <a:gs pos="100000">
                      <a:srgbClr val="f8b049">
                        <a:alpha val="68235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anksgiving Day:</a:t>
            </a:r>
            <a:endParaRPr b="0" lang="en-US" sz="24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>
                      <a:alpha val="81176"/>
                    </a:srgbClr>
                  </a:gs>
                  <a:gs pos="100000">
                    <a:srgbClr val="f8b049">
                      <a:alpha val="68235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>
                        <a:alpha val="81176"/>
                      </a:srgbClr>
                    </a:gs>
                    <a:gs pos="100000">
                      <a:srgbClr val="f8b049">
                        <a:alpha val="68235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istoty and games</a:t>
            </a:r>
            <a:endParaRPr b="0" lang="en-US" sz="24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>
                      <a:alpha val="81176"/>
                    </a:srgbClr>
                  </a:gs>
                  <a:gs pos="100000">
                    <a:srgbClr val="f8b049">
                      <a:alpha val="68235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ы на День благодар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Картинка 17 из 7585"/>
          <p:cNvPicPr/>
          <p:nvPr/>
        </p:nvPicPr>
        <p:blipFill>
          <a:blip r:embed="rId1"/>
          <a:stretch/>
        </p:blipFill>
        <p:spPr>
          <a:xfrm>
            <a:off x="2050920" y="549360"/>
            <a:ext cx="54039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1596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Times New Roman"/>
              </a:rPr>
              <a:t>Mayflower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30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1596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Times New Roman"/>
              </a:rPr>
              <a:t>America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66880" y="1749600"/>
            <a:ext cx="4757760" cy="4233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лигримы и индейц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403280" y="1370160"/>
            <a:ext cx="64198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905800" cy="5840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адиции Дня благодар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9 из 7585"/>
          <p:cNvPicPr/>
          <p:nvPr/>
        </p:nvPicPr>
        <p:blipFill>
          <a:blip r:embed="rId2"/>
          <a:stretch/>
        </p:blipFill>
        <p:spPr>
          <a:xfrm>
            <a:off x="826920" y="1484280"/>
            <a:ext cx="7488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адиционные блю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121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</cp:lastModifiedBy>
  <dcterms:modified xsi:type="dcterms:W3CDTF">2011-11-23T18:02:47Z</dcterms:modified>
  <cp:revision>16</cp:revision>
  <dc:subject/>
  <dc:title>PowerPoint Presentation</dc:title>
</cp:coreProperties>
</file>