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D1C-BEB9-4E29-ACE7-6E2C0BB5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CC0-AB10-4954-93D4-7540BE2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1BA-FF1D-467E-85C1-6DB1AD82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28E-8D5C-48F3-B9A9-2858E59B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27F-12C3-4BF9-A770-A2DD4C0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40F-EA81-4D0B-9114-3D9E57AF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12E-9299-4D9B-A32B-B3308F69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600-4E92-4D3A-9E8F-CF38EA2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01A-C40A-4B33-8550-47595D9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541-4091-4CBF-A2A4-A42B333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F52-C397-41DF-9B00-9C57136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CB7-C0EA-4537-844D-72E902C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252D-251D-4A91-871E-8D848011E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76720" y="2421000"/>
            <a:ext cx="2519280" cy="2921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rcRect l="0" t="0" r="72394" b="15517"/>
          <a:stretch/>
        </p:blipFill>
        <p:spPr>
          <a:xfrm>
            <a:off x="900000" y="836640"/>
            <a:ext cx="2357640" cy="4378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3"/>
          <a:srcRect l="54843" t="26478" r="26402" b="35297"/>
          <a:stretch/>
        </p:blipFill>
        <p:spPr>
          <a:xfrm>
            <a:off x="6227640" y="198900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Пользователь\Local Settings\Temporary Internet Files\Content.IE5\95DOR0SU\MP900408960[1].jpg"/>
          <p:cNvPicPr/>
          <p:nvPr/>
        </p:nvPicPr>
        <p:blipFill>
          <a:blip r:embed="rId1"/>
          <a:stretch/>
        </p:blipFill>
        <p:spPr>
          <a:xfrm>
            <a:off x="2567160" y="3352680"/>
            <a:ext cx="3863880" cy="2584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Пользователь\Local Settings\Temporary Internet Files\Content.IE5\IZMR0ZBK\MC900343333[1].wmf"/>
          <p:cNvPicPr/>
          <p:nvPr/>
        </p:nvPicPr>
        <p:blipFill>
          <a:blip r:embed="rId2"/>
          <a:stretch/>
        </p:blipFill>
        <p:spPr>
          <a:xfrm>
            <a:off x="6505560" y="1052640"/>
            <a:ext cx="263844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Пользователь\Local Settings\Temporary Internet Files\Content.IE5\H6S5EODS\MC900232599[1].wmf"/>
          <p:cNvPicPr/>
          <p:nvPr/>
        </p:nvPicPr>
        <p:blipFill>
          <a:blip r:embed="rId3"/>
          <a:stretch/>
        </p:blipFill>
        <p:spPr>
          <a:xfrm>
            <a:off x="428760" y="500040"/>
            <a:ext cx="1677960" cy="231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Пользователь\Local Settings\Temporary Internet Files\Content.IE5\IZMR0ZBK\MC900432391[1].wmf"/>
          <p:cNvPicPr/>
          <p:nvPr/>
        </p:nvPicPr>
        <p:blipFill>
          <a:blip r:embed="rId4"/>
          <a:stretch/>
        </p:blipFill>
        <p:spPr>
          <a:xfrm>
            <a:off x="3143160" y="1484280"/>
            <a:ext cx="17766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Пользователь\Local Settings\Temporary Internet Files\Content.IE5\IZMR0ZBK\MC900434593[1].wmf"/>
          <p:cNvPicPr/>
          <p:nvPr/>
        </p:nvPicPr>
        <p:blipFill>
          <a:blip r:embed="rId5"/>
          <a:stretch/>
        </p:blipFill>
        <p:spPr>
          <a:xfrm>
            <a:off x="785880" y="3130560"/>
            <a:ext cx="1673280" cy="256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Documents and Settings\Пользователь\Local Settings\Temporary Internet Files\Content.IE5\WNXTCBK6\MM900336578[1].gif"/>
          <p:cNvPicPr/>
          <p:nvPr/>
        </p:nvPicPr>
        <p:blipFill>
          <a:blip r:embed="rId6"/>
          <a:stretch/>
        </p:blipFill>
        <p:spPr>
          <a:xfrm>
            <a:off x="6572160" y="321480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57200" y="2997000"/>
            <a:ext cx="8229600" cy="31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8"/>
          <a:stretch/>
        </p:blipFill>
        <p:spPr>
          <a:xfrm>
            <a:off x="2340000" y="260280"/>
            <a:ext cx="431964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42848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2627280" y="386064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У меня есть портфель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5329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033800"/>
          </a:xfrm>
          <a:prstGeom prst="rect">
            <a:avLst/>
          </a:prstGeom>
          <a:ln w="0">
            <a:noFill/>
          </a:ln>
        </p:spPr>
      </p:pic>
      <p:pic>
        <p:nvPicPr>
          <p:cNvPr id="57" name="031 - Unit 1, Lesson 13, Exercise 1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868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M 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haroni"/>
                <a:ea typeface="Aharoni"/>
              </a:rPr>
              <a:t>mouse [</a:t>
            </a:r>
            <a:r>
              <a:rPr b="1" lang="ru-RU" sz="4000" spc="-1" strike="noStrike">
                <a:solidFill>
                  <a:srgbClr val="002060"/>
                </a:solidFill>
                <a:latin typeface="Aharoni"/>
                <a:ea typeface="Aharoni"/>
              </a:rPr>
              <a:t>маус</a:t>
            </a:r>
            <a:r>
              <a:rPr b="1" lang="en-US" sz="4000" spc="-1" strike="noStrike">
                <a:solidFill>
                  <a:srgbClr val="002060"/>
                </a:solidFill>
                <a:latin typeface="Aharoni"/>
                <a:ea typeface="Aharoni"/>
              </a:rPr>
              <a:t>]</a:t>
            </a:r>
            <a:r>
              <a:rPr b="1" lang="ru-RU" sz="4000" spc="-1" strike="noStrike">
                <a:solidFill>
                  <a:srgbClr val="0070c0"/>
                </a:solidFill>
                <a:latin typeface="Aharoni"/>
                <a:ea typeface="Aharoni"/>
              </a:rPr>
              <a:t> 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F:\2 б\№14\shutterstock_2408236.jpg"/>
          <p:cNvPicPr/>
          <p:nvPr/>
        </p:nvPicPr>
        <p:blipFill>
          <a:blip r:embed="rId1"/>
          <a:stretch/>
        </p:blipFill>
        <p:spPr>
          <a:xfrm>
            <a:off x="1835280" y="2637000"/>
            <a:ext cx="51847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7:24:59Z</dcterms:created>
  <dc:creator>Валентина</dc:creator>
  <dc:description/>
  <dc:language>en-US</dc:language>
  <cp:lastModifiedBy>Валентина</cp:lastModifiedBy>
  <dcterms:modified xsi:type="dcterms:W3CDTF">2014-10-16T17:48:17Z</dcterms:modified>
  <cp:revision>3</cp:revision>
  <dc:subject/>
  <dc:title>Слайд 1</dc:title>
</cp:coreProperties>
</file>