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4C0-37C9-41AE-91AA-462B2100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21E-49D0-41EC-A32B-650BEF53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65A-4AB3-4F0A-9564-AEC69817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BA8-3C70-447D-AC8C-B00BC187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983A-2966-4129-93ED-5B40A2B4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6CE7-8EEA-4AEF-95A7-C8324C16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8ADD-EF19-49FF-801C-2863235F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0060-63E1-4DBB-A8F6-070BB9F2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CC11-30A6-454D-9EAA-23AE2391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8736-C293-4B95-AF36-3CCB7BAE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4DD9-1283-47F2-A7F0-41E78C8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C57-A815-445A-96EB-4C47005A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9D6A-A227-4F6B-9A00-87FCB47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8B2A-C4A3-4064-9DAF-F551C66A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A867-C389-419A-A5A9-821CD9E5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3A3F-7795-42CD-A4FB-CF6850C7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7CE0-7C26-4A70-A370-1825AE51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80E-D74F-4C4C-AAEC-E19C19AC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554-F94A-448D-950D-DE860BBD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AC6-650B-43F8-9A1B-B6654031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FF2-0075-450C-A071-8714DC44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884-A6B1-44C8-8296-DDA1FDD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8CB-D751-43BC-BEDA-DC5AD062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6B2-CD1E-4C57-9742-41FEF085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A61-2B4F-4B43-9528-4795EF57CF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21C0-2F30-4158-9C48-C965F23507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пользование метода проектов в преподавании математ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, который передает ребенку лишь знания,- это ремесленн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т, кто воспитывает характер,- настоящий мастер свое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фия Рус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бор технологии и типа проек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600" y="149976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иентир на личность обучающего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ый подход в обуч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ческая значим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активный характер учебно-воспит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презентаций проектов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ый докла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ая иг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еофиль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кур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ая конферен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 з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на Ученом Сове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ктак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сс-конфере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исок литератур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Стратегия модернизации содержания общего образования. М.,200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овые педагогические и информационные технологии в системе образования: Учеб. пособие сост. Е.С.Полат, М.Ю. Бухарина, М.В.Моисеева, А.Е.Петров; под ред. Е.С.Полат. -  М.: Издательский центр «Академия», 2002.                                                                                                       3.Селевко Г.К. Современные образовательные технологии: Учеб. пособие.-М.: Народное образование,1998.                                                                                     4.Сергеев И.С. Как организовать проектную деятельность учащихся. М.: АРКТИ,2003г.                                                                                                                      5.Хуторский А.В. Развитие одаренности школьников. Методика продуктивного обучения. М.,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спользование метода проектов в преподавании математи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истории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к учебному про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 осуществления учеб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технологии  и тип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проекта. Критерии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нятие проектного обуч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бразовательная технология, нацеленная на приобретение учащимися новых знаний в тесной связи с реальной жизненной практикой, формирование у них специфических умений и навыков посредством системной организации проблемно-ориентированного учебного по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проектного обуч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здать условия, при которых обучающие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 и охотно приобретают недостающие знания из разных ист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тся пользоваться приобретенными знаниями для решения познавательных и практически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ают коммуникативные умения, работая в различных групп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у себя исследовательские у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системн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 истории проектного обуч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прошлого столетия-С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ж. Дью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: 1905г. С.Т. Ша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сновные требования к учебному проект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ешение конкретной социально значимой исследовательской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рование сам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проект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виду деятельности обучаю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о-ориентированны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следовате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че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е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комплекс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предме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и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ткосроч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е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госр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59:34Z</dcterms:created>
  <dc:creator>SamLab.ws</dc:creator>
  <dc:description/>
  <dc:language>en-US</dc:language>
  <cp:lastModifiedBy>Admin</cp:lastModifiedBy>
  <dcterms:modified xsi:type="dcterms:W3CDTF">2010-02-08T18:44:32Z</dcterms:modified>
  <cp:revision>5</cp:revision>
  <dc:subject/>
  <dc:title>Слайд 1</dc:title>
</cp:coreProperties>
</file>