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4262-33D0-4FFF-B3EB-C3B334736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D3A4-F680-41DB-91CD-C18322312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ADA1-35C3-4B0F-B833-EE043D41F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E38F-1215-4A4F-BABF-80D19C2E3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B6292-EA9C-4C53-A41D-2589FF983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21A8C-B1F8-48A1-A474-3AEEE2CFD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1F8A5-8CBA-4F1A-BCE8-0BF8DDE0D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8D7BD-2A91-4536-9B54-91A8D8EC5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323DA-4F98-4022-AE7B-673226AFD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DC382-FF75-4791-B44A-59AE6BBB9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A6712-087D-4C26-B05D-7452F5F3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9E3D-C26E-4FC0-A0EC-3B570F3BA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BDD28-533F-4C27-89FE-12B699BF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FB34E-F83A-44C2-99D5-F22DDD28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AC1E5-BE50-42FD-B185-F209725E6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8BDA2-25B4-4860-ADDA-6C7002AA9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1931B-14D5-4DED-9BF8-8C39776E0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68A7-3EF0-4D92-AC2C-1DA6E9ACE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676D-372D-4ACE-A885-C8857F62F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A1BC-AE9B-45C6-935E-75F015EF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D454-032A-44FA-9A14-A6BD99E63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B31E-8BFC-41B7-BF3E-90B1547B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B613-4DF1-416C-AAAF-58D6DD86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B886-4997-4B97-B5ED-DB09F964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2E1A7-453F-4911-B21D-1BB86F6D538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22576-7D35-4ECB-A6AA-6D1A425B413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Использование метода проектов в преподавании математик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ель, который передает ребенку лишь знания,- это ремесленник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т, кто воспитывает характер,- настоящий мастер своего де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фия Русс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Выбор технологии и типа проекта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42600" y="149976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риентир на личность обучающего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ятельный подход в обучен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ктическая значим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терактивный характер учебно-воспитательного процес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иды презентаций проектов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учный доклад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ловая игр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деофиль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скурс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учная конференц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сцениров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атрализац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гры с зал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щита на Ученом Совет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ектакл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сс-конферен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писок литературы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Стратегия модернизации содержания общего образования. М.,2001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Новые педагогические и информационные технологии в системе образования: Учеб. пособие сост. Е.С.Полат, М.Ю. Бухарина, М.В.Моисеева, А.Е.Петров; под ред. Е.С.Полат. -  М.: Издательский центр «Академия», 2002.                                                                                                       3.Селевко Г.К. Современные образовательные технологии: Учеб. пособие.-М.: Народное образование,1998.                                                                                     4.Сергеев И.С. Как организовать проектную деятельность учащихся. М.: АРКТИ,2003г.                                                                                                                      5.Хуторский А.В. Развитие одаренности школьников. Методика продуктивного обучения. М.,20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Использование метода проектов в преподавании математики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нятие проектного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ь проектного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 истории проектного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требования к учебному проек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ды про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одика осуществления учебного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бор технологии  и типа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бор 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щита проекта. Критерии оце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онятие проектного обучения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етод проект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образовательная технология, нацеленная на приобретение учащимися новых знаний в тесной связи с реальной жизненной практикой, формирование у них специфических умений и навыков посредством системной организации проблемно-ориентированного учебного поис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Цель проектного обучения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оздать условия, при которых обучающиеся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остоятельно и охотно приобретают недостающие знания из разных источни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атся пользоваться приобретенными знаниями для решения познавательных и практических задач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обретают коммуникативные умения, работая в различных групп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вивают у себя исследовательские ум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вивают системное мышл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Из истории проектного обучения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чало прошлого столетия-СШ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ж. Дью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ссия: 1905г. С.Т. Шац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Основные требования к учебному проекту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решение конкретной социально значимой исследовательской пробл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ектирование самого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иск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щита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иды проектов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о виду деятельности обучающих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ктико-ориентированный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следовательск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формационны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ворческ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ле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о комплексно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нопроек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жпредмет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о продолжительно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инипроек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раткосрочн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дельн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лгосроч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15:59:34Z</dcterms:created>
  <dc:creator>SamLab.ws</dc:creator>
  <dc:description/>
  <dc:language>en-US</dc:language>
  <cp:lastModifiedBy>Admin</cp:lastModifiedBy>
  <dcterms:modified xsi:type="dcterms:W3CDTF">2010-02-08T18:44:32Z</dcterms:modified>
  <cp:revision>5</cp:revision>
  <dc:subject/>
  <dc:title>Слайд 1</dc:title>
</cp:coreProperties>
</file>