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6747-D17B-463C-AC2B-D4D7C431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361B-6EB7-4A02-BC69-416B8F9C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3C3-825A-42AC-A5FC-7E00DDE6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D64A-1C59-4C7D-B48B-4DD0EFCB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08AA-4C08-4E35-91EA-9116130D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8CCE-DBD6-46E0-A95B-A9594CEA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9AA2-88C5-448D-8B07-526C1E75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E9D0-3355-4766-B546-29F6C024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0CE5-F9CD-4F6A-A1AD-9A9B87F2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D9B54-50E6-4FDA-A325-D66216CB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397B-6D21-466C-8784-5DA50910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0AE-2BEC-4E71-A884-E20A5A7D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18F1-0BFF-45E1-99B3-E164CE8A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63F6-1450-449F-94D8-6CE5562D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45B0-C53B-4C90-A22D-F7973CB6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D5D8-FC41-4074-9FBF-135338ED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931E-1979-458D-BE4A-7FB2B471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21D3-2010-4C43-908E-A073FB8F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FABA-5ED7-4D4E-B2B2-FDDA6A9F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68D7-B002-4EEB-B849-B6AE6D5A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9712-4FE7-43CC-8A52-9AB6E7AF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7B3-4DA9-4F02-96D9-7180D099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EA9-5DE1-4A19-9A3E-F240EE67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4D0-215C-41B0-B2A1-8DECEBD6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429C-A72E-4374-BD17-2B0068D46C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FB91-3A63-42DA-BAD8-26A665D093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спользование метода проектов в преподавании математи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, который передает ребенку лишь знания,- это ремесленни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т, кто воспитывает характер,- настоящий мастер своего д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фия Рус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ыбор технологии и типа проект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2600" y="149976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иентир на личность обучающегос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ятельный подход в обуче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ктическая значим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ерактивный характер учебно-воспитательного проце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презентаций проектов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ый докла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овая иг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еофиль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кур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ая конферен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сцениров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атрализа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гры с за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щита на Ученом Сове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ктак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сс-конферен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писок литературы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Стратегия модернизации содержания общего образования. М.,2001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Новые педагогические и информационные технологии в системе образования: Учеб. пособие сост. Е.С.Полат, М.Ю. Бухарина, М.В.Моисеева, А.Е.Петров; под ред. Е.С.Полат. -  М.: Издательский центр «Академия», 2002.                                                                                                       3.Селевко Г.К. Современные образовательные технологии: Учеб. пособие.-М.: Народное образование,1998.                                                                                     4.Сергеев И.С. Как организовать проектную деятельность учащихся. М.: АРКТИ,2003г.                                                                                                                      5.Хуторский А.В. Развитие одаренности школьников. Методика продуктивного обучения. М.,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спользование метода проектов в преподавании математик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проект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проект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истории проект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требования к учебному проек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про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ика осуществления учебного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технологии  и типа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щита проекта. Критерии 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нятие проектного обуч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етод проек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образовательная технология, нацеленная на приобретение учащимися новых знаний в тесной связи с реальной жизненной практикой, формирование у них специфических умений и навыков посредством системной организации проблемно-ориентированного учебного по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Цель проектного обуч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здать условия, при которых обучающиеся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стоятельно и охотно приобретают недостающие знания из разных источ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тся пользоваться приобретенными знаниями для решения познавательных и практических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обретают коммуникативные умения, работая в различных групп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ют у себя исследовательские ум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ют системное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з истории проектного обуч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о прошлого столетия-СШ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ж. Дью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сия: 1905г. С.Т. Шац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сновные требования к учебному проекту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решение конкретной социально значимой исследовательской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ирование сам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а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иды проект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виду деятельности обучающих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ктико-ориентированны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следовательск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формацион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орческ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лев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комплекс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проек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предмет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 продолжитель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нипроек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аткосроч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дель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лгосро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5:59:34Z</dcterms:created>
  <dc:creator>SamLab.ws</dc:creator>
  <dc:description/>
  <dc:language>en-US</dc:language>
  <cp:lastModifiedBy>Admin</cp:lastModifiedBy>
  <dcterms:modified xsi:type="dcterms:W3CDTF">2010-02-08T18:44:32Z</dcterms:modified>
  <cp:revision>5</cp:revision>
  <dc:subject/>
  <dc:title>Слайд 1</dc:title>
</cp:coreProperties>
</file>