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147-9D23-445E-9A53-E2519083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B4A-9C4B-4633-84CA-FD5B528A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490-4A41-4155-B145-AC7D4FDB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6B0-21A5-49D9-AA38-5044DCC5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88CE-12F5-4D40-8ADC-BE1935E0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16F2-8762-45AF-95C4-5D1CBFB0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19C0-21BC-4161-A3EB-BE3D6C7B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F937-B9F8-4F49-997B-B51C08FD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D4B6-DF18-4F94-A2F1-56163BA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643E-8306-4880-9010-A783803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AAD9-C0E7-4B45-BEA5-350CF980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3B6-AF99-4AD3-9EF2-06C8D98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6D77-4824-49D0-860A-2B78D285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4EF9-1DD7-4890-AFA6-90F93E39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AF7A-7F2E-4FA8-8086-56BABE16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67D0-8D88-43A0-ABC2-EC37E6BE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17E9-FACF-4A10-A26B-3BAABD04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BBB-AF17-4DA2-868A-33B171DF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732-FA1D-4F78-A3BA-10BF1262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65D-1F7C-4AF5-B40C-64EE5DE7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C36-E2CE-4CCB-9584-DB866CEF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250-E72A-4217-A3F4-1178F8C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335-82A2-44DF-AFA4-FD977D73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BBB-9364-41E4-857C-ECDF0982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E6BF-5F60-4385-BCA1-00C668D262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5D5-6A6A-419F-AE5F-9A53530FB1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пользование метода проектов в преподавании математ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, который передает ребенку лишь знания,- это ремесленн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т, кто воспитывает характер,- настоящий мастер свое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фия Рус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бор технологии и типа проек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600" y="149976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иентир на личность обучающего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ый подход в обуч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ческая значим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активный характер учебно-воспит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презентаций проектов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ый докла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ая иг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еофиль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кур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ая конферен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 з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на Ученом Сове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ктак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сс-конфере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исок литератур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Стратегия модернизации содержания общего образования. М.,200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овые педагогические и информационные технологии в системе образования: Учеб. пособие сост. Е.С.Полат, М.Ю. Бухарина, М.В.Моисеева, А.Е.Петров; под ред. Е.С.Полат. -  М.: Издательский центр «Академия», 2002.                                                                                                       3.Селевко Г.К. Современные образовательные технологии: Учеб. пособие.-М.: Народное образование,1998.                                                                                     4.Сергеев И.С. Как организовать проектную деятельность учащихся. М.: АРКТИ,2003г.                                                                                                                      5.Хуторский А.В. Развитие одаренности школьников. Методика продуктивного обучения. М.,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спользование метода проектов в преподавании математи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истории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к учебному про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 осуществления учеб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технологии  и тип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проекта. Критерии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нятие проектного обуч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бразовательная технология, нацеленная на приобретение учащимися новых знаний в тесной связи с реальной жизненной практикой, формирование у них специфических умений и навыков посредством системной организации проблемно-ориентированного учебного по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проектного обуч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здать условия, при которых обучающие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 и охотно приобретают недостающие знания из разных ист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тся пользоваться приобретенными знаниями для решения познавательных и практически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ают коммуникативные умения, работая в различных групп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у себя исследовательские у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системн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 истории проектного обуч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прошлого столетия-С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ж. Дью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: 1905г. С.Т. Ша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сновные требования к учебному проект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ешение конкретной социально значимой исследовательской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рование сам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проект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виду деятельности обучаю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о-ориентированны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следовате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че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е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комплекс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предме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и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ткосроч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е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госр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59:34Z</dcterms:created>
  <dc:creator>SamLab.ws</dc:creator>
  <dc:description/>
  <dc:language>en-US</dc:language>
  <cp:lastModifiedBy>Admin</cp:lastModifiedBy>
  <dcterms:modified xsi:type="dcterms:W3CDTF">2010-02-08T18:44:32Z</dcterms:modified>
  <cp:revision>5</cp:revision>
  <dc:subject/>
  <dc:title>Слайд 1</dc:title>
</cp:coreProperties>
</file>