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7D9-4805-431B-8ACB-B3716779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7A2-6CBE-4544-B284-F7345FE0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CD3-9F87-4980-B958-7A7837B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CB3-C60A-4B6D-81D3-615DEF69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7F1E7-DF13-4EBC-8664-C51FBA04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88ED5-E5CF-4326-879E-84472A16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F63BB-EBE7-4D88-9FE3-710398F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6772-ED2C-4E5D-99F1-0DC46CE1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99AA0-612D-46E1-8E85-7D31E0EF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F5C25-90E2-408B-A523-D25545BD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F261C-8D27-4CD9-BEA0-15A7F3A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F35-98B6-4F20-AFB3-A7796D9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1554-CBEE-4E11-BF19-F4746D02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789EF-90F0-42EA-946F-E86F67C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39C26-B259-4267-8BD2-C479C06E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0979D-E1A2-4E19-A639-231D262B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7749C-061B-4F9E-8E50-5D44AB76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587-1C35-482B-BB22-C84AC89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A64-B2AA-451F-8F6E-F793AD6E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E88-D88B-48AD-A459-0641928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084-0DFD-4473-8B63-940451B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932-841E-4553-805E-8A71B89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B06-CAAA-4D51-A2F1-D45D00A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A83-87E8-431F-8D7E-15FBE81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3AB7-0CDA-4079-86A3-6711ACB59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7AB-9851-49C7-B4DD-C7CA54224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Приложение 1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ие сферы Земли мы изуч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Что такое литосфер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Какие различия есть в литосфе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Показать на карте 5 горных сист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Показать на карте 5 крупных равн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Что такое Гидросфера?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На какие части разделяют      гидросфер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Назвать части Мирового оке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Назвать воды су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Показать на карте 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41320"/>
            <a:ext cx="6724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2  слой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тратосфера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ерхняя граница 50-55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лщина 30-40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здух сух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высоте 25 км находится слой озо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го в 10 раз больше, чем у поверхн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 25 км происходит повышение  t°0 на верхней гра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81720"/>
            <a:ext cx="5554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3 слой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езосфера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ходится на высоте 50-80км  t° -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здух разрежен и не поглощает солнечное тепло и не рассеивает с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00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Повторяе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называют атмосферо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з чего она состои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троение атмосфе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роп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трат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ез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81720"/>
            <a:ext cx="7281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.26 стр.104-10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5856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Приложение 2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льские го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 река Кон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 Кавказ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Гимала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редиземное мо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Красное мо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Амазо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Кордилье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Ан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Саха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река Ен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 оз. Викто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3. река Миссисип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. п-ов Индост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. о.Мадагаск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11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3e3ff"/>
                </a:solidFill>
                <a:latin typeface="Arial"/>
              </a:rPr>
              <a:t>Запись в тетрадь</a:t>
            </a:r>
            <a:br>
              <a:rPr sz="4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Гидросфера -11к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Литосфера - 100к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Атмосфера- 1000к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Значение атмосфе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 Дых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 Защищ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)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 метеор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б)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гре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)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охла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)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зон -задерживает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льтрафиолетовые лу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Происходит круговорот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660" t="4712" r="10663" b="22809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672560"/>
            <a:ext cx="7210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7613" r="0" b="15609"/>
          <a:stretch/>
        </p:blipFill>
        <p:spPr>
          <a:xfrm>
            <a:off x="0" y="177336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503280"/>
            <a:ext cx="4329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11607" b="12546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03640" y="420840"/>
            <a:ext cx="38894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тмосфер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ая толстая оболочка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оение атмосфер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1720"/>
            <a:ext cx="5337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ижний  слой   атмосферы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ропосфера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лщина    на экваторе  - 18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умеренных  - 10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полярных   -  8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90% всего воздуха атмо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t° понижается на 6° на 1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ут формируется погода, круговорот воды в природе (содержится большая часть водяного па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t° -55 на верхней гра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4:04:47Z</dcterms:created>
  <dc:creator>Мзоков</dc:creator>
  <dc:description/>
  <dc:language>en-US</dc:language>
  <cp:lastModifiedBy>Мзоков</cp:lastModifiedBy>
  <dcterms:modified xsi:type="dcterms:W3CDTF">2014-02-23T14:02:21Z</dcterms:modified>
  <cp:revision>4</cp:revision>
  <dc:subject/>
  <dc:title> Воздух - смесь газов. Это - кислород, азот, углекислый газ Другие газы: аргон, водород, неон, гелий... Примеси: водяной пар, соль, пыль, сажа...  </dc:title>
</cp:coreProperties>
</file>