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BD6-7F97-4027-BB10-E5331904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1B0-82E5-4975-98AF-2D02C47A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37B-A13A-4B97-846D-39449531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36B-9A4C-4514-A97D-2D596368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921-1241-4607-8261-A0A2FB19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B23-3DE5-4145-AB30-553A4E3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ABA-0D20-4F6F-9F5E-2E1F224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DD9-1D2C-4195-A3E8-0F239C3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4C8-0073-45B6-8452-A4C68CE2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C68-39B7-4B68-9C85-3FB032BD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AF1-F147-48B8-8187-18D65BE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3A-E69F-4393-93ED-56149A6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504-CEDE-4579-8A99-EA7E63608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18560" cy="1152720"/>
          </a:xfrm>
          <a:prstGeom prst="rect">
            <a:avLst/>
          </a:prstGeom>
          <a:solidFill>
            <a:srgbClr val="34da6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Проект «Озеленение классной комнаты» </a:t>
            </a:r>
            <a:br>
              <a:rPr sz="2000"/>
            </a:b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учитель Тулупова О.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412640"/>
            <a:ext cx="7920000" cy="5040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Цель проекта:</a:t>
            </a: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На основе исследования, изучения и выращивания комнатных растений украсить интерьер комнаты  комнатными растениями, расположенными в зонах, благоприятных для их рос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Задачи:</a:t>
            </a: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1.Вспомнить о значении растений в жизни человека,  найти информацию, выбрать для посадки и высадить комнатные  растения, формировать понятия о правилах ухода за ними и практические умения, познакомить с названиями комнатных раст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2. Развивать  познавательные способности учащихся, исследовательские навыки (умение сравнивать,  анализировать, делать выводы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3. Воспитывать любовь к природе и бережное отношение к ней, прививать интерес к цветоводств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Участники проекта</a:t>
            </a: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ученики 2  класса, родители, учит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Проблема: </a:t>
            </a: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Небольшое количество цветов в кабинете. Большую часть года школьники проводят  в классе школы, поэтому необходимо украсить его вечнозелеными растениями, которые играют не только эстетическую и воспитательную роль, но и оказывают благотворное воздействие на наше самочувств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результ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Цветы в  классе как украшение интерьера и очищение воздух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Объединение детей и взрослых одной цель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4da6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Результаты:</a:t>
            </a:r>
            <a:br>
              <a:rPr sz="2000"/>
            </a:b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Цветы в  классе как украшение интерьера и очищение воздуха. </a:t>
            </a:r>
            <a:br>
              <a:rPr sz="2000"/>
            </a:b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Объединение детей и взрослых одной целью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Фото0050"/>
          <p:cNvPicPr/>
          <p:nvPr/>
        </p:nvPicPr>
        <p:blipFill>
          <a:blip r:embed="rId1"/>
          <a:stretch/>
        </p:blipFill>
        <p:spPr>
          <a:xfrm>
            <a:off x="1668600" y="1628640"/>
            <a:ext cx="1638000" cy="21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Фото0051"/>
          <p:cNvPicPr/>
          <p:nvPr/>
        </p:nvPicPr>
        <p:blipFill>
          <a:blip r:embed="rId2"/>
          <a:stretch/>
        </p:blipFill>
        <p:spPr>
          <a:xfrm>
            <a:off x="5843520" y="1628640"/>
            <a:ext cx="1638360" cy="218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Фото0052"/>
          <p:cNvPicPr/>
          <p:nvPr/>
        </p:nvPicPr>
        <p:blipFill>
          <a:blip r:embed="rId3"/>
          <a:stretch/>
        </p:blipFill>
        <p:spPr>
          <a:xfrm>
            <a:off x="1692360" y="4005360"/>
            <a:ext cx="163980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Фото0053"/>
          <p:cNvPicPr/>
          <p:nvPr/>
        </p:nvPicPr>
        <p:blipFill>
          <a:blip r:embed="rId4"/>
          <a:stretch/>
        </p:blipFill>
        <p:spPr>
          <a:xfrm>
            <a:off x="5842080" y="3933720"/>
            <a:ext cx="1639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C:\Users\User\Desktop\цветы\Фото0066.jpg"/>
          <p:cNvPicPr/>
          <p:nvPr/>
        </p:nvPicPr>
        <p:blipFill>
          <a:blip r:embed="rId1"/>
          <a:stretch/>
        </p:blipFill>
        <p:spPr>
          <a:xfrm>
            <a:off x="1258920" y="1341360"/>
            <a:ext cx="237636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User\Desktop\цветы\Фото0068.jpg"/>
          <p:cNvPicPr/>
          <p:nvPr/>
        </p:nvPicPr>
        <p:blipFill>
          <a:blip r:embed="rId2"/>
          <a:stretch/>
        </p:blipFill>
        <p:spPr>
          <a:xfrm>
            <a:off x="1258920" y="3938760"/>
            <a:ext cx="2376360" cy="244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User\Desktop\цветы\Фото0065.jpg"/>
          <p:cNvPicPr/>
          <p:nvPr/>
        </p:nvPicPr>
        <p:blipFill>
          <a:blip r:embed="rId3"/>
          <a:stretch/>
        </p:blipFill>
        <p:spPr>
          <a:xfrm>
            <a:off x="5651640" y="1341360"/>
            <a:ext cx="2089080" cy="244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User\Desktop\цветы\Фото0046.jpg"/>
          <p:cNvPicPr/>
          <p:nvPr/>
        </p:nvPicPr>
        <p:blipFill>
          <a:blip r:embed="rId4"/>
          <a:stretch/>
        </p:blipFill>
        <p:spPr>
          <a:xfrm>
            <a:off x="5651640" y="3860640"/>
            <a:ext cx="2089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е участие в проекте «Создание клумб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цветы\Фото0067.jpg"/>
          <p:cNvPicPr/>
          <p:nvPr/>
        </p:nvPicPr>
        <p:blipFill>
          <a:blip r:embed="rId1"/>
          <a:stretch/>
        </p:blipFill>
        <p:spPr>
          <a:xfrm>
            <a:off x="2340000" y="148428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24:34Z</dcterms:created>
  <dc:creator>User</dc:creator>
  <dc:description/>
  <dc:language>en-US</dc:language>
  <cp:lastModifiedBy>User</cp:lastModifiedBy>
  <dcterms:modified xsi:type="dcterms:W3CDTF">2013-05-05T06:27:04Z</dcterms:modified>
  <cp:revision>6</cp:revision>
  <dc:subject/>
  <dc:title>Проект «Озеленение классной комнаты»  учитель Тулупова О.Н.</dc:title>
</cp:coreProperties>
</file>