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7632-F7C1-4E9A-83F7-E4189A3D9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029-E629-404D-A242-8C3A2179F4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4F2-0AC6-4D20-81DD-7AB58C53D8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F6F-3876-46D7-9CED-4F224531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318-1C36-474F-9437-5C477BD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AC7-75C3-4445-A701-667324DC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84A-93C7-488A-BD54-619CE88F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6EE2-BBED-494D-BA45-B5F98F32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E245-E62E-4148-AB2E-BF03C30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69B0-8CE9-45E5-AE99-EC2A5A90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43F-E27B-4A14-9F74-94DDE35F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A4F-86FA-4F54-A424-A59ACC3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AC84-1EDE-40A7-85AF-F0E50C1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1B8-9FD5-419A-B4E8-7DDB666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A43-05D3-4375-95A4-E0E0ED22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D4B1-B8A7-4378-A12E-DB826B1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B333-A6D6-4D81-8DA4-01C10E1A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6628-BE9C-4605-8E09-830B958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3D4-4110-4C0E-ABD9-6CD92EAC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A873-E5B6-40B5-89C2-811CE4EA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319-87E9-4BF6-B55C-96823123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856-F4AD-47D4-AFE5-1089AAB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320-8FD4-4327-80C3-C5984B8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64C-8390-458E-BA61-F4F0085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125-2E84-4633-B302-69EF58F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20D-262D-4385-B9EA-9C7A061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A59-B19E-4FFF-BE50-333B743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517C-46CE-4112-8134-7EA4A502555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177-B8E5-4C27-9686-BC8E66EE7C2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20c7e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92000" y="5157360"/>
            <a:ext cx="5257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ea0404"/>
                </a:solidFill>
                <a:latin typeface="Calibri"/>
              </a:rPr>
              <a:t>Работа выполнена : Щанкиной Викторией Алексеевной. Ученицей 4 класса. Школы № 4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547640" y="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Исследовательская работа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27280" y="1341360"/>
            <a:ext cx="4535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ыращивание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сталлов соли в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их условиях"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443700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57120" y="4287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571680" y="5716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готовим как можно более концентрированный раствор соли, внося соль в стакан с водой, - до тех пор, пока очередная порция соли не перестанет растворяться при перемешив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:\Documents and Settings\Валерия Евгеньевна.PHILKA\Рабочий стол\все к проекту соль\102NIKON\DSCN4013.JPG"/>
          <p:cNvPicPr/>
          <p:nvPr/>
        </p:nvPicPr>
        <p:blipFill>
          <a:blip r:embed="rId1"/>
          <a:stretch/>
        </p:blipFill>
        <p:spPr>
          <a:xfrm>
            <a:off x="285840" y="2786040"/>
            <a:ext cx="385740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Валерия Евгеньевна.PHILKA\Рабочий стол\все к проекту соль\102NIKON\DSCN4018.JPG"/>
          <p:cNvPicPr/>
          <p:nvPr/>
        </p:nvPicPr>
        <p:blipFill>
          <a:blip r:embed="rId2"/>
          <a:stretch/>
        </p:blipFill>
        <p:spPr>
          <a:xfrm>
            <a:off x="4643280" y="2786040"/>
            <a:ext cx="40719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6"/>
          <p:cNvSpPr/>
          <p:nvPr/>
        </p:nvSpPr>
        <p:spPr>
          <a:xfrm>
            <a:off x="611280" y="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лученный концентрированный раствор перельем в стакан; туда же с помощью деревянной перемычки (можно также сделать перемычку из стержня шариковой ручки) подвесим на нитке кристаллическую "затравку" - маленький кристаллик той же соли - так, чтобы он был погружен в раствор. На этой "затравке" и предстоит расти будущему экспонату нашей коллекции крис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Documents and Settings\Валерия Евгеньевна.PHILKA\Рабочий стол\все к проекту соль\102NIKON\DSCN4024.JPG"/>
          <p:cNvPicPr/>
          <p:nvPr/>
        </p:nvPicPr>
        <p:blipFill>
          <a:blip r:embed="rId1"/>
          <a:stretch/>
        </p:blipFill>
        <p:spPr>
          <a:xfrm>
            <a:off x="500040" y="3143160"/>
            <a:ext cx="4214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571680" y="64296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такан с раствором поставим в открытом виде в теплое место. Будем следить за ростом кристалла каждый ден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1.  Когда кристалл вырастет достаточно большим, вынем его из раствора, обсушим мягкой тряпочкой или бумажной салфеткой, обрежем нитку и покроем грани кристалла бесцветным лаком, чтобы предохранить от "выветривания" на воздух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C:\Documents and Settings\Валерия Евгеньевна.PHILKA\Рабочий стол\все к проекту соль\103NIKON\DSCN4071.JPG"/>
          <p:cNvPicPr/>
          <p:nvPr/>
        </p:nvPicPr>
        <p:blipFill>
          <a:blip r:embed="rId1"/>
          <a:stretch/>
        </p:blipFill>
        <p:spPr>
          <a:xfrm>
            <a:off x="4643280" y="3214800"/>
            <a:ext cx="4000680" cy="335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Валерия Евгеньевна.PHILKA\Рабочий стол\все к проекту соль\103NIKON\DSCN4067.JPG"/>
          <p:cNvPicPr/>
          <p:nvPr/>
        </p:nvPicPr>
        <p:blipFill>
          <a:blip r:embed="rId2"/>
          <a:stretch/>
        </p:blipFill>
        <p:spPr>
          <a:xfrm>
            <a:off x="214200" y="321480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357120" y="1357200"/>
            <a:ext cx="89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9280" y="714240"/>
          <a:ext cx="8964720" cy="5786640"/>
        </p:xfrm>
        <a:graphic>
          <a:graphicData uri="http://schemas.openxmlformats.org/drawingml/2006/table">
            <a:tbl>
              <a:tblPr/>
              <a:tblGrid>
                <a:gridCol w="2284560"/>
                <a:gridCol w="2320920"/>
                <a:gridCol w="2065320"/>
                <a:gridCol w="2293920"/>
              </a:tblGrid>
              <a:tr h="16192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Этапы работ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Дат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а нач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проведения      исслед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Дата начала образования  первых кристалло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Дата оконч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исследовани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7360">
                <a:tc>
                  <a:txBody>
                    <a:bodyPr lIns="60120" rIns="60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1.     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нцентрированный раствор соли поместим на нитке затравку 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ff"/>
                        </a:buClr>
                        <a:buSzPct val="65000"/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Стакан с исследуемым образцом поставим в тёплое мест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ff"/>
                        </a:buClr>
                        <a:buSzPct val="65000"/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Будем наблюдать за ростом кристалла со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2013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12 марта 2013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23 марта 2013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 flipH="1">
            <a:off x="1714680" y="143640"/>
            <a:ext cx="4572000" cy="368280"/>
          </a:xfrm>
          <a:prstGeom prst="rect">
            <a:avLst/>
          </a:prstGeom>
          <a:noFill/>
          <a:ln w="9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Результаты исследований</a:t>
            </a:r>
            <a:r>
              <a:rPr b="0" lang="en-US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9" descr="C:\Documents and Settings\Валерия Евгеньевна.PHILKA\Рабочий стол\все к проекту соль\102NIKON\DSCN4023.JPG"/>
          <p:cNvPicPr/>
          <p:nvPr/>
        </p:nvPicPr>
        <p:blipFill>
          <a:blip r:embed="rId1"/>
          <a:stretch/>
        </p:blipFill>
        <p:spPr>
          <a:xfrm>
            <a:off x="2500200" y="357192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" descr="C:\Documents and Settings\Валерия Евгеньевна.PHILKA\Рабочий стол\все к проекту соль\102NIKON\DSCN3956.JPG"/>
          <p:cNvPicPr/>
          <p:nvPr/>
        </p:nvPicPr>
        <p:blipFill>
          <a:blip r:embed="rId2"/>
          <a:stretch/>
        </p:blipFill>
        <p:spPr>
          <a:xfrm>
            <a:off x="4857840" y="3571920"/>
            <a:ext cx="2000160" cy="221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2" descr="C:\Documents and Settings\Валерия Евгеньевна.PHILKA\Рабочий стол\все к проекту соль\103NIKON\DSCN4075.JPG"/>
          <p:cNvPicPr/>
          <p:nvPr/>
        </p:nvPicPr>
        <p:blipFill>
          <a:blip r:embed="rId3"/>
          <a:stretch/>
        </p:blipFill>
        <p:spPr>
          <a:xfrm>
            <a:off x="6929280" y="357192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6"/>
          <p:cNvSpPr/>
          <p:nvPr/>
        </p:nvSpPr>
        <p:spPr>
          <a:xfrm>
            <a:off x="1000080" y="785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40" y="2286000"/>
            <a:ext cx="8072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а гипотеза подтвердила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омашних условиях действительно можно за две недели вырастить красивый кристалл сол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этого потребуется стеклянный стакан,  деревянная перемычка  и нитка, да еще необходимый запас соли, кристаллы которой вы собираетесь выращивать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4932360" y="836640"/>
            <a:ext cx="371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чатая работа по исследованию кристаллов продолжается. Я планирую вырастить дома кристаллы медного купороса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а также  изучить особенности строения твердых тел кристаллического стро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2" descr="http://t0.gstatic.com/images?q=tbn:XXyAD_l0tTWQMM:http://cooking.wild-mistress.ru/wm/cooking.nsf/publicall/2006-07-31-480491.html/%24File/0.jpg"/>
          <p:cNvPicPr/>
          <p:nvPr/>
        </p:nvPicPr>
        <p:blipFill>
          <a:blip r:embed="rId1"/>
          <a:stretch/>
        </p:blipFill>
        <p:spPr>
          <a:xfrm>
            <a:off x="928800" y="1214280"/>
            <a:ext cx="3448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99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71680" y="857160"/>
            <a:ext cx="74293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2562"/>
                </a:solidFill>
                <a:latin typeface="Calibri"/>
              </a:rPr>
              <a:t>Цель исследования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2562"/>
                </a:solidFill>
                <a:latin typeface="Arial"/>
              </a:rPr>
              <a:t>Научиться выращивать кристаллы в домашни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10" descr="через трое суток после начала опыта"/>
          <p:cNvPicPr/>
          <p:nvPr/>
        </p:nvPicPr>
        <p:blipFill>
          <a:blip r:embed="rId2"/>
          <a:stretch/>
        </p:blipFill>
        <p:spPr>
          <a:xfrm>
            <a:off x="1042920" y="3429000"/>
            <a:ext cx="1857600" cy="2381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выращивание кристаллов"/>
          <p:cNvPicPr/>
          <p:nvPr/>
        </p:nvPicPr>
        <p:blipFill>
          <a:blip r:embed="rId3"/>
          <a:stretch/>
        </p:blipFill>
        <p:spPr>
          <a:xfrm>
            <a:off x="4500720" y="3500280"/>
            <a:ext cx="25635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42960" y="785880"/>
            <a:ext cx="8072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Изучить информацию о кристал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Вырастить кристаллы соли в домашних услов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Рассмотреть структуру кристалла с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Результаты внести в табли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Calibri"/>
              </a:rPr>
              <a:t>Сделать вывод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428760" y="357120"/>
            <a:ext cx="807228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Из литературных источников я узнала, что кристаллы – это твёрдые тела, атомы или молекулы которых образуют упорядоченную периодическую структуру (кристаллическую решетк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Кристаллы получают в лаборатории, но бывают они и в природе. Например, снежинки, морозные узоры на стеклах окон и иней, украшающий зимой голые ветки деревьев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2" descr="Photobucket"/>
          <p:cNvPicPr/>
          <p:nvPr/>
        </p:nvPicPr>
        <p:blipFill>
          <a:blip r:embed="rId2"/>
          <a:stretch/>
        </p:blipFill>
        <p:spPr>
          <a:xfrm>
            <a:off x="4786200" y="342900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Photobucket"/>
          <p:cNvPicPr/>
          <p:nvPr/>
        </p:nvPicPr>
        <p:blipFill>
          <a:blip r:embed="rId3"/>
          <a:stretch/>
        </p:blipFill>
        <p:spPr>
          <a:xfrm>
            <a:off x="428760" y="3429000"/>
            <a:ext cx="4024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ffff00"/>
            </a:gs>
            <a:gs pos="100000">
              <a:srgbClr val="99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928800" y="214200"/>
            <a:ext cx="7143480" cy="14655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c8e9"/>
                </a:solidFill>
                <a:latin typeface="Arial"/>
              </a:rPr>
              <a:t>Кристаллами являются алмазы, рубины, сапфиры и другие драгоценные камни и минер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4" descr="Photobucket"/>
          <p:cNvPicPr/>
          <p:nvPr/>
        </p:nvPicPr>
        <p:blipFill>
          <a:blip r:embed="rId1"/>
          <a:stretch/>
        </p:blipFill>
        <p:spPr>
          <a:xfrm>
            <a:off x="928800" y="2357280"/>
            <a:ext cx="3071880" cy="3786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Photobucket"/>
          <p:cNvPicPr/>
          <p:nvPr/>
        </p:nvPicPr>
        <p:blipFill>
          <a:blip r:embed="rId2"/>
          <a:stretch/>
        </p:blipFill>
        <p:spPr>
          <a:xfrm>
            <a:off x="4357800" y="2357280"/>
            <a:ext cx="38098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66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 flipH="1">
            <a:off x="429480" y="2571840"/>
            <a:ext cx="4357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 сутки в лаборатории можно вырастить кристалл со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сой око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го килограмма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4" descr="Хлорид натрия (соли) кристаллов. (Воспроизводится с разрешения JLM Visual.)"/>
          <p:cNvPicPr/>
          <p:nvPr/>
        </p:nvPicPr>
        <p:blipFill>
          <a:blip r:embed="rId1"/>
          <a:stretch/>
        </p:blipFill>
        <p:spPr>
          <a:xfrm>
            <a:off x="4857840" y="2643120"/>
            <a:ext cx="3857400" cy="3571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24000" y="54936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ристаллы широко применяются в науке, промышленности, оптике, электронике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642960" y="28584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еня очень заинтересовала эта тема, и я решила вырастить кристалл соли в домашних условиях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2" descr="C:\Documents and Settings\Валерия Евгеньевна.PHILKA\Рабочий стол\КАРТИНКИ.ФОТО\Т. Лена\SN850964.JPG"/>
          <p:cNvPicPr/>
          <p:nvPr/>
        </p:nvPicPr>
        <p:blipFill>
          <a:blip r:embed="rId2"/>
          <a:stretch/>
        </p:blipFill>
        <p:spPr>
          <a:xfrm>
            <a:off x="714240" y="4714920"/>
            <a:ext cx="3000600" cy="186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выращивание кристаллов"/>
          <p:cNvPicPr/>
          <p:nvPr/>
        </p:nvPicPr>
        <p:blipFill>
          <a:blip r:embed="rId3"/>
          <a:stretch/>
        </p:blipFill>
        <p:spPr>
          <a:xfrm>
            <a:off x="5286240" y="20718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7" descr="Медный купорос"/>
          <p:cNvPicPr/>
          <p:nvPr/>
        </p:nvPicPr>
        <p:blipFill>
          <a:blip r:embed="rId4"/>
          <a:stretch/>
        </p:blipFill>
        <p:spPr>
          <a:xfrm>
            <a:off x="785880" y="2143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C:\Documents and Settings\Валерия Евгеньевна.PHILKA\Рабочий стол\КАРТИНКИ.ФОТО\Т. Лена\SN850964.JPG"/>
          <p:cNvPicPr/>
          <p:nvPr/>
        </p:nvPicPr>
        <p:blipFill>
          <a:blip r:embed="rId5"/>
          <a:stretch/>
        </p:blipFill>
        <p:spPr>
          <a:xfrm>
            <a:off x="5357880" y="4643280"/>
            <a:ext cx="27874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395280" y="0"/>
            <a:ext cx="1541520" cy="6973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143080" y="1143000"/>
            <a:ext cx="626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fe9e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Я предполагаю, ч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 домашних условия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ействительно можно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ыраст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ристаллы с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01960" cy="1212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71680" y="1714680"/>
            <a:ext cx="814356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ырастить кристаллы соли 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) приготовить концентрированный раствор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)   нить № 1 с затравкой поместить  в раствор соли  в подвешенном состояни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)   нить № 2  просто поместить в раствор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 Результаты наблюдений занести в таб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делать 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44:08Z</dcterms:created>
  <dc:creator>www.PHILka.RU</dc:creator>
  <dc:description/>
  <dc:language>en-US</dc:language>
  <cp:lastModifiedBy>Вика</cp:lastModifiedBy>
  <dcterms:modified xsi:type="dcterms:W3CDTF">2014-04-07T07:36:05Z</dcterms:modified>
  <cp:revision>138</cp:revision>
  <dc:subject/>
  <dc:title>Влияние  воды на прорастание семян</dc:title>
</cp:coreProperties>
</file>