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65107-A8B6-4075-A555-65B6CE711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53964-587C-4CC3-86F8-D5E985170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91BDB-7DDA-4DAD-84FF-FAF81FBD9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46667-6AEE-4E26-BFB3-FB8601A8A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2061D-1EFE-4353-BACA-8E57278E6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32164-8DDC-4E5D-AAAF-239E32EDF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175D9-2CEB-4814-BF44-7D01CD2A9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8E443-40A9-4336-9FB9-A694FF84E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C8D9A-DB3C-457C-B20E-76B83E7A3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87D39-0933-4B63-A282-90A3A6242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80492-C96F-4DCA-8AC2-2CB1AC21C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A6643-B76D-4E1E-976D-73F390A0D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2E605-C676-4225-92CD-A16F459DC31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58920" y="549000"/>
            <a:ext cx="633744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БОУ «Килемарская СОШ» </a:t>
            </a:r>
            <a:br>
              <a:rPr sz="3200"/>
            </a:br>
            <a:br>
              <a:rPr sz="3200"/>
            </a:br>
            <a:r>
              <a:rPr b="1" lang="ru-RU" sz="4000" spc="-1" strike="noStrike">
                <a:solidFill>
                  <a:srgbClr val="7030a0"/>
                </a:solidFill>
                <a:latin typeface="Times New Roman"/>
              </a:rPr>
              <a:t>Применение современных образовательных технологий на уроках математик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785680" y="3933360"/>
            <a:ext cx="552276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читель математик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онюшкова И.П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гт. Килемар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014 г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476000" y="549360"/>
            <a:ext cx="604836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</a:rPr>
              <a:t>Уточняющие  вопросы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571400" y="1928520"/>
            <a:ext cx="7221240" cy="381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Начинаются со слов 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«То есть ты говоришь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что…?»,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«Если я правильно понял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то…?» и т.д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Полилиния 7"/>
          <p:cNvSpPr/>
          <p:nvPr/>
        </p:nvSpPr>
        <p:spPr>
          <a:xfrm>
            <a:off x="1428840" y="1357200"/>
            <a:ext cx="2144520" cy="2841840"/>
          </a:xfrm>
          <a:prstGeom prst="pie">
            <a:avLst/>
          </a:prstGeom>
          <a:solidFill>
            <a:srgbClr val="00b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00040" y="549360"/>
            <a:ext cx="77868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</a:rPr>
              <a:t>    </a:t>
            </a:r>
            <a:r>
              <a:rPr b="1" lang="ru-RU" sz="4000" spc="-1" strike="noStrike">
                <a:solidFill>
                  <a:srgbClr val="7030a0"/>
                </a:solidFill>
                <a:latin typeface="Times New Roman"/>
              </a:rPr>
              <a:t>Интерпретационные  вопросы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500120" y="1785600"/>
            <a:ext cx="7221600" cy="381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Начинаются со слова 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«Почему?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Полилиния 7"/>
          <p:cNvSpPr/>
          <p:nvPr/>
        </p:nvSpPr>
        <p:spPr>
          <a:xfrm>
            <a:off x="1357200" y="1285920"/>
            <a:ext cx="2144880" cy="2841480"/>
          </a:xfrm>
          <a:prstGeom prst="pie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0040" y="549360"/>
            <a:ext cx="77868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</a:rPr>
              <a:t>Творческие   вопросы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714320" y="1857240"/>
            <a:ext cx="7221240" cy="381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 вопросе есть частица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«бы», а в формулировк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есть элементы условности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едположения, фантазии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огноз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Полилиния 7"/>
          <p:cNvSpPr/>
          <p:nvPr/>
        </p:nvSpPr>
        <p:spPr>
          <a:xfrm>
            <a:off x="1571760" y="1428840"/>
            <a:ext cx="2144520" cy="2841480"/>
          </a:xfrm>
          <a:prstGeom prst="pie">
            <a:avLst/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0040" y="549360"/>
            <a:ext cx="77868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</a:rPr>
              <a:t>Оценочные вопросы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14320" y="1857240"/>
            <a:ext cx="7221240" cy="381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Э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ти вопросы направлен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на выявление критерие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ценки тех или иных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обытий, явлений, фактов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Полилиния 7"/>
          <p:cNvSpPr/>
          <p:nvPr/>
        </p:nvSpPr>
        <p:spPr>
          <a:xfrm>
            <a:off x="1571760" y="1428840"/>
            <a:ext cx="2144520" cy="2841480"/>
          </a:xfrm>
          <a:prstGeom prst="pie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0040" y="549360"/>
            <a:ext cx="77868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</a:rPr>
              <a:t>Практические вопросы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714320" y="1857240"/>
            <a:ext cx="7221240" cy="381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опросы направлен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на установлен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заимосвязи межд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теорией и практикой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Полилиния 7"/>
          <p:cNvSpPr/>
          <p:nvPr/>
        </p:nvSpPr>
        <p:spPr>
          <a:xfrm>
            <a:off x="1571760" y="1428840"/>
            <a:ext cx="2144520" cy="2841480"/>
          </a:xfrm>
          <a:prstGeom prst="pie">
            <a:avLst/>
          </a:prstGeom>
          <a:solidFill>
            <a:srgbClr val="7030a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500040" y="1999800"/>
            <a:ext cx="8229600" cy="45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</a:rPr>
              <a:t>                                                           </a:t>
            </a:r>
            <a:r>
              <a:rPr b="1" lang="ru-RU" sz="3200" spc="-1" strike="noStrike">
                <a:solidFill>
                  <a:srgbClr val="7030a0"/>
                </a:solidFill>
                <a:latin typeface="Times New Roman"/>
              </a:rPr>
              <a:t>Просты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</a:rPr>
              <a:t>Уточняющ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</a:rPr>
              <a:t>Интерпретационны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</a:rPr>
              <a:t>Творческ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</a:rPr>
              <a:t>Оценочны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</a:rPr>
              <a:t>Практическ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Полилиния 3"/>
          <p:cNvSpPr/>
          <p:nvPr/>
        </p:nvSpPr>
        <p:spPr>
          <a:xfrm>
            <a:off x="2714760" y="1071720"/>
            <a:ext cx="1033200" cy="2171520"/>
          </a:xfrm>
          <a:prstGeom prst="pie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Полилиния 4"/>
          <p:cNvSpPr/>
          <p:nvPr/>
        </p:nvSpPr>
        <p:spPr>
          <a:xfrm>
            <a:off x="2928960" y="1785960"/>
            <a:ext cx="1822320" cy="1638360"/>
          </a:xfrm>
          <a:prstGeom prst="pie">
            <a:avLst/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Полилиния 5"/>
          <p:cNvSpPr/>
          <p:nvPr/>
        </p:nvSpPr>
        <p:spPr>
          <a:xfrm>
            <a:off x="1714680" y="1428840"/>
            <a:ext cx="1320480" cy="1884240"/>
          </a:xfrm>
          <a:prstGeom prst="pie">
            <a:avLst/>
          </a:prstGeom>
          <a:solidFill>
            <a:srgbClr val="00b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Полилиния 6"/>
          <p:cNvSpPr/>
          <p:nvPr/>
        </p:nvSpPr>
        <p:spPr>
          <a:xfrm>
            <a:off x="1143000" y="2500200"/>
            <a:ext cx="1876320" cy="1113120"/>
          </a:xfrm>
          <a:prstGeom prst="pi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Полилиния 7"/>
          <p:cNvSpPr/>
          <p:nvPr/>
        </p:nvSpPr>
        <p:spPr>
          <a:xfrm>
            <a:off x="1928880" y="3143160"/>
            <a:ext cx="1044360" cy="1420920"/>
          </a:xfrm>
          <a:prstGeom prst="pie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Полилиния 8"/>
          <p:cNvSpPr/>
          <p:nvPr/>
        </p:nvSpPr>
        <p:spPr>
          <a:xfrm>
            <a:off x="2786040" y="3143160"/>
            <a:ext cx="1165320" cy="1549440"/>
          </a:xfrm>
          <a:prstGeom prst="pie">
            <a:avLst/>
          </a:prstGeom>
          <a:solidFill>
            <a:srgbClr val="7030a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Полилиния 10"/>
          <p:cNvSpPr/>
          <p:nvPr/>
        </p:nvSpPr>
        <p:spPr>
          <a:xfrm>
            <a:off x="2928960" y="2928960"/>
            <a:ext cx="1886040" cy="963720"/>
          </a:xfrm>
          <a:prstGeom prst="pie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030a0"/>
                </a:solidFill>
                <a:latin typeface="Times New Roman"/>
              </a:rPr>
              <a:t>Создаем ромашку Блум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14200" y="1500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пы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истема                             творчеств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езультат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Овал 4"/>
          <p:cNvSpPr/>
          <p:nvPr/>
        </p:nvSpPr>
        <p:spPr>
          <a:xfrm>
            <a:off x="3929040" y="2714760"/>
            <a:ext cx="1571760" cy="171432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астер-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лас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3" name="Прямая со стрелкой 9"/>
          <p:cNvCxnSpPr>
            <a:stCxn id="102" idx="0"/>
          </p:cNvCxnSpPr>
          <p:nvPr/>
        </p:nvCxnSpPr>
        <p:spPr>
          <a:xfrm flipV="1">
            <a:off x="4714920" y="2214000"/>
            <a:ext cx="2160" cy="50076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104" name="Прямая со стрелкой 12"/>
          <p:cNvCxnSpPr/>
          <p:nvPr/>
        </p:nvCxnSpPr>
        <p:spPr>
          <a:xfrm>
            <a:off x="5500800" y="3642840"/>
            <a:ext cx="429120" cy="252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105" name="Прямая со стрелкой 16"/>
          <p:cNvCxnSpPr/>
          <p:nvPr/>
        </p:nvCxnSpPr>
        <p:spPr>
          <a:xfrm flipH="1" flipV="1">
            <a:off x="3428280" y="3642480"/>
            <a:ext cx="500760" cy="252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106" name="Прямая со стрелкой 18"/>
          <p:cNvCxnSpPr/>
          <p:nvPr/>
        </p:nvCxnSpPr>
        <p:spPr>
          <a:xfrm flipH="1">
            <a:off x="4714560" y="4500720"/>
            <a:ext cx="2160" cy="42912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Работа по группам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оздание групп: выбрать свой любимы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цве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 группа- холодные тона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 группа- теплые тона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3 группа- нейтральные тон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Times New Roman"/>
              </a:rPr>
              <a:t>Рефлексия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2785680" y="1600200"/>
            <a:ext cx="5900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егодня я узнал, что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не понравилось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еперь я могу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Я понял, что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Я приобрел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Я попробую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еня удивило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Было трудно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</a:rPr>
              <a:t>       </a:t>
            </a:r>
            <a:r>
              <a:rPr b="1" lang="ru-RU" sz="3200" spc="-1" strike="noStrike">
                <a:solidFill>
                  <a:srgbClr val="7030a0"/>
                </a:solidFill>
                <a:latin typeface="Times New Roman"/>
              </a:rPr>
              <a:t>Технология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это совокупность приемов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меняемых в каком-либо деле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астерстве, искусстве (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олковый словарь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</a:rPr>
              <a:t>      </a:t>
            </a:r>
            <a:r>
              <a:rPr b="1" lang="ru-RU" sz="3200" spc="-1" strike="noStrike">
                <a:solidFill>
                  <a:srgbClr val="7030a0"/>
                </a:solidFill>
                <a:latin typeface="Times New Roman"/>
              </a:rPr>
              <a:t>Педагогическая технология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овокупность психолого-педагогических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становок, определяющих специальный набор 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мпоновку форм, методов, способов, приемов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бучения, воспитательных средств; она есть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рганизационно-методический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нструментарий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едагогического процесса. (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.Т. Лихачев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</a:rPr>
              <a:t>      </a:t>
            </a:r>
            <a:r>
              <a:rPr b="1" lang="ru-RU" sz="3200" spc="-1" strike="noStrike">
                <a:solidFill>
                  <a:srgbClr val="7030a0"/>
                </a:solidFill>
                <a:latin typeface="Times New Roman"/>
              </a:rPr>
              <a:t>Педагогическая технология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это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одержательная техника реализац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чебного процесса (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.П.Беспалько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</a:rPr>
              <a:t>      </a:t>
            </a:r>
            <a:r>
              <a:rPr b="1" lang="ru-RU" sz="3200" spc="-1" strike="noStrike">
                <a:solidFill>
                  <a:srgbClr val="7030a0"/>
                </a:solidFill>
                <a:latin typeface="Times New Roman"/>
              </a:rPr>
              <a:t>Педагогическая технология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это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писание достижения планируемых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езультатов обучения (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.П.Волков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</a:rPr>
              <a:t>      </a:t>
            </a:r>
            <a:r>
              <a:rPr b="1" lang="ru-RU" sz="3200" spc="-1" strike="noStrike">
                <a:solidFill>
                  <a:srgbClr val="7030a0"/>
                </a:solidFill>
                <a:latin typeface="Times New Roman"/>
              </a:rPr>
              <a:t>Педагогическая </a:t>
            </a:r>
            <a:r>
              <a:rPr b="1" lang="ru-RU" sz="2800" spc="-1" strike="noStrike">
                <a:solidFill>
                  <a:srgbClr val="7030a0"/>
                </a:solidFill>
                <a:latin typeface="Times New Roman"/>
              </a:rPr>
              <a:t>технологи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эт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истемный метод создания , применения 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пределения всего процесса преподаван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 усвоения знаний с учетом технических 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человеческих ресурсов и их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заимодействия, ставящий своей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задачей оптимизацию форм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бразования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ЮНЕСКО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)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Times New Roman"/>
              </a:rPr>
              <a:t>     </a:t>
            </a:r>
            <a:r>
              <a:rPr b="1" lang="ru-RU" sz="3600" spc="-1" strike="noStrike">
                <a:solidFill>
                  <a:srgbClr val="7030a0"/>
                </a:solidFill>
                <a:latin typeface="Times New Roman"/>
              </a:rPr>
              <a:t>Технология развития критического мышлени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785520" y="1600200"/>
            <a:ext cx="7900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ритическое мышлени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 – тип мышления,  который помогает критически относится к любым утверждениям, не принимать ничего на веру без доказательств, но быть при этом открытым новым идеям, методам. Критическое мышление – необходимое условие свободы выбора, качества прогноза, ответственности за собственные решения. Критическое мышление, таким образом, по сути –синоним качественного мышлени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76000" y="549360"/>
            <a:ext cx="604836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</a:rPr>
              <a:t>Таксономия Бенджамина Блума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476360" y="1915920"/>
            <a:ext cx="7221600" cy="381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аксономия — иерархически выстроенная система целей и результатов от простой к сложной системе. Схема, которая помогает соотнести вопросы с определенной категорией. Идет от простейшего к наиболее сложному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" name="Group 1"/>
          <p:cNvGrpSpPr/>
          <p:nvPr/>
        </p:nvGrpSpPr>
        <p:grpSpPr>
          <a:xfrm>
            <a:off x="2786040" y="785880"/>
            <a:ext cx="5002200" cy="4929120"/>
            <a:chOff x="2786040" y="785880"/>
            <a:chExt cx="5002200" cy="4929120"/>
          </a:xfrm>
        </p:grpSpPr>
        <p:sp>
          <p:nvSpPr>
            <p:cNvPr id="57" name="AutoShape 17"/>
            <p:cNvSpPr/>
            <p:nvPr/>
          </p:nvSpPr>
          <p:spPr>
            <a:xfrm>
              <a:off x="2786040" y="785880"/>
              <a:ext cx="5001120" cy="49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" name="Group 10"/>
            <p:cNvGrpSpPr/>
            <p:nvPr/>
          </p:nvGrpSpPr>
          <p:grpSpPr>
            <a:xfrm>
              <a:off x="2787120" y="785880"/>
              <a:ext cx="5001120" cy="4830120"/>
              <a:chOff x="2787120" y="785880"/>
              <a:chExt cx="5001120" cy="4830120"/>
            </a:xfrm>
          </p:grpSpPr>
          <p:sp>
            <p:nvSpPr>
              <p:cNvPr id="59" name="AutoShape 16"/>
              <p:cNvSpPr/>
              <p:nvPr/>
            </p:nvSpPr>
            <p:spPr>
              <a:xfrm>
                <a:off x="2787120" y="785880"/>
                <a:ext cx="5001120" cy="4830120"/>
              </a:xfrm>
              <a:prstGeom prst="triangle">
                <a:avLst>
                  <a:gd name="adj" fmla="val 50000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Line 15"/>
              <p:cNvSpPr/>
              <p:nvPr/>
            </p:nvSpPr>
            <p:spPr>
              <a:xfrm>
                <a:off x="4754520" y="1813680"/>
                <a:ext cx="1066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Line 14"/>
              <p:cNvSpPr/>
              <p:nvPr/>
            </p:nvSpPr>
            <p:spPr>
              <a:xfrm>
                <a:off x="4390560" y="2533320"/>
                <a:ext cx="1803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Line 13"/>
              <p:cNvSpPr/>
              <p:nvPr/>
            </p:nvSpPr>
            <p:spPr>
              <a:xfrm>
                <a:off x="3983040" y="3329640"/>
                <a:ext cx="2623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Line 12"/>
              <p:cNvSpPr/>
              <p:nvPr/>
            </p:nvSpPr>
            <p:spPr>
              <a:xfrm>
                <a:off x="3156120" y="4896360"/>
                <a:ext cx="4262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Line 11"/>
              <p:cNvSpPr/>
              <p:nvPr/>
            </p:nvSpPr>
            <p:spPr>
              <a:xfrm>
                <a:off x="3531600" y="4176720"/>
                <a:ext cx="3524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" name="Group 2"/>
            <p:cNvGrpSpPr/>
            <p:nvPr/>
          </p:nvGrpSpPr>
          <p:grpSpPr>
            <a:xfrm>
              <a:off x="3500280" y="1382760"/>
              <a:ext cx="3572280" cy="4331160"/>
              <a:chOff x="3500280" y="1382760"/>
              <a:chExt cx="3572280" cy="4331160"/>
            </a:xfrm>
          </p:grpSpPr>
          <p:sp>
            <p:nvSpPr>
              <p:cNvPr id="66" name="Text Box 9"/>
              <p:cNvSpPr/>
              <p:nvPr/>
            </p:nvSpPr>
            <p:spPr>
              <a:xfrm>
                <a:off x="4452840" y="1382760"/>
                <a:ext cx="1666800" cy="596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6600" rIns="66600" tIns="33480" bIns="3348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600" spc="-1" strike="noStrike">
                    <a:solidFill>
                      <a:srgbClr val="ff0000"/>
                    </a:solidFill>
                    <a:latin typeface="Arial"/>
                    <a:ea typeface="Times New Roman"/>
                  </a:rPr>
                  <a:t>Оценка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7" name="Group 3"/>
              <p:cNvGrpSpPr/>
              <p:nvPr/>
            </p:nvGrpSpPr>
            <p:grpSpPr>
              <a:xfrm>
                <a:off x="3500280" y="2065680"/>
                <a:ext cx="3572280" cy="3648240"/>
                <a:chOff x="3500280" y="2065680"/>
                <a:chExt cx="3572280" cy="3648240"/>
              </a:xfrm>
            </p:grpSpPr>
            <p:sp>
              <p:nvSpPr>
                <p:cNvPr id="68" name="Text Box 8"/>
                <p:cNvSpPr/>
                <p:nvPr/>
              </p:nvSpPr>
              <p:spPr>
                <a:xfrm>
                  <a:off x="4214520" y="2065680"/>
                  <a:ext cx="2143440" cy="596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6600" rIns="66600" tIns="33480" bIns="334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600" spc="-1" strike="noStrike">
                      <a:solidFill>
                        <a:srgbClr val="ff0000"/>
                      </a:solidFill>
                      <a:latin typeface="Arial"/>
                      <a:ea typeface="Times New Roman"/>
                    </a:rPr>
                    <a:t>Синтез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" name="Text Box 7"/>
                <p:cNvSpPr/>
                <p:nvPr/>
              </p:nvSpPr>
              <p:spPr>
                <a:xfrm>
                  <a:off x="3976200" y="2854800"/>
                  <a:ext cx="2619720" cy="596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6600" rIns="66600" tIns="33480" bIns="334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600" spc="-1" strike="noStrike">
                      <a:solidFill>
                        <a:srgbClr val="ff0000"/>
                      </a:solidFill>
                      <a:latin typeface="Arial"/>
                      <a:ea typeface="Times New Roman"/>
                    </a:rPr>
                    <a:t>Анализ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" name="Text Box 6"/>
                <p:cNvSpPr/>
                <p:nvPr/>
              </p:nvSpPr>
              <p:spPr>
                <a:xfrm>
                  <a:off x="3738240" y="3704040"/>
                  <a:ext cx="3095640" cy="596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6600" rIns="66600" tIns="33480" bIns="334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600" spc="-1" strike="noStrike">
                      <a:solidFill>
                        <a:srgbClr val="ff0000"/>
                      </a:solidFill>
                      <a:latin typeface="Arial"/>
                      <a:ea typeface="Times New Roman"/>
                    </a:rPr>
                    <a:t>Использование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Text Box 5"/>
                <p:cNvSpPr/>
                <p:nvPr/>
              </p:nvSpPr>
              <p:spPr>
                <a:xfrm>
                  <a:off x="3500280" y="4413600"/>
                  <a:ext cx="3572280" cy="596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6600" rIns="66600" tIns="33480" bIns="334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600" spc="-1" strike="noStrike">
                      <a:solidFill>
                        <a:srgbClr val="ff0000"/>
                      </a:solidFill>
                      <a:latin typeface="Arial"/>
                      <a:ea typeface="Times New Roman"/>
                    </a:rPr>
                    <a:t>Понимание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Text Box 4"/>
                <p:cNvSpPr/>
                <p:nvPr/>
              </p:nvSpPr>
              <p:spPr>
                <a:xfrm>
                  <a:off x="3500280" y="5117040"/>
                  <a:ext cx="3572280" cy="596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6600" rIns="66600" tIns="33480" bIns="334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600" spc="-1" strike="noStrike">
                      <a:solidFill>
                        <a:srgbClr val="ff0000"/>
                      </a:solidFill>
                      <a:latin typeface="Arial"/>
                      <a:ea typeface="Times New Roman"/>
                    </a:rPr>
                    <a:t>Знание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76000" y="549360"/>
            <a:ext cx="631044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i="1" lang="ru-RU" sz="4800" spc="-1" strike="noStrike" u="sng">
                <a:solidFill>
                  <a:srgbClr val="ff0000"/>
                </a:solidFill>
                <a:uFillTx/>
                <a:latin typeface="Times New Roman"/>
              </a:rPr>
              <a:t>Ромашка Блума</a:t>
            </a: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               </a:t>
            </a: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               </a:t>
            </a:r>
            <a:r>
              <a:rPr b="1" lang="ru-RU" sz="4000" spc="-1" strike="noStrike">
                <a:solidFill>
                  <a:srgbClr val="7030a0"/>
                </a:solidFill>
                <a:latin typeface="Times New Roman"/>
              </a:rPr>
              <a:t>Простые вопросы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28840" y="1857240"/>
            <a:ext cx="7221600" cy="381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Назвать какие-то факты,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оспроизвести некую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информацию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Полилиния 7"/>
          <p:cNvSpPr/>
          <p:nvPr/>
        </p:nvSpPr>
        <p:spPr>
          <a:xfrm>
            <a:off x="1357200" y="1285920"/>
            <a:ext cx="2144880" cy="2841480"/>
          </a:xfrm>
          <a:prstGeom prst="pi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2T16:04:58Z</dcterms:created>
  <dc:creator>Елена</dc:creator>
  <dc:description/>
  <dc:language>en-US</dc:language>
  <cp:lastModifiedBy>Admin</cp:lastModifiedBy>
  <dcterms:modified xsi:type="dcterms:W3CDTF">2014-11-04T19:25:50Z</dcterms:modified>
  <cp:revision>57</cp:revision>
  <dc:subject/>
  <dc:title>Слайд 1</dc:title>
</cp:coreProperties>
</file>