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1.png" ContentType="image/png"/>
  <Override PartName="/ppt/media/image18.jpeg" ContentType="image/jpeg"/>
  <Override PartName="/ppt/media/image22.gif" ContentType="image/gif"/>
  <Override PartName="/ppt/media/image29.png" ContentType="image/png"/>
  <Override PartName="/ppt/media/image2.wmf" ContentType="image/x-wmf"/>
  <Override PartName="/ppt/media/image14.wmf" ContentType="image/x-wmf"/>
  <Override PartName="/ppt/media/image1.png" ContentType="image/png"/>
  <Override PartName="/ppt/media/image31.png" ContentType="image/png"/>
  <Override PartName="/ppt/media/image26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35.wmf" ContentType="image/x-wmf"/>
  <Override PartName="/ppt/media/image20.png" ContentType="image/png"/>
  <Override PartName="/ppt/media/image7.jpeg" ContentType="image/jpeg"/>
  <Override PartName="/ppt/media/image28.png" ContentType="image/png"/>
  <Override PartName="/ppt/media/image10.wmf" ContentType="image/x-wmf"/>
  <Override PartName="/ppt/media/image47.wmf" ContentType="image/x-wmf"/>
  <Override PartName="/ppt/media/image19.jpeg" ContentType="image/jpeg"/>
  <Override PartName="/ppt/media/image6.wmf" ContentType="image/x-wmf"/>
  <Override PartName="/ppt/media/image36.wmf" ContentType="image/x-wmf"/>
  <Override PartName="/ppt/media/image23.gif" ContentType="image/gif"/>
  <Override PartName="/ppt/media/image17.jpeg" ContentType="image/jpeg"/>
  <Override PartName="/ppt/media/image45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44.wmf" ContentType="image/x-wmf"/>
  <Override PartName="/ppt/media/image34.wmf" ContentType="image/x-wmf"/>
  <Override PartName="/ppt/media/image46.wmf" ContentType="image/x-wmf"/>
  <Override PartName="/ppt/media/image39.wmf" ContentType="image/x-wmf"/>
  <Override PartName="/ppt/media/image50.wmf" ContentType="image/x-wmf"/>
  <Override PartName="/ppt/media/image30.png" ContentType="image/png"/>
  <Override PartName="/ppt/media/image13.wmf" ContentType="image/x-wmf"/>
  <Override PartName="/ppt/media/image25.gif" ContentType="image/gif"/>
  <Override PartName="/ppt/media/image11.wmf" ContentType="image/x-wmf"/>
  <Override PartName="/ppt/media/image48.wmf" ContentType="image/x-wmf"/>
  <Override PartName="/ppt/media/image52.wmf" ContentType="image/x-wmf"/>
  <Override PartName="/ppt/media/image32.png" ContentType="image/png"/>
  <Override PartName="/ppt/media/image53.wmf" ContentType="image/x-wmf"/>
  <Override PartName="/ppt/media/image33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2.wmf" ContentType="image/x-wmf"/>
  <Override PartName="/ppt/media/image43.png" ContentType="image/png"/>
  <Override PartName="/ppt/media/image54.wmf" ContentType="image/x-wmf"/>
  <Override PartName="/ppt/media/image51.wmf" ContentType="image/x-wmf"/>
  <Override PartName="/ppt/media/image9.jpeg" ContentType="image/jpeg"/>
  <Override PartName="/ppt/media/image49.wmf" ContentType="image/x-wmf"/>
  <Override PartName="/ppt/media/image12.wmf" ContentType="image/x-wmf"/>
  <Override PartName="/ppt/media/image4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390-8F12-421A-BB9A-2DAF2A44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D2B-074F-4A00-B947-5C537BAA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195-0863-4937-A7F2-88B3BCF5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F9B-5C15-46FC-ADCD-7E1EA869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84F6-BA3E-4905-B8E2-F18DC10E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C769-ABED-46F5-94A4-50C69FDE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4405-A1BC-44A5-8F95-AACB5F59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437C-B2B9-4BD5-8C5E-3B14F920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D728-C853-4F8B-BEC5-6B4C5B35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E8D9-8B88-4F23-87A9-4779EE87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6B22-3FA1-4397-9C7E-706486FA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B49-E55D-435D-8487-8866AE03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B8BF-9B80-4F3A-B569-ECA8A586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99A7-F25F-4F0A-97B7-2DA2151F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DCF0-1DE5-42D4-8BDF-CF907356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603F-A2E1-4DAC-A9C0-BF2269F5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CFFC-919A-4739-9A4F-C300FAB8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AA6-B73B-4A16-AF23-692FE16C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872-AB89-45A2-8DEC-5735C29A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29D-5886-4475-A739-7EBC2376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28A-00B1-483D-9540-7F93DC1A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E21-C84A-47A0-BD52-4644B73C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703-C991-4CD8-8D7A-78886E5C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572-58F6-4760-9246-578500D1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3AFE-CA5E-480B-BF8D-36E2C13DCC64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84E8-F944-424A-BA2F-778C9C8B7684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1196640"/>
            <a:ext cx="7812000" cy="2592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Мастер – класс :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«Игра как активная форма развития воображения у детей дошкольного возраста»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220640"/>
            <a:ext cx="7448400" cy="22323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Ведущий: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Анисович Галина Владимировна-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педагог дополнительного образовани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МБОУ ДОД ДДТ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МО Кавказский район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1836720" cy="175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67640" y="3213000"/>
            <a:ext cx="1020600" cy="1486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92720" y="404640"/>
            <a:ext cx="1116000" cy="1562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164360" y="5416560"/>
            <a:ext cx="19796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Вопросы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Каким образом изменится жизнь мальчика, ведь теперь его рост достиг трех с половиной метров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Ясно, что мальчику не хотелось быть великаном, также как не хотелось быть совсем крошечным, что предпримет мальчик, чтобы его рост стал обычным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403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Проанализируйте результаты игры: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557360"/>
            <a:ext cx="7772400" cy="4967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Заметили  ли вы, в чем выражается процесс воображения в работе ребенка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Насколько необычные и оригинальные идеи предлагает ребенок в развитии сюжета рассказа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Сколько таких идей предложено ребенком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Насколько ему понравилась эта игра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Испытывал ли он трудности и в чем в работе над сюжетом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028000" y="765000"/>
            <a:ext cx="87480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Формы выраженности воображения у детей: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Ребенок подробно и четко формулирует новые идеи, развивающие сюжет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Arial"/>
              </a:rPr>
              <a:t>Ведет активный диалог со взрослым, задает уточняющие содержание вопрос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Дает подробное описание содержания и объектов сказк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Arial"/>
              </a:rPr>
              <a:t>Вводит новых герое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Меняет направление развития сюжет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Arial"/>
              </a:rPr>
              <a:t>Демонстрирует хорошую память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Использует жесты и мимик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Arial"/>
              </a:rPr>
              <a:t>Проявляет высокий уровень речевой выразительност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3907" t="23403" r="23219" b="0"/>
          <a:stretch/>
        </p:blipFill>
        <p:spPr>
          <a:xfrm>
            <a:off x="6227640" y="5589720"/>
            <a:ext cx="1511280" cy="1069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800360" cy="1392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972560" y="5877000"/>
            <a:ext cx="1171440" cy="81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547640" y="5877000"/>
            <a:ext cx="1865520" cy="772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356000" y="5967360"/>
            <a:ext cx="120816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Развитие воображения залог успешной учебы: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1699920"/>
            <a:ext cx="7772400" cy="47530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Georgia"/>
              </a:rPr>
              <a:t>Любое </a:t>
            </a:r>
            <a:r>
              <a:rPr b="1" lang="en-US" sz="2400" spc="-1" strike="noStrike">
                <a:solidFill>
                  <a:srgbClr val="9966ff"/>
                </a:solidFill>
                <a:latin typeface="Georgia"/>
              </a:rPr>
              <a:t>обучение</a:t>
            </a:r>
            <a:r>
              <a:rPr b="1" lang="en-US" sz="2000" spc="-1" strike="noStrike">
                <a:solidFill>
                  <a:srgbClr val="9966ff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Georgia"/>
              </a:rPr>
              <a:t>связано с необходимостью что-то</a:t>
            </a:r>
            <a:r>
              <a:rPr b="0" lang="en-US" sz="2000" spc="-1" strike="noStrike">
                <a:solidFill>
                  <a:srgbClr val="336699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9966ff"/>
                </a:solidFill>
                <a:latin typeface="Georgia"/>
              </a:rPr>
              <a:t>представить, вообразить, оперировать абстрактными образами и понятиям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Georgia"/>
              </a:rPr>
              <a:t>Воображение</a:t>
            </a:r>
            <a:r>
              <a:rPr b="1" lang="en-US" sz="2400" spc="-1" strike="noStrike">
                <a:solidFill>
                  <a:srgbClr val="9966ff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9966ff"/>
                </a:solidFill>
                <a:latin typeface="Georgia"/>
              </a:rPr>
              <a:t>обеспечивает следующую деятельность ребенка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Georgia"/>
              </a:rPr>
              <a:t>Построение образа конечного результата его деятельности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Georgia"/>
              </a:rPr>
              <a:t>Создание программы поведения в ситуации неопределенности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Georgia"/>
              </a:rPr>
              <a:t>Создании образов, заменяющих деятельность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Georgia"/>
              </a:rPr>
              <a:t>Создание образов описываемых объект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9640" y="3789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667640" y="466560"/>
            <a:ext cx="118728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33440" y="189000"/>
            <a:ext cx="7810560" cy="1844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Игры и задачи «открытого типа»,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имеющие не единственное верное решение -  прекрасные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приемы тренировки воображения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0160" y="2205000"/>
            <a:ext cx="7772400" cy="4464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Игра «Составление изображений объектов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Нарисуйте лицо, клоуна, домик, кошку, дождь, радость, пользуясь следующим набором фигур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Каждую из фигур можно использовать многократно, менять ее размеры, но нельзя добавлять другие фигуры или лини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4292640"/>
            <a:ext cx="100800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19640" y="4221000"/>
            <a:ext cx="1079280" cy="79236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9640" y="4149720"/>
            <a:ext cx="647640" cy="10810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4076640"/>
            <a:ext cx="1224000" cy="1225440"/>
          </a:xfrm>
          <a:custGeom>
            <a:avLst/>
            <a:gdLst>
              <a:gd name="textAreaLeft" fmla="*/ 268920 w 1224000"/>
              <a:gd name="textAreaRight" fmla="*/ 955080 w 1224000"/>
              <a:gd name="textAreaTop" fmla="*/ 269280 h 1225440"/>
              <a:gd name="textAreaBottom" fmla="*/ 9561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Оценка результатов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Изображены ли все заданные объекты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Реалистичность изображения (степень похожести на заданный объект)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Уникальность изображения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Использование в изображении всех предложенных фигур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56720" y="5516640"/>
            <a:ext cx="431640" cy="360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7812000" y="5876640"/>
            <a:ext cx="720720" cy="647640"/>
          </a:xfrm>
          <a:custGeom>
            <a:avLst/>
            <a:gdLst>
              <a:gd name="textAreaLeft" fmla="*/ 158400 w 720720"/>
              <a:gd name="textAreaRight" fmla="*/ 562320 w 72072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4720" y="5877000"/>
            <a:ext cx="433440" cy="14436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8360" y="5877000"/>
            <a:ext cx="433440" cy="14436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85080" y="6453360"/>
            <a:ext cx="144360" cy="2602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44000" y="6453360"/>
            <a:ext cx="142920" cy="2602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80360" y="5516640"/>
            <a:ext cx="71280" cy="73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67640" y="5229360"/>
            <a:ext cx="144360" cy="144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28000" y="5013360"/>
            <a:ext cx="144360" cy="144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532720" y="5157720"/>
            <a:ext cx="71640" cy="71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748720" y="5373720"/>
            <a:ext cx="144360" cy="142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820000" y="5661000"/>
            <a:ext cx="73080" cy="73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28000" y="5589720"/>
            <a:ext cx="73080" cy="71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5589720"/>
            <a:ext cx="73080" cy="71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72360" y="5734080"/>
            <a:ext cx="71640" cy="712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5229360"/>
            <a:ext cx="142920" cy="28728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7640" y="5516640"/>
            <a:ext cx="289080" cy="712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7640" y="5661000"/>
            <a:ext cx="217440" cy="730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17080" y="5445000"/>
            <a:ext cx="215640" cy="7164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459640" y="5589720"/>
            <a:ext cx="216000" cy="712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805360"/>
            <a:ext cx="215640" cy="144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893080" y="5877000"/>
            <a:ext cx="250920" cy="21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72360" y="5157720"/>
            <a:ext cx="71640" cy="71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5734080"/>
            <a:ext cx="64908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5516640"/>
            <a:ext cx="217440" cy="28872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5516640"/>
            <a:ext cx="215640" cy="28872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5950080"/>
            <a:ext cx="1008000" cy="5032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16360" y="5950080"/>
            <a:ext cx="647640" cy="712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645336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645336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6000" y="645336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645336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3640" y="5950080"/>
            <a:ext cx="73080" cy="71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6002280"/>
            <a:ext cx="71640" cy="698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Игра «Составление из букв осмысленных слов»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7052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О          Т           Р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А           И          К         Р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К            О         Л        А        Б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Составьте как можно больше слов из этих букв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77080" y="1484280"/>
            <a:ext cx="17622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Игра «Использование предметов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7280" y="1817640"/>
            <a:ext cx="7772400" cy="48513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Рассмотрите предмет и перечислите все случаи употребления данного предмета, которые вам известны или которые вы можете вообразит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Важно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9966ff"/>
                </a:solidFill>
                <a:latin typeface="Arial"/>
              </a:rPr>
              <a:t>Ребенок демонстрирует не только оригинальные результаты, но и сопровождает критической оценкой, умеет объяснять свою логик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360" y="3500280"/>
            <a:ext cx="1219320" cy="13528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92360" y="3500280"/>
            <a:ext cx="749520" cy="1079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830160" cy="927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380360" y="3860640"/>
            <a:ext cx="863640" cy="7430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308720" y="0"/>
            <a:ext cx="16923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Принципы для развития творческого воображения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8920" y="1557360"/>
            <a:ext cx="7594560" cy="4680000"/>
          </a:xfrm>
          <a:prstGeom prst="rect">
            <a:avLst/>
          </a:prstGeom>
          <a:solidFill>
            <a:srgbClr val="66ff99"/>
          </a:solidFill>
          <a:ln w="9360">
            <a:solidFill>
              <a:srgbClr val="9966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Приступать к развитию у детей творческой деятельности следует при сформированности необходимых для этого речевых и мыслительных навыков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Comic Sans MS"/>
              </a:rPr>
              <a:t>Новые понятия вводятся только в знакомом содержании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Содержание развивающих техник должно ориентироваться на личность ребенка и его взаимодействие с другими детьми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Comic Sans MS"/>
              </a:rPr>
              <a:t>В центре внимания должно быть овладение смыслом понятия, а не правилами грамматики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Следует учить ребенка искать решение, учитывая прежде всего возможные последствия, а не абсолютные достоинства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Comic Sans MS"/>
              </a:rPr>
              <a:t>Стимулировать к высказыванию собственных идей по поводу решаемой проблемы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028000" y="620640"/>
            <a:ext cx="87480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Схема воображения, его видов и способов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32000" y="1341000"/>
            <a:ext cx="7632720" cy="52563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ВООБРАЖЕНИЕ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16280"/>
            <a:ext cx="3166920" cy="72072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  <a:effectLst>
            <a:outerShdw dist="107932" dir="18900000" blurRad="0" rotWithShape="0">
              <a:srgbClr val="afb5d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Воссоздающее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08720" y="191628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336699"/>
            </a:solidFill>
            <a:miter/>
          </a:ln>
          <a:effectLst>
            <a:outerShdw dist="107932" dir="13500000" blurRad="0" rotWithShape="0">
              <a:srgbClr val="afb5d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Творческое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08360" y="3284640"/>
            <a:ext cx="2808360" cy="288720"/>
          </a:xfrm>
          <a:prstGeom prst="rect">
            <a:avLst/>
          </a:prstGeom>
          <a:solidFill>
            <a:srgbClr val="00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СПОСОБЫ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16720" y="2924280"/>
            <a:ext cx="18730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Синтез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2924280"/>
            <a:ext cx="179892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Аналоги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4437000"/>
            <a:ext cx="187164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Акцентирование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5445000"/>
            <a:ext cx="1511280" cy="792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Типизаци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4581360"/>
            <a:ext cx="165564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тизаци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08720" y="5300640"/>
            <a:ext cx="172872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Гиперболизаци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08720" y="4365720"/>
            <a:ext cx="1584360" cy="792000"/>
          </a:xfrm>
          <a:prstGeom prst="rect">
            <a:avLst/>
          </a:prstGeom>
          <a:solidFill>
            <a:srgbClr val="ffcc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Агглютинаци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763640" y="3573360"/>
            <a:ext cx="2232000" cy="8636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843280" y="3573360"/>
            <a:ext cx="1512720" cy="18716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88000" y="3573360"/>
            <a:ext cx="0" cy="100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3573360"/>
            <a:ext cx="863640" cy="1727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00720" y="3573360"/>
            <a:ext cx="1727280" cy="792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67640" y="549360"/>
            <a:ext cx="122400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2676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Воображение, фантазия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это присущая только человеку возможность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создания новых образов(представлений)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путем переработки предшествующего опыта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3284640"/>
            <a:ext cx="7304040" cy="286704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Comic Sans MS"/>
              </a:rPr>
              <a:t>Основная его задача</a:t>
            </a:r>
            <a:r>
              <a:rPr b="1" lang="en-US" sz="2800" spc="-1" strike="noStrike">
                <a:solidFill>
                  <a:srgbClr val="9966ff"/>
                </a:solidFill>
                <a:latin typeface="Comic Sans MS"/>
              </a:rPr>
              <a:t>-представление ожидаемого результата до его осуществлени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Comic Sans MS"/>
              </a:rPr>
              <a:t>Воображение</a:t>
            </a:r>
            <a:r>
              <a:rPr b="1" lang="en-US" sz="2800" spc="-1" strike="noStrike">
                <a:solidFill>
                  <a:srgbClr val="9966ff"/>
                </a:solidFill>
                <a:latin typeface="Comic Sans MS"/>
              </a:rPr>
              <a:t> обеспечивает </a:t>
            </a:r>
            <a:r>
              <a:rPr b="1" lang="en-US" sz="3200" spc="-1" strike="noStrike">
                <a:solidFill>
                  <a:srgbClr val="9966ff"/>
                </a:solidFill>
                <a:latin typeface="Comic Sans MS"/>
              </a:rPr>
              <a:t>познание</a:t>
            </a:r>
            <a:r>
              <a:rPr b="1" lang="en-US" sz="2800" spc="-1" strike="noStrike">
                <a:solidFill>
                  <a:srgbClr val="9966ff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66ff"/>
                </a:solidFill>
                <a:latin typeface="Comic Sans MS"/>
              </a:rPr>
              <a:t>когда неопределенность ситуации весьма вели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47816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Игра «Незаконченные рисунки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9212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Назови предмет, изображенный в квадрате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63640" y="2637000"/>
            <a:ext cx="2160720" cy="172872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92360" y="4581360"/>
            <a:ext cx="2160360" cy="17290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0360" y="4581360"/>
            <a:ext cx="2160360" cy="17290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16720" y="4581360"/>
            <a:ext cx="2160720" cy="17290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11640" y="2492280"/>
            <a:ext cx="2160720" cy="172872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0" y="2637000"/>
            <a:ext cx="2160720" cy="172872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050560" y="2924280"/>
            <a:ext cx="73080" cy="10094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2924280"/>
            <a:ext cx="1368360" cy="730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2781360"/>
            <a:ext cx="1511280" cy="71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95640" y="3068640"/>
            <a:ext cx="288720" cy="8636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284360" y="2781360"/>
            <a:ext cx="934920" cy="4316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2997360"/>
            <a:ext cx="433080" cy="360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3213000"/>
            <a:ext cx="792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2852640"/>
            <a:ext cx="0" cy="432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2997360"/>
            <a:ext cx="0" cy="863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3860640"/>
            <a:ext cx="1295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308720" y="2997360"/>
            <a:ext cx="863280" cy="100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956720" y="3500280"/>
            <a:ext cx="71280" cy="216000"/>
          </a:xfrm>
          <a:custGeom>
            <a:avLst/>
            <a:gdLst>
              <a:gd name="textAreaLeft" fmla="*/ 0 w 71280"/>
              <a:gd name="textAreaRight" fmla="*/ 50040 w 71280"/>
              <a:gd name="textAreaTop" fmla="*/ 9000 h 216000"/>
              <a:gd name="textAreaBottom" fmla="*/ 207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945200" y="3789360"/>
            <a:ext cx="28836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88" y="3342"/>
                </a:moveTo>
                <a:arcTo wR="10800" hR="10800" stAng="-8179633" swAng="6832277"/>
                <a:lnTo>
                  <a:pt x="10800" y="10800"/>
                </a:lnTo>
                <a:close/>
              </a:path>
              <a:path fill="none" w="21600" h="21600">
                <a:moveTo>
                  <a:pt x="2988" y="3342"/>
                </a:moveTo>
                <a:arcTo wR="10800" hR="10800" stAng="-8179633" swAng="6832277"/>
              </a:path>
            </a:pathLst>
          </a:cu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094520" y="3646440"/>
            <a:ext cx="14256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35280" y="5589720"/>
            <a:ext cx="287280" cy="215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698920" y="5373360"/>
            <a:ext cx="57744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9557600">
            <a:off x="1622520" y="5286600"/>
            <a:ext cx="1168560" cy="58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40" y="2991"/>
                </a:moveTo>
                <a:arcTo wR="10800" hR="10800" stAng="-8021441" swAng="4030663"/>
                <a:lnTo>
                  <a:pt x="10800" y="10800"/>
                </a:lnTo>
                <a:close/>
              </a:path>
              <a:path fill="none" w="21600" h="21600">
                <a:moveTo>
                  <a:pt x="3340" y="2991"/>
                </a:moveTo>
                <a:arcTo wR="10800" hR="10800" stAng="-8021441" swAng="4030663"/>
              </a:path>
            </a:pathLst>
          </a:cu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68360" y="4797360"/>
            <a:ext cx="71640" cy="216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0" y="4797360"/>
            <a:ext cx="503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788000" y="5157720"/>
            <a:ext cx="71280" cy="6476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5229360"/>
            <a:ext cx="71280" cy="576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72000" y="5805360"/>
            <a:ext cx="43128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30920" y="5805360"/>
            <a:ext cx="5774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48360" y="4794840"/>
            <a:ext cx="43128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500720" y="4653000"/>
            <a:ext cx="14184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211640" y="4363200"/>
            <a:ext cx="145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6877080" y="5373720"/>
            <a:ext cx="216000" cy="216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877080" y="5516280"/>
            <a:ext cx="287280" cy="730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69800" y="5445000"/>
            <a:ext cx="86256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940360" y="1916280"/>
            <a:ext cx="2765520" cy="43434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Игра «Незаконченные рисунки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Что изображено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763640" y="2349360"/>
            <a:ext cx="3816360" cy="42339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724360" y="2133720"/>
            <a:ext cx="302436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2852640"/>
            <a:ext cx="2736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4581360"/>
            <a:ext cx="2016000" cy="18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067280" y="2205000"/>
            <a:ext cx="1009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Игра «Заполнение отсутствующих деталей в изображении»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одбери детал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140360" y="2205000"/>
            <a:ext cx="4608360" cy="2952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619280" y="5373720"/>
            <a:ext cx="1657440" cy="79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64000" y="2781360"/>
            <a:ext cx="172908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64000" y="5373720"/>
            <a:ext cx="1728720" cy="86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08720" y="5373720"/>
            <a:ext cx="1655640" cy="861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2708280"/>
            <a:ext cx="1584360" cy="792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2360" y="4005360"/>
            <a:ext cx="1727280" cy="792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08720" y="5373720"/>
            <a:ext cx="1656000" cy="719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Упражнение «Нелепые картинки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Что не так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224000" cy="11732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987640" y="2133720"/>
            <a:ext cx="5688000" cy="4724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572000" y="4508640"/>
            <a:ext cx="638280" cy="4172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7667640" y="4437000"/>
            <a:ext cx="504720" cy="424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3132000" y="3429000"/>
            <a:ext cx="287640" cy="165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7164360" y="2781360"/>
            <a:ext cx="534960" cy="3207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5364000" y="4581360"/>
            <a:ext cx="1152720" cy="893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3635280" y="2997360"/>
            <a:ext cx="463680" cy="430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4211640" y="2492280"/>
            <a:ext cx="13683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Упражнение «Фантастические гипотезы»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59456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Что было бы, если бы…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92360" y="2781360"/>
            <a:ext cx="2592360" cy="208764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Книга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03640" y="2781360"/>
            <a:ext cx="2521080" cy="208764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Плясать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692360" cy="1622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rcRect l="0" t="77351" r="0" b="0"/>
          <a:stretch/>
        </p:blipFill>
        <p:spPr>
          <a:xfrm>
            <a:off x="6877080" y="6165720"/>
            <a:ext cx="1733400" cy="422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818400" y="4724280"/>
            <a:ext cx="17143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Упражнение «Фантастический образ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7052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острой из элементов изображений фантастический образ (существо, предмет)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Опиши какими свойствами обладает созданный образ и как его можно использоват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rcRect l="0" t="37466" r="0" b="0"/>
          <a:stretch/>
        </p:blipFill>
        <p:spPr>
          <a:xfrm>
            <a:off x="1403280" y="3068640"/>
            <a:ext cx="1368360" cy="1084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-138" t="10359" r="88522" b="61632"/>
          <a:stretch/>
        </p:blipFill>
        <p:spPr>
          <a:xfrm>
            <a:off x="4140360" y="2708280"/>
            <a:ext cx="576000" cy="1100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132000" y="3068640"/>
            <a:ext cx="939960" cy="801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rcRect l="0" t="0" r="59134" b="0"/>
          <a:stretch/>
        </p:blipFill>
        <p:spPr>
          <a:xfrm>
            <a:off x="5003640" y="2637000"/>
            <a:ext cx="501840" cy="18716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5867280" y="2924280"/>
            <a:ext cx="576360" cy="1085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6588000" y="3645000"/>
            <a:ext cx="536760" cy="869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7236000" y="3141720"/>
            <a:ext cx="446040" cy="512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7812000" y="2798640"/>
            <a:ext cx="1081080" cy="480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9"/>
          <a:srcRect l="17326" t="79296" r="46763" b="60"/>
          <a:stretch/>
        </p:blipFill>
        <p:spPr>
          <a:xfrm>
            <a:off x="7740720" y="3933720"/>
            <a:ext cx="745920" cy="432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0"/>
          <a:srcRect l="0" t="49475" r="0" b="7350"/>
          <a:stretch/>
        </p:blipFill>
        <p:spPr>
          <a:xfrm>
            <a:off x="2843280" y="3933720"/>
            <a:ext cx="18381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Упражнение «Выведение следствий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«Что произойдет, если…»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Дождь будет лить не переставая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У тебя вырастут крылья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Кот в пальто войдет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Солнце не зайдет за горизонт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835280" cy="17589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3995640" y="4724280"/>
            <a:ext cx="17431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955280" cy="1130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Велико значение функции воображения в психическом развитии 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628640"/>
            <a:ext cx="7772400" cy="4114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Направления развития    воображения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mic Sans MS"/>
              </a:rPr>
              <a:t>Позитивное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Негативное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ассивная мечтательность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Познание окружающего мира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замена реальной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жизни грезам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Самораскрытие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Самосовершенствование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3013800">
            <a:off x="6327360" y="2536920"/>
            <a:ext cx="66348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7703000">
            <a:off x="2787840" y="2476080"/>
            <a:ext cx="617400" cy="93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9640" y="5877000"/>
            <a:ext cx="863640" cy="79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340000" y="5827680"/>
            <a:ext cx="102060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45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Дошкольный возраст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– сензитивный для формирования фантазии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989000"/>
            <a:ext cx="7594560" cy="38023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Вначале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воссоздающего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воображения, а затем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творческого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Воображение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, 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как и любая психологическая функция, требует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педагогической заботы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232000" cy="1484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95640" y="5110200"/>
            <a:ext cx="1425600" cy="1747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300720" y="5084640"/>
            <a:ext cx="2333520" cy="1555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451640" y="1197000"/>
            <a:ext cx="12970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7272360" cy="2160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Задача 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педагога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помочь ребенку использовать свои возможности воображения в направлении прогрессивного саморазвития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2708280"/>
            <a:ext cx="7772400" cy="3083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Развивать  в наиболее оптимальной форме фантазию детей поможет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игра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С  помощью </a:t>
            </a: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игровых упражнений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заданий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включенных в занятия или в свободную деятельность активно развивается воображени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028000" y="1268280"/>
            <a:ext cx="874800" cy="1320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308720" y="4437000"/>
            <a:ext cx="16765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Игра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для выявления уровня активности процесса воображения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История о мальчике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4257360" cy="457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53693" t="0" r="18427" b="0"/>
          <a:stretch/>
        </p:blipFill>
        <p:spPr>
          <a:xfrm>
            <a:off x="3132000" y="2997360"/>
            <a:ext cx="1236960" cy="340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530064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556000" y="5445000"/>
            <a:ext cx="792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Игра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для выявления уровня активности процесса воображения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История о мальчике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76720" y="2284560"/>
            <a:ext cx="4257720" cy="4573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53693" t="0" r="18427" b="0"/>
          <a:stretch/>
        </p:blipFill>
        <p:spPr>
          <a:xfrm>
            <a:off x="3348000" y="4869000"/>
            <a:ext cx="4777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Вопросы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Каким образом он сможет добраться до дома, ведь его рост всего пять сантиметров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Что произойдет, когда мальчик попадет домой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Что подумают его родители, братья и сестры? Его кошка и собака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Как сможет готовить уроки, есть, чистить зубы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97964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Игра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для выявления уровня активности процесса воображения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История о мальчике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53693" t="0" r="18427" b="0"/>
          <a:stretch/>
        </p:blipFill>
        <p:spPr>
          <a:xfrm>
            <a:off x="2916360" y="2133720"/>
            <a:ext cx="1469880" cy="4268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95640" y="5445000"/>
            <a:ext cx="93636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124000" y="5373720"/>
            <a:ext cx="971640" cy="985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780000" y="3933720"/>
            <a:ext cx="2266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9:23:20Z</dcterms:created>
  <dc:creator>Анисович</dc:creator>
  <dc:description/>
  <dc:language>en-US</dc:language>
  <cp:lastModifiedBy>Анисович</cp:lastModifiedBy>
  <dcterms:modified xsi:type="dcterms:W3CDTF">2012-01-11T18:30:43Z</dcterms:modified>
  <cp:revision>10</cp:revision>
  <dc:subject/>
  <dc:title> Мастер – класс :  «Игра как активная форма развития воображения у детей дошкольного возраста».</dc:title>
</cp:coreProperties>
</file>