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jpeg" ContentType="image/jpeg"/>
  <Override PartName="/ppt/media/image2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media/image12.png" ContentType="image/png"/>
  <Override PartName="/ppt/media/image23.jpeg" ContentType="image/jpeg"/>
  <Override PartName="/ppt/media/image2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B62A-3035-462A-BB0F-7C9A203F77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89F8-7F0B-4BFF-9932-03C4B3BB28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EA55-0BDF-4E34-BDDD-16562155B2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2DBB-F898-4878-99BA-742400E7B1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7903-EA06-4864-8130-C36550B8FB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музыкальный инструмент звучит вначале вступл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BF17-2324-4395-A205-B9DC7D1B3B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331F-A051-439E-BBAC-328FBA0AD3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017D-0954-4FA0-9A1F-B9705D637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C56C-170D-4D33-BF0F-1FD14445C8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D0E7-F810-4403-ABE5-F38CA2611F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A823-B972-4ADE-8F6F-8CB782EB27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7E7B-5226-4338-A17F-D16D620A64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1ED1-6BD2-4438-B3C4-676FEEEEBA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3C83-D254-40F0-A16E-E3C28465D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9538-EDE8-467C-8AFC-0185B9E0C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292-22F4-4CAB-8719-AA56B05F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94E-FDCE-4483-8ED3-4B6380E7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975F4-66FF-4533-A79D-753183ED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B82A3-994D-43B4-AE85-A47DCD57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85119-C0A6-41BA-B8CC-677115A1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36EFD-8BD3-4498-9C24-8B843923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4A79B-4E6B-4391-803D-5A25972B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8403B-E8ED-493C-B142-990B1ADF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D49E7-37AB-4DCF-952C-75758AFB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3417F-9606-4C06-928D-87A8277C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4492D-417C-45E6-8BD8-FF3912BE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CAF2-3E4E-4693-AB08-E0BE25EB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058-1CE5-4220-B1E2-962F9DCA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147E-764B-4F70-8B15-C763F5EE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3AA3-2228-41C6-9BCC-BE513B58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D039-45C1-47E7-968C-239CEB6F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6389-8C47-43A3-A624-39DCD5D6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1025-A4F3-4230-8C7F-5015CB0B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98C0-FC05-47F5-B0DD-3072B85E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44EC-AA72-4FB0-BD01-12733377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95E-323C-42F5-BC51-E7F853AD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8EAE-0E5A-4901-8505-C06E686B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C3DA-60C8-41D0-BAD8-E18733E4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DDE2-CA7E-4CEE-A0A5-331565CC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9C32-FD26-45A0-B301-4AD5FB3A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7E26-0047-423B-BD77-41C0602D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637A1-FA8C-42D2-8036-3ADDE9E8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F6B30-6510-49F2-8382-FE1EDA10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9677-AE86-40F6-9A88-B6361EDD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4AF81-FCD1-45FF-BA78-38F93C3D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50D9F-8FA1-461D-A02F-52422911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CD1-F8DF-48DC-A9E4-CBA1BD06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5E05C-0031-4DAF-A2FC-912DBA70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3AD3D-5FC5-401A-A957-F80215A5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3721-D226-4532-89F3-CEA82FAB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9163-929C-41E8-83A4-A5E3FA96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10311-2738-418D-8A31-43E831D2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022D9-19DA-47EE-87EE-1DEB9E87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727B-24A9-4AC7-A10C-A8283A43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9F6B4-5428-4117-A278-74FAC485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EB6B6-A486-4CDF-A2F0-370396B4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2AE9B-EEC4-4F72-AA14-AA1FE18B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704-37BC-42C8-875B-EF6E06C5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A22A1-A474-4F34-B4F3-376B26A3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1C189-294C-41E0-8988-0E914B9A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F5846-E386-426D-9730-5FBB3791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694FB-C5D3-4A3D-9E2D-7D66637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754D8-74C5-45E3-903C-B93FAD81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2741A-3EA0-48B3-B534-11DF02A5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E365D-3902-4DB4-A143-78CC6726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AB03C-E70E-4622-9D54-F36E8B6B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02684-A4DD-4785-9AE5-E4FBA2F8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C3692-B042-4DD8-92E3-215550A6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81D-6CC0-43F6-9E6A-D691AD65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61D1D-8E7B-49C5-B5E4-05BD4DAF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CB62E-D71F-4DB6-87DE-60F077F1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2C45F-6A48-4291-AE6E-1A2B223A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3FDFC-4612-479A-AFE3-55B50C2B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EA645-D518-4371-A5CF-2C3F0000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377C1-89DB-4B3D-8277-BF0EFD3F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F089A-E344-4406-AA97-458F586F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7A0A4-54DE-452E-8BA6-B263FDC0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61D7E-47CA-4C1F-879C-B5C65E90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7DE93-6506-43AC-A17B-B74EE3BD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495-76A1-42AF-AA0E-FD1E11F6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174A2-79C6-4707-B1BD-AAE60095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1561E-9B7A-45F2-ACA0-1EC3281E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1F3A5-5B7B-4F13-8C8B-88FF8E14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48A2C-ABE0-4D47-BBF5-B015F729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05022-D01C-4E40-A2AA-62A168D9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62A89-E162-4B9A-A01A-FEE41E16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4B33C-5121-48C1-A990-9676D7FC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D5526-B3B5-48B2-BDF5-2D04EB45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1E29F-DF68-4EE8-85FA-D9523DA0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EEA09-26B8-4122-A7AD-F0482CE7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2DF-19CF-4A01-86EA-130AD738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A4A21-F1B0-44D5-94A7-63DE76AA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80D8A-AF2D-4D29-82DD-747FFEE7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17F82-5573-4603-AA87-BFF9D154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D896C-445C-47B9-B705-110C7316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3F2DA-E767-473F-A2D9-B3977B69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53551-7FAB-4987-B943-73F4D864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E009B-EA8E-4A9B-87AB-570778D1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6F6D7-B8E6-438A-BF69-9265A06D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4E38E-A7A2-4188-8A06-F9CDDE11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3ACDF-4386-4362-91CC-B9848BD9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CD1-D187-4A10-8A8F-10088362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1B3F3-97E9-46EC-BEEC-FE27BCED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54D29-958D-4AB9-8B41-846D39E5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5EE1E-9892-488A-B536-1B949A4A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2F662-5069-457B-A1D4-88657A9E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2FFC1-59F4-4789-8C91-87905E86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20033-58DF-42AC-B0F8-72757C58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6BF7A-E781-4B10-B070-B021CCE2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7708F-E66D-4255-9422-71227365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43B4E-C244-495A-B437-9C8599BD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DB8B9-FE75-460C-8F26-9040AA14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75E-BD46-4100-AF7D-15D0A345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3E4B0-B403-4316-BA64-5636BD70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9BB43-F821-434C-98C5-29F5DF0A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5F2E5-4128-4A62-A0D4-1A879034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F6552-DAA1-440C-8A65-5C07EDF8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44D6B-E765-4337-B68A-3661BE7C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34A44-7545-494E-87AA-ADF3E18B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C2D1E-F68A-4776-ADC6-BCCAE5B4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E4799-D845-44B4-979C-AE32D99F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5FAF1-40F7-4311-B413-939B0A45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324BD-B061-47DA-A73F-5D26045E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C255-E3DB-4CF5-B8DA-9DF750A5DDD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EBD1-034C-4579-8021-7315E35C1A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43CD-4EA4-493D-83E5-00703F6BD4A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CC10-B448-4B24-9000-FA46DDE22B7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8D05-065D-4955-B81E-5DD329614C4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ED96-2753-40E0-AE9B-76E0530EF93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5F5F-CE49-4279-A148-F7C75862489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D113-07D1-4819-837D-23EA612C51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097F-5E58-4057-8E1E-60FB10E1F39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060640" y="1536840"/>
            <a:ext cx="6626160" cy="18158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69900"/>
                </a:solidFill>
                <a:latin typeface="Franklin Gothic Book"/>
              </a:rPr>
              <a:t>«Образы пушкинских сказок в музыке русских композиторов».</a:t>
            </a:r>
            <a:r>
              <a:rPr b="1" lang="ru-RU" sz="31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4" descr="img2"/>
          <p:cNvPicPr/>
          <p:nvPr/>
        </p:nvPicPr>
        <p:blipFill>
          <a:blip r:embed="rId2"/>
          <a:stretch/>
        </p:blipFill>
        <p:spPr>
          <a:xfrm>
            <a:off x="539640" y="692280"/>
            <a:ext cx="2282760" cy="26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5"/>
          <p:cNvSpPr/>
          <p:nvPr/>
        </p:nvSpPr>
        <p:spPr>
          <a:xfrm>
            <a:off x="1908000" y="260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img2"/>
          <p:cNvPicPr/>
          <p:nvPr/>
        </p:nvPicPr>
        <p:blipFill>
          <a:blip r:embed="rId3"/>
          <a:stretch/>
        </p:blipFill>
        <p:spPr>
          <a:xfrm>
            <a:off x="539640" y="692280"/>
            <a:ext cx="2282760" cy="2665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img2"/>
          <p:cNvPicPr/>
          <p:nvPr/>
        </p:nvPicPr>
        <p:blipFill>
          <a:blip r:embed="rId4"/>
          <a:stretch/>
        </p:blipFill>
        <p:spPr>
          <a:xfrm>
            <a:off x="539640" y="692280"/>
            <a:ext cx="22827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195120" y="152280"/>
            <a:ext cx="8815680" cy="11829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Рокот  волн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(мелодия  струнных  инструментов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Мерцание, блеск  звезд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(звуки  флейты, арфы, челесты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лывущая  по  волнам  бочк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(тема  струнных  инструментов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тон  и  плач  царицы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(звучание  струнных  и  деревянных  духовых  инструментов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4" descr="img10"/>
          <p:cNvPicPr/>
          <p:nvPr/>
        </p:nvPicPr>
        <p:blipFill>
          <a:blip r:embed="rId1"/>
          <a:stretch/>
        </p:blipFill>
        <p:spPr>
          <a:xfrm>
            <a:off x="0" y="404640"/>
            <a:ext cx="6084720" cy="469908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6"/>
          <p:cNvSpPr/>
          <p:nvPr/>
        </p:nvSpPr>
        <p:spPr>
          <a:xfrm>
            <a:off x="6156360" y="1484280"/>
            <a:ext cx="277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ль растёт перед дворц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д ней хрустальный д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ка там живёт руч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 затейница как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ка песенки поё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 орешки всё грызё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орешки не прост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скорлупки золот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дра — чистый изум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324000" y="522936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люстрация к сказке А.С. Пушкина «Сказка о царе Салтан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4" descr="богатыри"/>
          <p:cNvPicPr/>
          <p:nvPr/>
        </p:nvPicPr>
        <p:blipFill>
          <a:blip r:embed="rId1"/>
          <a:stretch/>
        </p:blipFill>
        <p:spPr>
          <a:xfrm>
            <a:off x="755640" y="404640"/>
            <a:ext cx="3800520" cy="506736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5"/>
          <p:cNvSpPr/>
          <p:nvPr/>
        </p:nvSpPr>
        <p:spPr>
          <a:xfrm>
            <a:off x="5364000" y="1547640"/>
            <a:ext cx="3456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вете есть иное ди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е вздуется бурли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ипит, подымет в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лынет на берег пуст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ольётся в шумном бег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чутятся на брег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шуе, как жар гор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идцать три богатыр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красавцы удал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каны молод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равны, как на подбо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ними дядька Черном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324000" y="573408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люстрация к сказке А.С. Пушкина «Сказка о царе Салтан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6"/>
          <p:cNvSpPr/>
          <p:nvPr/>
        </p:nvSpPr>
        <p:spPr>
          <a:xfrm>
            <a:off x="2411280" y="3284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2556000" y="61657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мб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8" descr="tromba"/>
          <p:cNvPicPr/>
          <p:nvPr/>
        </p:nvPicPr>
        <p:blipFill>
          <a:blip r:embed="rId1"/>
          <a:stretch/>
        </p:blipFill>
        <p:spPr>
          <a:xfrm>
            <a:off x="3348000" y="1700280"/>
            <a:ext cx="2692440" cy="1498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9" descr="trombone"/>
          <p:cNvPicPr/>
          <p:nvPr/>
        </p:nvPicPr>
        <p:blipFill>
          <a:blip r:embed="rId2"/>
          <a:stretch/>
        </p:blipFill>
        <p:spPr>
          <a:xfrm>
            <a:off x="3780000" y="4365720"/>
            <a:ext cx="2120760" cy="152388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2"/>
          <p:cNvSpPr/>
          <p:nvPr/>
        </p:nvSpPr>
        <p:spPr>
          <a:xfrm>
            <a:off x="826920" y="404640"/>
            <a:ext cx="709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лебедь"/>
          <p:cNvPicPr/>
          <p:nvPr/>
        </p:nvPicPr>
        <p:blipFill>
          <a:blip r:embed="rId1"/>
          <a:stretch/>
        </p:blipFill>
        <p:spPr>
          <a:xfrm>
            <a:off x="468360" y="189000"/>
            <a:ext cx="4157640" cy="554364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7"/>
          <p:cNvSpPr/>
          <p:nvPr/>
        </p:nvSpPr>
        <p:spPr>
          <a:xfrm>
            <a:off x="5076720" y="1916280"/>
            <a:ext cx="3527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морем царевна е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не можно глаз отве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нём свет божий затмев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чью землю освещ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яц под косой блест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во лбу звезда гор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сама-то велича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лывает, будто па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как речь-то говор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но реченька жур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324000" y="573408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люстрация к сказке А.С. Пушкина «Сказка о царе Салтан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0" descr="img9"/>
          <p:cNvPicPr/>
          <p:nvPr/>
        </p:nvPicPr>
        <p:blipFill>
          <a:blip r:embed="rId2"/>
          <a:stretch/>
        </p:blipFill>
        <p:spPr>
          <a:xfrm>
            <a:off x="6300720" y="115920"/>
            <a:ext cx="212724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0" descr="флейта"/>
          <p:cNvPicPr/>
          <p:nvPr/>
        </p:nvPicPr>
        <p:blipFill>
          <a:blip r:embed="rId1"/>
          <a:stretch/>
        </p:blipFill>
        <p:spPr>
          <a:xfrm>
            <a:off x="1692360" y="0"/>
            <a:ext cx="5651280" cy="19162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1353960" cy="44643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скрипка"/>
          <p:cNvPicPr/>
          <p:nvPr/>
        </p:nvPicPr>
        <p:blipFill>
          <a:blip r:embed="rId3"/>
          <a:srcRect l="0" t="0" r="28751" b="0"/>
          <a:stretch/>
        </p:blipFill>
        <p:spPr>
          <a:xfrm>
            <a:off x="3276720" y="2060640"/>
            <a:ext cx="2089080" cy="47973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арфа"/>
          <p:cNvPicPr/>
          <p:nvPr/>
        </p:nvPicPr>
        <p:blipFill>
          <a:blip r:embed="rId4"/>
          <a:stretch/>
        </p:blipFill>
        <p:spPr>
          <a:xfrm>
            <a:off x="6156360" y="1916280"/>
            <a:ext cx="2043000" cy="453528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7"/>
          <p:cNvSpPr/>
          <p:nvPr/>
        </p:nvSpPr>
        <p:spPr>
          <a:xfrm>
            <a:off x="684360" y="148428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3419640" y="1413000"/>
            <a:ext cx="23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рип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7164360" y="1773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1619280" y="39384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ле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5"/>
          <p:cNvSpPr/>
          <p:nvPr/>
        </p:nvSpPr>
        <p:spPr>
          <a:xfrm>
            <a:off x="0" y="711360"/>
            <a:ext cx="64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669900"/>
                </a:solidFill>
                <a:uFillTx/>
                <a:latin typeface="Arial"/>
              </a:rPr>
              <a:t>Добрые сказ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395280" y="2134800"/>
            <a:ext cx="66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 со сказкой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огда не расставайт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сть идут, бегут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сказкам снова возвращайт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6" descr="титул сказкируслан и людмила"/>
          <p:cNvPicPr/>
          <p:nvPr/>
        </p:nvPicPr>
        <p:blipFill>
          <a:blip r:embed="rId1"/>
          <a:stretch/>
        </p:blipFill>
        <p:spPr>
          <a:xfrm>
            <a:off x="5923080" y="1631880"/>
            <a:ext cx="300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4"/>
          <p:cNvSpPr/>
          <p:nvPr/>
        </p:nvSpPr>
        <p:spPr>
          <a:xfrm>
            <a:off x="554040" y="78012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ипе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придет к вам добрый джи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мелый, ловкий Аллади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ратино и сверчо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Емеля-дурач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руслан"/>
          <p:cNvPicPr/>
          <p:nvPr/>
        </p:nvPicPr>
        <p:blipFill>
          <a:blip r:embed="rId1"/>
          <a:stretch/>
        </p:blipFill>
        <p:spPr>
          <a:xfrm>
            <a:off x="5651640" y="3073320"/>
            <a:ext cx="34923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16"/>
          <p:cNvGrpSpPr/>
          <p:nvPr/>
        </p:nvGrpSpPr>
        <p:grpSpPr>
          <a:xfrm>
            <a:off x="0" y="0"/>
            <a:ext cx="7596000" cy="6858000"/>
            <a:chOff x="0" y="0"/>
            <a:chExt cx="7596000" cy="6858000"/>
          </a:xfrm>
        </p:grpSpPr>
        <p:pic>
          <p:nvPicPr>
            <p:cNvPr id="41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00160" cy="32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9" descr="корсаков"/>
            <p:cNvPicPr/>
            <p:nvPr/>
          </p:nvPicPr>
          <p:blipFill>
            <a:blip r:embed="rId2"/>
            <a:stretch/>
          </p:blipFill>
          <p:spPr>
            <a:xfrm>
              <a:off x="4794480" y="3213000"/>
              <a:ext cx="2801520" cy="36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10" descr=""/>
            <p:cNvPicPr/>
            <p:nvPr/>
          </p:nvPicPr>
          <p:blipFill>
            <a:blip r:embed="rId3"/>
            <a:stretch/>
          </p:blipFill>
          <p:spPr>
            <a:xfrm>
              <a:off x="4794480" y="0"/>
              <a:ext cx="279684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11" descr="musor"/>
            <p:cNvPicPr/>
            <p:nvPr/>
          </p:nvPicPr>
          <p:blipFill>
            <a:blip r:embed="rId4"/>
            <a:stretch/>
          </p:blipFill>
          <p:spPr>
            <a:xfrm>
              <a:off x="234360" y="3316320"/>
              <a:ext cx="3117240" cy="354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7" name="Text Box 12"/>
          <p:cNvSpPr/>
          <p:nvPr/>
        </p:nvSpPr>
        <p:spPr>
          <a:xfrm>
            <a:off x="2916360" y="2708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И. Гл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3"/>
          <p:cNvSpPr/>
          <p:nvPr/>
        </p:nvSpPr>
        <p:spPr>
          <a:xfrm>
            <a:off x="6769080" y="27082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4"/>
          <p:cNvSpPr/>
          <p:nvPr/>
        </p:nvSpPr>
        <p:spPr>
          <a:xfrm>
            <a:off x="2556000" y="6237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П.Мусорг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5"/>
          <p:cNvSpPr/>
          <p:nvPr/>
        </p:nvSpPr>
        <p:spPr>
          <a:xfrm>
            <a:off x="5940360" y="609300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.А.Римский- Корс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5" descr="5"/>
          <p:cNvPicPr/>
          <p:nvPr/>
        </p:nvPicPr>
        <p:blipFill>
          <a:blip r:embed="rId1"/>
          <a:stretch/>
        </p:blipFill>
        <p:spPr>
          <a:xfrm>
            <a:off x="1042920" y="1700280"/>
            <a:ext cx="3294000" cy="42498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7"/>
          <p:cNvSpPr/>
          <p:nvPr/>
        </p:nvSpPr>
        <p:spPr>
          <a:xfrm>
            <a:off x="4788000" y="2060640"/>
            <a:ext cx="4176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..Песни, сказки, услышанные мной в ребячестве, были первой причиной того, что я стал преимущественно разрабатывать народную русскую музыку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М.И. Глин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0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0" descr="дмитрий донской"/>
          <p:cNvPicPr/>
          <p:nvPr/>
        </p:nvPicPr>
        <p:blipFill>
          <a:blip r:embed="rId2"/>
          <a:stretch/>
        </p:blipFill>
        <p:spPr>
          <a:xfrm>
            <a:off x="2268360" y="1176480"/>
            <a:ext cx="4680000" cy="52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rus-lud_big4"/>
          <p:cNvPicPr/>
          <p:nvPr/>
        </p:nvPicPr>
        <p:blipFill>
          <a:blip r:embed="rId1"/>
          <a:stretch/>
        </p:blipFill>
        <p:spPr>
          <a:xfrm>
            <a:off x="4932360" y="1600200"/>
            <a:ext cx="3943440" cy="49975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5"/>
          <p:cNvSpPr/>
          <p:nvPr/>
        </p:nvSpPr>
        <p:spPr>
          <a:xfrm>
            <a:off x="1116000" y="260280"/>
            <a:ext cx="727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Arial"/>
              </a:rPr>
              <a:t>Иллюстрации  к сказке А.С. 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Arial"/>
              </a:rPr>
              <a:t>«Руслан и Людмил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руслан черномор"/>
          <p:cNvPicPr/>
          <p:nvPr/>
        </p:nvPicPr>
        <p:blipFill>
          <a:blip r:embed="rId2"/>
          <a:stretch/>
        </p:blipFill>
        <p:spPr>
          <a:xfrm>
            <a:off x="539640" y="1628640"/>
            <a:ext cx="36608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Н.А. Римский-Корсаков"/>
          <p:cNvPicPr/>
          <p:nvPr/>
        </p:nvPicPr>
        <p:blipFill>
          <a:blip r:embed="rId1"/>
          <a:stretch/>
        </p:blipFill>
        <p:spPr>
          <a:xfrm>
            <a:off x="755640" y="1530360"/>
            <a:ext cx="3657600" cy="53276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5"/>
          <p:cNvSpPr/>
          <p:nvPr/>
        </p:nvSpPr>
        <p:spPr>
          <a:xfrm>
            <a:off x="826920" y="33336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00"/>
                </a:solidFill>
                <a:latin typeface="Arial"/>
              </a:rPr>
              <a:t>Какого композитора называли композитором- сказочни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8"/>
          <p:cNvGrpSpPr/>
          <p:nvPr/>
        </p:nvGrpSpPr>
        <p:grpSpPr>
          <a:xfrm>
            <a:off x="4427640" y="2708280"/>
            <a:ext cx="4716360" cy="3762360"/>
            <a:chOff x="4427640" y="2708280"/>
            <a:chExt cx="4716360" cy="3762360"/>
          </a:xfrm>
        </p:grpSpPr>
        <p:sp>
          <p:nvSpPr>
            <p:cNvPr id="431" name="Text Box 6"/>
            <p:cNvSpPr/>
            <p:nvPr/>
          </p:nvSpPr>
          <p:spPr>
            <a:xfrm>
              <a:off x="4427640" y="5950080"/>
              <a:ext cx="47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Н.А. Римский-Корсак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7"/>
            <p:cNvSpPr/>
            <p:nvPr/>
          </p:nvSpPr>
          <p:spPr>
            <a:xfrm>
              <a:off x="4859280" y="2708280"/>
              <a:ext cx="396072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«Мой род – это сказка, былина... и непременно русские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Н.А. Римский-Корса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4133880" cy="489744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5"/>
          <p:cNvSpPr/>
          <p:nvPr/>
        </p:nvSpPr>
        <p:spPr>
          <a:xfrm>
            <a:off x="1116000" y="333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00"/>
                </a:solidFill>
                <a:latin typeface="Arial"/>
              </a:rPr>
              <a:t>Опера «Сказка о царе Салта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684360" y="6308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 Леде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5435640" y="1989000"/>
            <a:ext cx="324000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ь и сын теперь на в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ят холм в широком по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е синее круг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б зеленый над хол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.С. Пушк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Сказка о царе Салта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5"/>
          <p:cNvSpPr/>
          <p:nvPr/>
        </p:nvSpPr>
        <p:spPr>
          <a:xfrm>
            <a:off x="900000" y="476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Arial"/>
              </a:rPr>
              <a:t>Какой музыкальный инструмент звучит в начале симфонической карти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4" descr="tromba"/>
          <p:cNvPicPr/>
          <p:nvPr/>
        </p:nvPicPr>
        <p:blipFill>
          <a:blip r:embed="rId1"/>
          <a:stretch/>
        </p:blipFill>
        <p:spPr>
          <a:xfrm>
            <a:off x="3276720" y="2349360"/>
            <a:ext cx="2692440" cy="149868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2743200" y="5084280"/>
            <a:ext cx="64008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руб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img7"/>
          <p:cNvPicPr/>
          <p:nvPr/>
        </p:nvPicPr>
        <p:blipFill>
          <a:blip r:embed="rId1"/>
          <a:stretch/>
        </p:blipFill>
        <p:spPr>
          <a:xfrm>
            <a:off x="755640" y="189000"/>
            <a:ext cx="3384720" cy="2535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img8"/>
          <p:cNvPicPr/>
          <p:nvPr/>
        </p:nvPicPr>
        <p:blipFill>
          <a:blip r:embed="rId2"/>
          <a:stretch/>
        </p:blipFill>
        <p:spPr>
          <a:xfrm>
            <a:off x="826920" y="3284640"/>
            <a:ext cx="3414960" cy="269064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10"/>
          <p:cNvSpPr/>
          <p:nvPr/>
        </p:nvSpPr>
        <p:spPr>
          <a:xfrm>
            <a:off x="4716360" y="189000"/>
            <a:ext cx="4105440" cy="63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инем небе звезды блещу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инем море волны хлещу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ча по небу и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чка по морю плы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но горькая вдов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чет, бьется в ней цар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растет ребенок 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о дням, а по ча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.С. Пушк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Сказка о царе Салта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826920" y="609300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Иллюстрации И. Билиб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9:35:38Z</dcterms:created>
  <dc:creator>Chirjeva</dc:creator>
  <dc:description/>
  <dc:language>en-US</dc:language>
  <cp:lastModifiedBy>Кристина</cp:lastModifiedBy>
  <dcterms:modified xsi:type="dcterms:W3CDTF">2014-10-31T09:48:42Z</dcterms:modified>
  <cp:revision>19</cp:revision>
  <dc:subject/>
  <dc:title>Тема урока</dc:title>
</cp:coreProperties>
</file>