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DD0-A37F-438A-BB38-8CC497E9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D25-B720-4468-A574-645B583E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A75-6E38-4312-99D3-D2487994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3D4-BEC1-4592-9636-5E51950D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B29BA-CF3B-4562-A107-36938D4B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004A8-5B8F-46FC-AD87-BF77768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0AEC4-DC9D-4004-BFB7-476D1D1F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DC91B-0EEC-4D93-A31C-870B7174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40D94-B252-4F22-A563-249D03D3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55510-E55E-45D3-A1CA-518AFAE1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07B1-9F58-41F2-9D1C-05CAB9E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5D6-F953-49A1-BAF5-E148B20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BB4F9-F38A-4764-B240-E2BDF061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B2591-1DE9-4880-AC56-A28E23A4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6F57F-2DFD-4060-8173-9D2CCA4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B3185-5A42-40F8-B111-8C86F99D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7E56-63A3-4C3B-9E0C-4DCE0563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0437-1C92-4A4A-889D-0D2C6D1C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347C-8737-412E-A5DF-BA368AD4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702B-F3E1-47E4-9E0E-B384E885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5550-A434-44D7-8FCE-6372B88E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DBBA-7F23-42F2-9AD0-7FE70D0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DC1-3408-480B-96B1-26EDD41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AC5E-07CD-465F-92F5-61A2F23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3D16-A9F6-4BEC-9D98-F62E9EE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67D3-FEA8-49EF-A88D-5B62764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8370-76AF-4678-B3C2-726E4FB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2AA7-D540-4715-B680-8C8036BC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A66E-6B4E-4DB7-9FD2-645669D8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C89C-2C6A-4FC0-BCF3-C8C919CA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AF2B-8EFE-4444-BBA0-B680C1E9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8F81-CCBA-4411-97C3-8B9CC080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2039-0366-407E-98F3-8E07F96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AAE-37B5-45E4-B7B8-E7DF52F9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221E-74BE-4993-99F7-4D6A06C5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A2E5C-490E-4BC6-B978-2557653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237F-E33B-4EAA-A738-922421FC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F1F4-B741-4872-948B-E9B04E1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DFB5-B602-430F-BDB6-14E5D04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BAB4-0E19-4796-91E5-09AB1DE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F95A-FCEC-4B56-88E3-91255A3F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BC34-780F-47E3-BF12-CD71CEAC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719F-B0DA-44F1-AAB1-D555EBC0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2AD-FE62-461F-BFEF-A297C82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A10-318D-4DA5-B409-57999F3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A45-2CAA-49CF-85BA-6F4B844E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41B-EB22-4BE4-B32C-5406277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381-81A1-4A4D-A150-0273732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 «СОШ №119» Омск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анда «Максимум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6FB6-7CFD-43C4-967D-51E82DE2F0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7" name="Rectangle 9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8228520" y="22320"/>
            <a:ext cx="862920" cy="847440"/>
            <a:chOff x="8228520" y="22320"/>
            <a:chExt cx="862920" cy="847440"/>
          </a:xfrm>
        </p:grpSpPr>
        <p:sp>
          <p:nvSpPr>
            <p:cNvPr id="18" name="Rectangle 20"/>
            <p:cNvSpPr/>
            <p:nvPr/>
          </p:nvSpPr>
          <p:spPr>
            <a:xfrm rot="10800000">
              <a:off x="8908920" y="68976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0800000">
              <a:off x="8669520" y="69264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0800000">
              <a:off x="8448480" y="69264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0800000">
              <a:off x="8908920" y="46476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10800000">
              <a:off x="8669520" y="46800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rot="10800000">
              <a:off x="8448480" y="46800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10800000">
              <a:off x="8228520" y="69264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10800000">
              <a:off x="8669520" y="24444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10800000">
              <a:off x="8908920" y="24444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10800000">
              <a:off x="8908920" y="2196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" name="Rectangle 30"/>
          <p:cNvSpPr/>
          <p:nvPr/>
        </p:nvSpPr>
        <p:spPr>
          <a:xfrm>
            <a:off x="0" y="6524640"/>
            <a:ext cx="9144000" cy="34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31">
            <a:hlinkClick r:id="" action="ppaction://hlinkshowjump?jump=nextslide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754-9DFA-4ECD-A122-A51C64D445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83" name="Rectangle 19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1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2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3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4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5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6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7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8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8228520" y="22320"/>
            <a:ext cx="862920" cy="847440"/>
            <a:chOff x="8228520" y="22320"/>
            <a:chExt cx="862920" cy="847440"/>
          </a:xfrm>
        </p:grpSpPr>
        <p:sp>
          <p:nvSpPr>
            <p:cNvPr id="94" name="Rectangle 30"/>
            <p:cNvSpPr/>
            <p:nvPr/>
          </p:nvSpPr>
          <p:spPr>
            <a:xfrm rot="10800000">
              <a:off x="8908920" y="68976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1"/>
            <p:cNvSpPr/>
            <p:nvPr/>
          </p:nvSpPr>
          <p:spPr>
            <a:xfrm rot="10800000">
              <a:off x="8669520" y="69264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2"/>
            <p:cNvSpPr/>
            <p:nvPr/>
          </p:nvSpPr>
          <p:spPr>
            <a:xfrm rot="10800000">
              <a:off x="8448480" y="69264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 rot="10800000">
              <a:off x="8908920" y="46476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4"/>
            <p:cNvSpPr/>
            <p:nvPr/>
          </p:nvSpPr>
          <p:spPr>
            <a:xfrm rot="10800000">
              <a:off x="8669520" y="46800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5"/>
            <p:cNvSpPr/>
            <p:nvPr/>
          </p:nvSpPr>
          <p:spPr>
            <a:xfrm rot="10800000">
              <a:off x="8448480" y="46800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6"/>
            <p:cNvSpPr/>
            <p:nvPr/>
          </p:nvSpPr>
          <p:spPr>
            <a:xfrm rot="10800000">
              <a:off x="8228520" y="69264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 rot="10800000">
              <a:off x="8669520" y="24444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8"/>
            <p:cNvSpPr/>
            <p:nvPr/>
          </p:nvSpPr>
          <p:spPr>
            <a:xfrm rot="10800000">
              <a:off x="8908920" y="244440"/>
              <a:ext cx="182520" cy="17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"/>
            <p:cNvSpPr/>
            <p:nvPr/>
          </p:nvSpPr>
          <p:spPr>
            <a:xfrm rot="10800000">
              <a:off x="8908920" y="21960"/>
              <a:ext cx="182520" cy="177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40"/>
          <p:cNvSpPr/>
          <p:nvPr/>
        </p:nvSpPr>
        <p:spPr>
          <a:xfrm>
            <a:off x="0" y="6524640"/>
            <a:ext cx="9144000" cy="342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1">
            <a:hlinkClick r:id="" action="ppaction://hlinkshowjump?jump=nextslide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144" name="Rectangle 9"/>
            <p:cNvSpPr/>
            <p:nvPr/>
          </p:nvSpPr>
          <p:spPr>
            <a:xfrm rot="10800000">
              <a:off x="872064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0800000">
              <a:off x="826128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 rot="10800000">
              <a:off x="8720640" y="60228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 rot="10800000">
              <a:off x="8261280" y="60228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 rot="10800000">
              <a:off x="8258040" y="55980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"/>
            <p:cNvSpPr/>
            <p:nvPr/>
          </p:nvSpPr>
          <p:spPr>
            <a:xfrm rot="10800000">
              <a:off x="8717760" y="55980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 rot="10800000">
              <a:off x="8717760" y="51624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9"/>
          <p:cNvGrpSpPr/>
          <p:nvPr/>
        </p:nvGrpSpPr>
        <p:grpSpPr>
          <a:xfrm>
            <a:off x="20520" y="5151600"/>
            <a:ext cx="1655640" cy="1629720"/>
            <a:chOff x="20520" y="5151600"/>
            <a:chExt cx="1655640" cy="1629720"/>
          </a:xfrm>
        </p:grpSpPr>
        <p:sp>
          <p:nvSpPr>
            <p:cNvPr id="155" name="Rectangle 20"/>
            <p:cNvSpPr/>
            <p:nvPr/>
          </p:nvSpPr>
          <p:spPr>
            <a:xfrm>
              <a:off x="2052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47988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2"/>
            <p:cNvSpPr/>
            <p:nvPr/>
          </p:nvSpPr>
          <p:spPr>
            <a:xfrm>
              <a:off x="90360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3"/>
            <p:cNvSpPr/>
            <p:nvPr/>
          </p:nvSpPr>
          <p:spPr>
            <a:xfrm>
              <a:off x="20520" y="55807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4"/>
            <p:cNvSpPr/>
            <p:nvPr/>
          </p:nvSpPr>
          <p:spPr>
            <a:xfrm>
              <a:off x="479880" y="55807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5"/>
            <p:cNvSpPr/>
            <p:nvPr/>
          </p:nvSpPr>
          <p:spPr>
            <a:xfrm>
              <a:off x="903600" y="55807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6"/>
            <p:cNvSpPr/>
            <p:nvPr/>
          </p:nvSpPr>
          <p:spPr>
            <a:xfrm>
              <a:off x="132732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479880" y="60055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0520" y="60055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20520" y="644076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1679-172A-4EB1-818A-483AAC523A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1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Rectangle 2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2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222" name="Rectangle 23"/>
            <p:cNvSpPr/>
            <p:nvPr/>
          </p:nvSpPr>
          <p:spPr>
            <a:xfrm rot="10800000">
              <a:off x="872064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4"/>
            <p:cNvSpPr/>
            <p:nvPr/>
          </p:nvSpPr>
          <p:spPr>
            <a:xfrm rot="10800000">
              <a:off x="826128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 rot="10800000">
              <a:off x="8720640" y="60228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7"/>
            <p:cNvSpPr/>
            <p:nvPr/>
          </p:nvSpPr>
          <p:spPr>
            <a:xfrm rot="10800000">
              <a:off x="8261280" y="60228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8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9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0"/>
            <p:cNvSpPr/>
            <p:nvPr/>
          </p:nvSpPr>
          <p:spPr>
            <a:xfrm rot="10800000">
              <a:off x="8258040" y="55980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1"/>
            <p:cNvSpPr/>
            <p:nvPr/>
          </p:nvSpPr>
          <p:spPr>
            <a:xfrm rot="10800000">
              <a:off x="8717760" y="55980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 rot="10800000">
              <a:off x="8717760" y="51624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3"/>
          <p:cNvGrpSpPr/>
          <p:nvPr/>
        </p:nvGrpSpPr>
        <p:grpSpPr>
          <a:xfrm>
            <a:off x="20520" y="5151600"/>
            <a:ext cx="1655640" cy="1629720"/>
            <a:chOff x="20520" y="5151600"/>
            <a:chExt cx="1655640" cy="1629720"/>
          </a:xfrm>
        </p:grpSpPr>
        <p:sp>
          <p:nvSpPr>
            <p:cNvPr id="233" name="Rectangle 34"/>
            <p:cNvSpPr/>
            <p:nvPr/>
          </p:nvSpPr>
          <p:spPr>
            <a:xfrm>
              <a:off x="2052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5"/>
            <p:cNvSpPr/>
            <p:nvPr/>
          </p:nvSpPr>
          <p:spPr>
            <a:xfrm>
              <a:off x="47988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90360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20520" y="55807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8"/>
            <p:cNvSpPr/>
            <p:nvPr/>
          </p:nvSpPr>
          <p:spPr>
            <a:xfrm>
              <a:off x="479880" y="55807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9"/>
            <p:cNvSpPr/>
            <p:nvPr/>
          </p:nvSpPr>
          <p:spPr>
            <a:xfrm>
              <a:off x="903600" y="55807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40"/>
            <p:cNvSpPr/>
            <p:nvPr/>
          </p:nvSpPr>
          <p:spPr>
            <a:xfrm>
              <a:off x="1327320" y="515160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1"/>
            <p:cNvSpPr/>
            <p:nvPr/>
          </p:nvSpPr>
          <p:spPr>
            <a:xfrm>
              <a:off x="479880" y="60055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20520" y="600552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20520" y="6440760"/>
              <a:ext cx="348840" cy="34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7FF-1AAF-44B6-AEB2-9344028581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4;&#1090;&#1082;&#1088;&#1099;&#1090;&#1099;&#1081;%20&#1091;&#1088;&#1086;&#1082;.%20&#1052;&#1072;&#1088;&#1080;&#1085;&#1072;%20&#1062;&#1074;&#1077;&#1090;&#1072;&#1077;&#1074;&#1072;/&#1094;&#1074;&#1077;&#1090;&#1072;&#1077;&#1074;&#1072;/&#1052;&#1072;&#1088;&#1080;&#1085;&#1072;%20&#1062;&#1074;&#1077;&#1090;&#1072;&#1077;&#1074;&#1072;_11%20&#1082;&#1083;&#1072;&#1089;&#1089;.ppt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8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3D_2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5805360"/>
            <a:ext cx="1155600" cy="6764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4038480" y="0"/>
            <a:ext cx="4648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дагоги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 для развития познавательного интереса на уроках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3505320" y="5257800"/>
            <a:ext cx="49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ерин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У СОШ №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4"/>
          <a:stretch/>
        </p:blipFill>
        <p:spPr>
          <a:xfrm>
            <a:off x="482760" y="533520"/>
            <a:ext cx="3454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-19080" y="-182520"/>
            <a:ext cx="9163080" cy="6870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8088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использованием программы Power Point очень интересна и познавательна. Она приводит к целому ряду положительных эфф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гащает урок эмоциональной окрашен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логически облегчает процесс усво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буждает живой интерес к предмету п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яет общий кругозор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 производительность труда учителя и учащихся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\\Svetlana-pc\Обмен\100CANON\IMG_2088.JPG"/>
          <p:cNvPicPr/>
          <p:nvPr/>
        </p:nvPicPr>
        <p:blipFill>
          <a:blip r:embed="rId2"/>
          <a:stretch/>
        </p:blipFill>
        <p:spPr>
          <a:xfrm>
            <a:off x="539640" y="4495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-9360" y="-154080"/>
            <a:ext cx="9162720" cy="6870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286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 создают кроссворды, таблицы, электронные тесты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бота 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граммой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el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\\Svetlana-pc\Обмен\100CANON\IMG_2266.JPG"/>
          <p:cNvPicPr/>
          <p:nvPr/>
        </p:nvPicPr>
        <p:blipFill>
          <a:blip r:embed="rId2"/>
          <a:stretch/>
        </p:blipFill>
        <p:spPr>
          <a:xfrm>
            <a:off x="685800" y="3429000"/>
            <a:ext cx="33210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бота с программой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icrosoft Publ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1295280" y="4343040"/>
            <a:ext cx="10439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ом работы учащегося в программе является реальный продукт деятельности в виде газеты, журнала, книжки-малышки, буклета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\\Svetlana-pc\Обмен\100CANON\IMG_2278.JPG"/>
          <p:cNvPicPr/>
          <p:nvPr/>
        </p:nvPicPr>
        <p:blipFill>
          <a:blip r:embed="rId2"/>
          <a:stretch/>
        </p:blipFill>
        <p:spPr>
          <a:xfrm>
            <a:off x="762120" y="137160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\\Svetlana-pc\Обмен\100CANON\IMG_2291.JPG"/>
          <p:cNvPicPr/>
          <p:nvPr/>
        </p:nvPicPr>
        <p:blipFill>
          <a:blip r:embed="rId3"/>
          <a:stretch/>
        </p:blipFill>
        <p:spPr>
          <a:xfrm>
            <a:off x="4800600" y="1353960"/>
            <a:ext cx="35053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-9360" y="-206280"/>
            <a:ext cx="9162720" cy="6870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зультативность реализации про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КТ на уроках литературы приводит к целому ряду положительных результа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здание учителем и учащимися медиатеки, включающей в себя презентации по биографиям и творчеству писателе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е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ышает качество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иливает интерес к изучению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ционально распределять время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ходчиво объяснять материал, делать его интерес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-9360" y="-168120"/>
            <a:ext cx="9162720" cy="68706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уем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11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орник нормативных документов. Русский язык/сост. Э.Д.Днепров, А.Г.Аркадьев.-2-е изд., стереотип.- М.:Дрофа, 2012.-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пция модернизации российского образования на период до 2013 года// Начальная школа. – 2002. -№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 утверждении федерального компонента государственных образовательных стандартов начального общего, основного общего и среднего (полного) общего образования (приказ от 05.03.04 N 1089) // Вестник Образования России. – 2004. – №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пция федеральных государственных образовательных стандартов общего образования : проект / Рос. акад. образования; под ред. А. М. Кондакова, А. А. Кузнецова. — М.: Просвещение, 2008. — 39 с. — (Стандарты второго поко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8" descr="j0303355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и общеучебных умений школьников, в частности информационных, в процессе обучения русскому языку и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анализировать условия реализации проекта с точки зрения выбора оптимальной траектории развития информационных ОУ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отреть имеющиеся в психолого-педагогической практике пути решения профессиональной проблемы и предложить свои, используя современные педагогические технологии, методики, формы, приёмы и средства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ить результаты педагогической деятельности не только с точки зрения предметных линий развития, но и  развития информационных ОУ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жидаемые результ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владение учащимися информационными ОУУ, соответствующими возрастным и психологическим возможностям, как средством социализации лич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ышение общей информационной культур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к изучению русского языка и литературы  за счет расширения пространства учебного предмет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4928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ловия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ап реал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зультативность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\\Svetlana-pc\Обмен\13.02\P1170352.JPG"/>
          <p:cNvPicPr/>
          <p:nvPr/>
        </p:nvPicPr>
        <p:blipFill>
          <a:blip r:embed="rId2"/>
          <a:stretch/>
        </p:blipFill>
        <p:spPr>
          <a:xfrm>
            <a:off x="457200" y="35812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лиз этап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320" y="995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реализаци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боратория информационных технологий оснащена современной техникой:  компьютерами с выходом в Интернет, проектором, интерактивной доской, документ-камерой, колон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таю над методической темой "Использование компьютерных технологий при формировании языковой компетенции на уроках русского языка и литературы»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новацион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аю по следующим направле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спользование готовых программных проду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кетом програм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MS Office (Word, Power Point, Microsoft Publisher, Ex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а с ресурсами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\\Svetlana-pc\Обмен\15\IMG_2251.JPG"/>
          <p:cNvPicPr/>
          <p:nvPr/>
        </p:nvPicPr>
        <p:blipFill>
          <a:blip r:embed="rId2"/>
          <a:stretch/>
        </p:blipFill>
        <p:spPr>
          <a:xfrm>
            <a:off x="533520" y="36576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-9360" y="-3240"/>
            <a:ext cx="9162720" cy="68706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 используются готовые программные продукты ("Энциклопедию русской литературы", "Большую энциклопедию Кирилла и Мефодия"), Интернет-ресурсы, текстовые материалы, тесты (электронные и на бумажных носителях), презентации учебного материала, разработанные для наглядности на урок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33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бота 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дактором презентаций Power Poi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ах русского языка и литературы используются следующие мультимедийные презентаци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орые могут являться основой урока (презентации учителя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зентации учащих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орые могут быть частью урока (презентации учителя, презентац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орые могут показать творческую работу учащихс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ы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ченко</dc:creator>
  <dc:description/>
  <dc:language>en-US</dc:language>
  <cp:lastModifiedBy>1</cp:lastModifiedBy>
  <dcterms:modified xsi:type="dcterms:W3CDTF">2014-11-04T07:28:4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