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png" ContentType="image/png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10015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EEE7-403D-4B0D-AC01-9A845A480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6EA1-4DDE-45B9-8235-D460E17F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2350-40DF-4D03-A325-84D5792B0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0C5D-B76C-4168-B4EE-7F53B0B7E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0140-4095-4C5F-9008-55EA3C48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78B7-89D1-42D0-9CDD-8C08454E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C4FC-0465-404D-98F4-6E0D2F60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3730-0CD9-4AE1-996E-FADECE16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C54F-E327-4160-8557-D0CC4B14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C8C6-DAFE-4BCD-8C83-17CEE5F3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A7E0-DA70-4184-A905-91A2D48F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2649-A0FC-4BA7-A185-E1DF0F9F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BB1F-B804-4F83-938F-1476148ED5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1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" Target="slide4.xml"/><Relationship Id="rId4" Type="http://schemas.openxmlformats.org/officeDocument/2006/relationships/image" Target="../media/image3.gif"/><Relationship Id="rId5" Type="http://schemas.openxmlformats.org/officeDocument/2006/relationships/slide" Target="slide5.xml"/><Relationship Id="rId6" Type="http://schemas.openxmlformats.org/officeDocument/2006/relationships/image" Target="../media/image3.gif"/><Relationship Id="rId7" Type="http://schemas.openxmlformats.org/officeDocument/2006/relationships/slide" Target="slide11.xml"/><Relationship Id="rId8" Type="http://schemas.openxmlformats.org/officeDocument/2006/relationships/image" Target="../media/image3.gif"/><Relationship Id="rId9" Type="http://schemas.openxmlformats.org/officeDocument/2006/relationships/slide" Target="slide8.xml"/><Relationship Id="rId10" Type="http://schemas.openxmlformats.org/officeDocument/2006/relationships/image" Target="../media/image3.gif"/><Relationship Id="rId11" Type="http://schemas.openxmlformats.org/officeDocument/2006/relationships/slide" Target="slide3.xml"/><Relationship Id="rId12" Type="http://schemas.openxmlformats.org/officeDocument/2006/relationships/image" Target="../media/image3.gif"/><Relationship Id="rId13" Type="http://schemas.openxmlformats.org/officeDocument/2006/relationships/slide" Target="slide12.xml"/><Relationship Id="rId14" Type="http://schemas.openxmlformats.org/officeDocument/2006/relationships/image" Target="../media/image3.gi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" Target="slide2.xm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спираль"/>
          <p:cNvPicPr/>
          <p:nvPr/>
        </p:nvPicPr>
        <p:blipFill>
          <a:blip r:embed="rId1"/>
          <a:stretch/>
        </p:blipFill>
        <p:spPr>
          <a:xfrm>
            <a:off x="0" y="0"/>
            <a:ext cx="50004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5867280" y="2852640"/>
            <a:ext cx="295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клетка"/>
          <p:cNvPicPr/>
          <p:nvPr/>
        </p:nvPicPr>
        <p:blipFill>
          <a:blip r:embed="rId2"/>
          <a:stretch/>
        </p:blipFill>
        <p:spPr>
          <a:xfrm>
            <a:off x="500040" y="0"/>
            <a:ext cx="86439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2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6" name="Picture 10" descr="спираль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71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11"/>
            <p:cNvSpPr/>
            <p:nvPr/>
          </p:nvSpPr>
          <p:spPr>
            <a:xfrm>
              <a:off x="142920" y="4714920"/>
              <a:ext cx="90010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13"/>
            <p:cNvSpPr/>
            <p:nvPr/>
          </p:nvSpPr>
          <p:spPr>
            <a:xfrm rot="16200000">
              <a:off x="350640" y="1915920"/>
              <a:ext cx="1843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15"/>
            <p:cNvSpPr/>
            <p:nvPr/>
          </p:nvSpPr>
          <p:spPr>
            <a:xfrm>
              <a:off x="571680" y="285840"/>
              <a:ext cx="7924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клас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лгебра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начала математического анализ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Text Box 15"/>
          <p:cNvSpPr/>
          <p:nvPr/>
        </p:nvSpPr>
        <p:spPr>
          <a:xfrm>
            <a:off x="785880" y="357120"/>
            <a:ext cx="7924680" cy="60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Monotype Corsiva"/>
              </a:rPr>
              <a:t>Логарифмы. Показательные и логарифмические уравнения и неравенст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Monotype Corsiva"/>
              </a:rPr>
              <a:t>(обобщающий уро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Line 2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спираль"/>
          <p:cNvPicPr/>
          <p:nvPr/>
        </p:nvPicPr>
        <p:blipFill>
          <a:blip r:embed="rId1"/>
          <a:stretch/>
        </p:blipFill>
        <p:spPr>
          <a:xfrm>
            <a:off x="0" y="0"/>
            <a:ext cx="50004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5867280" y="2852640"/>
            <a:ext cx="295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клетка"/>
          <p:cNvPicPr/>
          <p:nvPr/>
        </p:nvPicPr>
        <p:blipFill>
          <a:blip r:embed="rId2"/>
          <a:stretch/>
        </p:blipFill>
        <p:spPr>
          <a:xfrm>
            <a:off x="500040" y="0"/>
            <a:ext cx="864396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6"/>
          <p:cNvSpPr/>
          <p:nvPr/>
        </p:nvSpPr>
        <p:spPr>
          <a:xfrm>
            <a:off x="611280" y="189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Проверим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70"/>
          <p:cNvSpPr/>
          <p:nvPr/>
        </p:nvSpPr>
        <p:spPr>
          <a:xfrm>
            <a:off x="8785080" y="6426360"/>
            <a:ext cx="358920" cy="43164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972">
                <a:moveTo>
                  <a:pt x="0" y="0"/>
                </a:moveTo>
                <a:lnTo>
                  <a:pt x="21600" y="0"/>
                </a:lnTo>
                <a:lnTo>
                  <a:pt x="21600" y="25972"/>
                </a:lnTo>
                <a:lnTo>
                  <a:pt x="0" y="25972"/>
                </a:lnTo>
                <a:close/>
              </a:path>
              <a:path fill="lightenLess" w="21600" h="259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72">
                <a:moveTo>
                  <a:pt x="21600" y="0"/>
                </a:moveTo>
                <a:lnTo>
                  <a:pt x="21600" y="25972"/>
                </a:lnTo>
                <a:lnTo>
                  <a:pt x="20200" y="24572"/>
                </a:lnTo>
                <a:lnTo>
                  <a:pt x="20200" y="1400"/>
                </a:lnTo>
                <a:close/>
              </a:path>
              <a:path fill="darkenLess" w="21600" h="25972">
                <a:moveTo>
                  <a:pt x="21600" y="25972"/>
                </a:moveTo>
                <a:lnTo>
                  <a:pt x="0" y="25972"/>
                </a:lnTo>
                <a:lnTo>
                  <a:pt x="1400" y="24572"/>
                </a:lnTo>
                <a:lnTo>
                  <a:pt x="20200" y="24572"/>
                </a:lnTo>
                <a:close/>
              </a:path>
              <a:path fill="lighten" w="21600" h="25972">
                <a:moveTo>
                  <a:pt x="0" y="259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72"/>
                </a:lnTo>
                <a:close/>
              </a:path>
              <a:path fill="darken" w="21600" h="25972">
                <a:moveTo>
                  <a:pt x="10800" y="6023"/>
                </a:moveTo>
                <a:lnTo>
                  <a:pt x="13376" y="8634"/>
                </a:lnTo>
                <a:lnTo>
                  <a:pt x="13376" y="6893"/>
                </a:lnTo>
                <a:lnTo>
                  <a:pt x="15152" y="6893"/>
                </a:lnTo>
                <a:lnTo>
                  <a:pt x="15152" y="10410"/>
                </a:lnTo>
                <a:lnTo>
                  <a:pt x="17763" y="12986"/>
                </a:lnTo>
                <a:lnTo>
                  <a:pt x="16109" y="12986"/>
                </a:lnTo>
                <a:lnTo>
                  <a:pt x="16109" y="20175"/>
                </a:lnTo>
                <a:lnTo>
                  <a:pt x="5491" y="20175"/>
                </a:lnTo>
                <a:lnTo>
                  <a:pt x="5491" y="12986"/>
                </a:lnTo>
                <a:lnTo>
                  <a:pt x="3837" y="12986"/>
                </a:lnTo>
                <a:close/>
              </a:path>
              <a:path fill="darkenLess" w="21600" h="25972">
                <a:moveTo>
                  <a:pt x="13376" y="8634"/>
                </a:moveTo>
                <a:lnTo>
                  <a:pt x="13376" y="6893"/>
                </a:lnTo>
                <a:lnTo>
                  <a:pt x="15152" y="6893"/>
                </a:lnTo>
                <a:lnTo>
                  <a:pt x="15152" y="10410"/>
                </a:lnTo>
                <a:close/>
              </a:path>
              <a:path fill="darkenLess" w="21600" h="25972">
                <a:moveTo>
                  <a:pt x="9877" y="16485"/>
                </a:moveTo>
                <a:lnTo>
                  <a:pt x="11723" y="16485"/>
                </a:lnTo>
                <a:lnTo>
                  <a:pt x="11723" y="20175"/>
                </a:lnTo>
                <a:lnTo>
                  <a:pt x="16109" y="20175"/>
                </a:lnTo>
                <a:lnTo>
                  <a:pt x="16109" y="12986"/>
                </a:lnTo>
                <a:lnTo>
                  <a:pt x="5491" y="12986"/>
                </a:lnTo>
                <a:lnTo>
                  <a:pt x="5491" y="20175"/>
                </a:lnTo>
                <a:lnTo>
                  <a:pt x="9877" y="20175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8"/>
          <p:cNvSpPr/>
          <p:nvPr/>
        </p:nvSpPr>
        <p:spPr>
          <a:xfrm>
            <a:off x="571680" y="785880"/>
            <a:ext cx="57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9"/>
              <p:cNvSpPr txBox="1"/>
              <p:nvPr/>
            </p:nvSpPr>
            <p:spPr>
              <a:xfrm>
                <a:off x="1220760" y="750960"/>
                <a:ext cx="309708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0,5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t xml:space="preserve">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Line 2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3" descr="спираль"/>
          <p:cNvPicPr/>
          <p:nvPr/>
        </p:nvPicPr>
        <p:blipFill>
          <a:blip r:embed="rId1"/>
          <a:stretch/>
        </p:blipFill>
        <p:spPr>
          <a:xfrm>
            <a:off x="0" y="0"/>
            <a:ext cx="42876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4"/>
          <p:cNvSpPr/>
          <p:nvPr/>
        </p:nvSpPr>
        <p:spPr>
          <a:xfrm>
            <a:off x="5867280" y="2852640"/>
            <a:ext cx="295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клетка"/>
          <p:cNvPicPr/>
          <p:nvPr/>
        </p:nvPicPr>
        <p:blipFill>
          <a:blip r:embed="rId2"/>
          <a:stretch/>
        </p:blipFill>
        <p:spPr>
          <a:xfrm>
            <a:off x="428760" y="0"/>
            <a:ext cx="871524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6"/>
          <p:cNvSpPr/>
          <p:nvPr/>
        </p:nvSpPr>
        <p:spPr>
          <a:xfrm>
            <a:off x="539640" y="0"/>
            <a:ext cx="76964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«Тёмная лошад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6"/>
          <p:cNvSpPr/>
          <p:nvPr/>
        </p:nvSpPr>
        <p:spPr>
          <a:xfrm>
            <a:off x="8604360" y="6237360"/>
            <a:ext cx="358560" cy="43164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998">
                <a:moveTo>
                  <a:pt x="0" y="0"/>
                </a:moveTo>
                <a:lnTo>
                  <a:pt x="21600" y="0"/>
                </a:lnTo>
                <a:lnTo>
                  <a:pt x="21600" y="25998"/>
                </a:lnTo>
                <a:lnTo>
                  <a:pt x="0" y="25998"/>
                </a:lnTo>
                <a:close/>
              </a:path>
              <a:path fill="lightenLess" w="21600" h="259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98">
                <a:moveTo>
                  <a:pt x="21600" y="0"/>
                </a:moveTo>
                <a:lnTo>
                  <a:pt x="21600" y="25998"/>
                </a:lnTo>
                <a:lnTo>
                  <a:pt x="20200" y="24598"/>
                </a:lnTo>
                <a:lnTo>
                  <a:pt x="20200" y="1400"/>
                </a:lnTo>
                <a:close/>
              </a:path>
              <a:path fill="darkenLess" w="21600" h="25998">
                <a:moveTo>
                  <a:pt x="21600" y="25998"/>
                </a:moveTo>
                <a:lnTo>
                  <a:pt x="0" y="25998"/>
                </a:lnTo>
                <a:lnTo>
                  <a:pt x="1400" y="24598"/>
                </a:lnTo>
                <a:lnTo>
                  <a:pt x="20200" y="24598"/>
                </a:lnTo>
                <a:close/>
              </a:path>
              <a:path fill="lighten" w="21600" h="25998">
                <a:moveTo>
                  <a:pt x="0" y="259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98"/>
                </a:lnTo>
                <a:close/>
              </a:path>
              <a:path fill="darken" w="21600" h="25998">
                <a:moveTo>
                  <a:pt x="10800" y="6036"/>
                </a:moveTo>
                <a:lnTo>
                  <a:pt x="13376" y="8647"/>
                </a:lnTo>
                <a:lnTo>
                  <a:pt x="13376" y="6906"/>
                </a:lnTo>
                <a:lnTo>
                  <a:pt x="15152" y="6906"/>
                </a:lnTo>
                <a:lnTo>
                  <a:pt x="15152" y="10423"/>
                </a:lnTo>
                <a:lnTo>
                  <a:pt x="17763" y="12999"/>
                </a:lnTo>
                <a:lnTo>
                  <a:pt x="16109" y="12999"/>
                </a:lnTo>
                <a:lnTo>
                  <a:pt x="16109" y="20188"/>
                </a:lnTo>
                <a:lnTo>
                  <a:pt x="5491" y="20188"/>
                </a:lnTo>
                <a:lnTo>
                  <a:pt x="5491" y="12999"/>
                </a:lnTo>
                <a:lnTo>
                  <a:pt x="3837" y="12999"/>
                </a:lnTo>
                <a:close/>
              </a:path>
              <a:path fill="darkenLess" w="21600" h="25998">
                <a:moveTo>
                  <a:pt x="13376" y="8647"/>
                </a:moveTo>
                <a:lnTo>
                  <a:pt x="13376" y="6906"/>
                </a:lnTo>
                <a:lnTo>
                  <a:pt x="15152" y="6906"/>
                </a:lnTo>
                <a:lnTo>
                  <a:pt x="15152" y="10423"/>
                </a:lnTo>
                <a:close/>
              </a:path>
              <a:path fill="darkenLess" w="21600" h="25998">
                <a:moveTo>
                  <a:pt x="9877" y="16498"/>
                </a:moveTo>
                <a:lnTo>
                  <a:pt x="11723" y="16498"/>
                </a:lnTo>
                <a:lnTo>
                  <a:pt x="11723" y="20188"/>
                </a:lnTo>
                <a:lnTo>
                  <a:pt x="16109" y="20188"/>
                </a:lnTo>
                <a:lnTo>
                  <a:pt x="16109" y="12999"/>
                </a:lnTo>
                <a:lnTo>
                  <a:pt x="5491" y="12999"/>
                </a:lnTo>
                <a:lnTo>
                  <a:pt x="5491" y="20188"/>
                </a:lnTo>
                <a:lnTo>
                  <a:pt x="9877" y="20188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2"/>
              <p:cNvSpPr txBox="1"/>
              <p:nvPr/>
            </p:nvSpPr>
            <p:spPr>
              <a:xfrm>
                <a:off x="1357200" y="1500120"/>
                <a:ext cx="6429600" cy="30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|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|</m:t>
                        </m:r>
                        <m:r>
                          <m:t xml:space="preserve">х</m:t>
                        </m:r>
                        <m:r>
                          <m:t xml:space="preserve">|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х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3" name="TextBox 9"/>
          <p:cNvSpPr/>
          <p:nvPr/>
        </p:nvSpPr>
        <p:spPr>
          <a:xfrm>
            <a:off x="785880" y="57168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ите уравнение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9"/>
          <p:cNvSpPr/>
          <p:nvPr/>
        </p:nvSpPr>
        <p:spPr>
          <a:xfrm>
            <a:off x="931320" y="20001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0"/>
          <p:cNvSpPr/>
          <p:nvPr/>
        </p:nvSpPr>
        <p:spPr>
          <a:xfrm>
            <a:off x="928800" y="2714760"/>
            <a:ext cx="3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1"/>
          <p:cNvSpPr/>
          <p:nvPr/>
        </p:nvSpPr>
        <p:spPr>
          <a:xfrm>
            <a:off x="857160" y="37148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Line 2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" descr="спираль"/>
          <p:cNvPicPr/>
          <p:nvPr/>
        </p:nvPicPr>
        <p:blipFill>
          <a:blip r:embed="rId1"/>
          <a:stretch/>
        </p:blipFill>
        <p:spPr>
          <a:xfrm>
            <a:off x="0" y="0"/>
            <a:ext cx="75564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5867280" y="2852640"/>
            <a:ext cx="295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клетка"/>
          <p:cNvPicPr/>
          <p:nvPr/>
        </p:nvPicPr>
        <p:blipFill>
          <a:blip r:embed="rId2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0"/>
          <p:cNvSpPr/>
          <p:nvPr/>
        </p:nvSpPr>
        <p:spPr>
          <a:xfrm>
            <a:off x="4643280" y="1643040"/>
            <a:ext cx="1643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1"/>
          <p:cNvSpPr/>
          <p:nvPr/>
        </p:nvSpPr>
        <p:spPr>
          <a:xfrm>
            <a:off x="4643280" y="2143080"/>
            <a:ext cx="20005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2"/>
          <p:cNvSpPr/>
          <p:nvPr/>
        </p:nvSpPr>
        <p:spPr>
          <a:xfrm>
            <a:off x="4643280" y="2643120"/>
            <a:ext cx="1857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4"/>
          <p:cNvSpPr/>
          <p:nvPr/>
        </p:nvSpPr>
        <p:spPr>
          <a:xfrm>
            <a:off x="4429080" y="1214280"/>
            <a:ext cx="46080" cy="3071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6" descr="14"/>
          <p:cNvPicPr/>
          <p:nvPr/>
        </p:nvPicPr>
        <p:blipFill>
          <a:blip r:embed="rId3"/>
          <a:stretch/>
        </p:blipFill>
        <p:spPr>
          <a:xfrm>
            <a:off x="4143240" y="2214720"/>
            <a:ext cx="282600" cy="24264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38"/>
          <p:cNvSpPr/>
          <p:nvPr/>
        </p:nvSpPr>
        <p:spPr>
          <a:xfrm>
            <a:off x="1785960" y="1071720"/>
            <a:ext cx="25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Домашня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рабо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1" descr="60"/>
          <p:cNvPicPr/>
          <p:nvPr/>
        </p:nvPicPr>
        <p:blipFill>
          <a:blip r:embed="rId4"/>
          <a:stretch/>
        </p:blipFill>
        <p:spPr>
          <a:xfrm>
            <a:off x="1071720" y="1285920"/>
            <a:ext cx="455400" cy="45540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45"/>
          <p:cNvSpPr/>
          <p:nvPr/>
        </p:nvSpPr>
        <p:spPr>
          <a:xfrm>
            <a:off x="8785080" y="6426360"/>
            <a:ext cx="358920" cy="43164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972">
                <a:moveTo>
                  <a:pt x="0" y="0"/>
                </a:moveTo>
                <a:lnTo>
                  <a:pt x="21600" y="0"/>
                </a:lnTo>
                <a:lnTo>
                  <a:pt x="21600" y="25972"/>
                </a:lnTo>
                <a:lnTo>
                  <a:pt x="0" y="25972"/>
                </a:lnTo>
                <a:close/>
              </a:path>
              <a:path fill="lightenLess" w="21600" h="259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72">
                <a:moveTo>
                  <a:pt x="21600" y="0"/>
                </a:moveTo>
                <a:lnTo>
                  <a:pt x="21600" y="25972"/>
                </a:lnTo>
                <a:lnTo>
                  <a:pt x="20200" y="24572"/>
                </a:lnTo>
                <a:lnTo>
                  <a:pt x="20200" y="1400"/>
                </a:lnTo>
                <a:close/>
              </a:path>
              <a:path fill="darkenLess" w="21600" h="25972">
                <a:moveTo>
                  <a:pt x="21600" y="25972"/>
                </a:moveTo>
                <a:lnTo>
                  <a:pt x="0" y="25972"/>
                </a:lnTo>
                <a:lnTo>
                  <a:pt x="1400" y="24572"/>
                </a:lnTo>
                <a:lnTo>
                  <a:pt x="20200" y="24572"/>
                </a:lnTo>
                <a:close/>
              </a:path>
              <a:path fill="lighten" w="21600" h="25972">
                <a:moveTo>
                  <a:pt x="0" y="259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72"/>
                </a:lnTo>
                <a:close/>
              </a:path>
              <a:path fill="darken" w="21600" h="25972">
                <a:moveTo>
                  <a:pt x="10800" y="6023"/>
                </a:moveTo>
                <a:lnTo>
                  <a:pt x="13376" y="8634"/>
                </a:lnTo>
                <a:lnTo>
                  <a:pt x="13376" y="6893"/>
                </a:lnTo>
                <a:lnTo>
                  <a:pt x="15152" y="6893"/>
                </a:lnTo>
                <a:lnTo>
                  <a:pt x="15152" y="10410"/>
                </a:lnTo>
                <a:lnTo>
                  <a:pt x="17763" y="12986"/>
                </a:lnTo>
                <a:lnTo>
                  <a:pt x="16109" y="12986"/>
                </a:lnTo>
                <a:lnTo>
                  <a:pt x="16109" y="20175"/>
                </a:lnTo>
                <a:lnTo>
                  <a:pt x="5491" y="20175"/>
                </a:lnTo>
                <a:lnTo>
                  <a:pt x="5491" y="12986"/>
                </a:lnTo>
                <a:lnTo>
                  <a:pt x="3837" y="12986"/>
                </a:lnTo>
                <a:close/>
              </a:path>
              <a:path fill="darkenLess" w="21600" h="25972">
                <a:moveTo>
                  <a:pt x="13376" y="8634"/>
                </a:moveTo>
                <a:lnTo>
                  <a:pt x="13376" y="6893"/>
                </a:lnTo>
                <a:lnTo>
                  <a:pt x="15152" y="6893"/>
                </a:lnTo>
                <a:lnTo>
                  <a:pt x="15152" y="10410"/>
                </a:lnTo>
                <a:close/>
              </a:path>
              <a:path fill="darkenLess" w="21600" h="25972">
                <a:moveTo>
                  <a:pt x="9877" y="16485"/>
                </a:moveTo>
                <a:lnTo>
                  <a:pt x="11723" y="16485"/>
                </a:lnTo>
                <a:lnTo>
                  <a:pt x="11723" y="20175"/>
                </a:lnTo>
                <a:lnTo>
                  <a:pt x="16109" y="20175"/>
                </a:lnTo>
                <a:lnTo>
                  <a:pt x="16109" y="12986"/>
                </a:lnTo>
                <a:lnTo>
                  <a:pt x="5491" y="12986"/>
                </a:lnTo>
                <a:lnTo>
                  <a:pt x="5491" y="20175"/>
                </a:lnTo>
                <a:lnTo>
                  <a:pt x="9877" y="20175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9"/>
          <p:cNvSpPr/>
          <p:nvPr/>
        </p:nvSpPr>
        <p:spPr>
          <a:xfrm>
            <a:off x="4572000" y="2071800"/>
            <a:ext cx="37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ть задания карт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4643280" y="1143000"/>
            <a:ext cx="1071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Прямоугольник 15" descr=""/>
          <p:cNvPicPr/>
          <p:nvPr/>
        </p:nvPicPr>
        <p:blipFill>
          <a:blip r:embed="rId6"/>
          <a:stretch/>
        </p:blipFill>
        <p:spPr>
          <a:xfrm>
            <a:off x="938160" y="4376880"/>
            <a:ext cx="7785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2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спираль"/>
          <p:cNvPicPr/>
          <p:nvPr/>
        </p:nvPicPr>
        <p:blipFill>
          <a:blip r:embed="rId1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5867280" y="2852640"/>
            <a:ext cx="295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клетка"/>
          <p:cNvPicPr/>
          <p:nvPr/>
        </p:nvPicPr>
        <p:blipFill>
          <a:blip r:embed="rId2"/>
          <a:stretch/>
        </p:blipFill>
        <p:spPr>
          <a:xfrm>
            <a:off x="57168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9"/>
          <p:cNvSpPr/>
          <p:nvPr/>
        </p:nvSpPr>
        <p:spPr>
          <a:xfrm>
            <a:off x="914400" y="0"/>
            <a:ext cx="82296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omic Sans MS"/>
              </a:rPr>
              <a:t>СОДЕРЖ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55640" y="692280"/>
          <a:ext cx="8031240" cy="5898960"/>
        </p:xfrm>
        <a:graphic>
          <a:graphicData uri="http://schemas.openxmlformats.org/drawingml/2006/table">
            <a:tbl>
              <a:tblPr/>
              <a:tblGrid>
                <a:gridCol w="690480"/>
                <a:gridCol w="5307120"/>
                <a:gridCol w="2033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Название материа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Перех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оретическая разминка «Повторение – мать учения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слительная разминка «Проверь себя»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ческий дикта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пеши видеть и ответить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в группах «Получи пятёрку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5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Тёмная лошадка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6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Заморочки из бочки» (д/з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7" name="Picture 54" descr="64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848720" y="2347920"/>
            <a:ext cx="382320" cy="382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4" descr="64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858080" y="3286080"/>
            <a:ext cx="382680" cy="382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4" descr="64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848720" y="5072040"/>
            <a:ext cx="382320" cy="382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4" descr="64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842240" y="4191120"/>
            <a:ext cx="382680" cy="382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4" descr="64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7816680" y="1344600"/>
            <a:ext cx="382680" cy="382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4" descr="64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7861320" y="5999040"/>
            <a:ext cx="382680" cy="3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2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спираль"/>
          <p:cNvPicPr/>
          <p:nvPr/>
        </p:nvPicPr>
        <p:blipFill>
          <a:blip r:embed="rId1"/>
          <a:stretch/>
        </p:blipFill>
        <p:spPr>
          <a:xfrm>
            <a:off x="0" y="0"/>
            <a:ext cx="75564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5867280" y="2852640"/>
            <a:ext cx="295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клетка"/>
          <p:cNvPicPr/>
          <p:nvPr/>
        </p:nvPicPr>
        <p:blipFill>
          <a:blip r:embed="rId2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TEACHER1"/>
          <p:cNvPicPr/>
          <p:nvPr/>
        </p:nvPicPr>
        <p:blipFill>
          <a:blip r:embed="rId3"/>
          <a:stretch/>
        </p:blipFill>
        <p:spPr>
          <a:xfrm>
            <a:off x="755640" y="0"/>
            <a:ext cx="1152360" cy="954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7"/>
          <p:cNvSpPr/>
          <p:nvPr/>
        </p:nvSpPr>
        <p:spPr>
          <a:xfrm>
            <a:off x="3851280" y="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omic Sans MS"/>
              </a:rPr>
              <a:t>Устн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1187280" y="857160"/>
            <a:ext cx="7385400" cy="59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Comic Sans MS"/>
              </a:rPr>
              <a:t>-Что называется логарифмом положительного числа </a:t>
            </a:r>
            <a:r>
              <a:rPr b="1" i="1" lang="en-US" sz="2400" spc="-1" strike="noStrike">
                <a:solidFill>
                  <a:srgbClr val="333399"/>
                </a:solidFill>
                <a:latin typeface="Comic Sans MS"/>
              </a:rPr>
              <a:t>b</a:t>
            </a:r>
            <a:r>
              <a:rPr b="1" i="1" lang="ru-RU" sz="2400" spc="-1" strike="noStrike">
                <a:solidFill>
                  <a:srgbClr val="333399"/>
                </a:solidFill>
                <a:latin typeface="Comic Sans MS"/>
              </a:rPr>
              <a:t> по основанию 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Comic Sans MS"/>
              </a:rPr>
              <a:t>- Какие уравнения мы называем простейшими показательными, логарифмическими уравнения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Comic Sans MS"/>
              </a:rPr>
              <a:t>- Какие способы решения показательных уравнений вы знает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Comic Sans MS"/>
              </a:rPr>
              <a:t>- Какие способы решения логарифмических уравнений вы знает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Comic Sans MS"/>
              </a:rPr>
              <a:t>- На чём основано решение показательных и логарифмических неравенст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5">
            <a:hlinkClick r:id="rId4" action="ppaction://hlinksldjump"/>
          </p:cNvPr>
          <p:cNvSpPr/>
          <p:nvPr/>
        </p:nvSpPr>
        <p:spPr>
          <a:xfrm>
            <a:off x="8785080" y="6426360"/>
            <a:ext cx="358920" cy="43164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972">
                <a:moveTo>
                  <a:pt x="0" y="0"/>
                </a:moveTo>
                <a:lnTo>
                  <a:pt x="21600" y="0"/>
                </a:lnTo>
                <a:lnTo>
                  <a:pt x="21600" y="25972"/>
                </a:lnTo>
                <a:lnTo>
                  <a:pt x="0" y="25972"/>
                </a:lnTo>
                <a:close/>
              </a:path>
              <a:path fill="lightenLess" w="21600" h="259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72">
                <a:moveTo>
                  <a:pt x="21600" y="0"/>
                </a:moveTo>
                <a:lnTo>
                  <a:pt x="21600" y="25972"/>
                </a:lnTo>
                <a:lnTo>
                  <a:pt x="20200" y="24572"/>
                </a:lnTo>
                <a:lnTo>
                  <a:pt x="20200" y="1400"/>
                </a:lnTo>
                <a:close/>
              </a:path>
              <a:path fill="darkenLess" w="21600" h="25972">
                <a:moveTo>
                  <a:pt x="21600" y="25972"/>
                </a:moveTo>
                <a:lnTo>
                  <a:pt x="0" y="25972"/>
                </a:lnTo>
                <a:lnTo>
                  <a:pt x="1400" y="24572"/>
                </a:lnTo>
                <a:lnTo>
                  <a:pt x="20200" y="24572"/>
                </a:lnTo>
                <a:close/>
              </a:path>
              <a:path fill="lighten" w="21600" h="25972">
                <a:moveTo>
                  <a:pt x="0" y="259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72"/>
                </a:lnTo>
                <a:close/>
              </a:path>
              <a:path fill="darken" w="21600" h="25972">
                <a:moveTo>
                  <a:pt x="10800" y="6023"/>
                </a:moveTo>
                <a:lnTo>
                  <a:pt x="13376" y="8634"/>
                </a:lnTo>
                <a:lnTo>
                  <a:pt x="13376" y="6893"/>
                </a:lnTo>
                <a:lnTo>
                  <a:pt x="15152" y="6893"/>
                </a:lnTo>
                <a:lnTo>
                  <a:pt x="15152" y="10410"/>
                </a:lnTo>
                <a:lnTo>
                  <a:pt x="17763" y="12986"/>
                </a:lnTo>
                <a:lnTo>
                  <a:pt x="16109" y="12986"/>
                </a:lnTo>
                <a:lnTo>
                  <a:pt x="16109" y="20175"/>
                </a:lnTo>
                <a:lnTo>
                  <a:pt x="5491" y="20175"/>
                </a:lnTo>
                <a:lnTo>
                  <a:pt x="5491" y="12986"/>
                </a:lnTo>
                <a:lnTo>
                  <a:pt x="3837" y="12986"/>
                </a:lnTo>
                <a:close/>
              </a:path>
              <a:path fill="darkenLess" w="21600" h="25972">
                <a:moveTo>
                  <a:pt x="13376" y="8634"/>
                </a:moveTo>
                <a:lnTo>
                  <a:pt x="13376" y="6893"/>
                </a:lnTo>
                <a:lnTo>
                  <a:pt x="15152" y="6893"/>
                </a:lnTo>
                <a:lnTo>
                  <a:pt x="15152" y="10410"/>
                </a:lnTo>
                <a:close/>
              </a:path>
              <a:path fill="darkenLess" w="21600" h="25972">
                <a:moveTo>
                  <a:pt x="9877" y="16485"/>
                </a:moveTo>
                <a:lnTo>
                  <a:pt x="11723" y="16485"/>
                </a:lnTo>
                <a:lnTo>
                  <a:pt x="11723" y="20175"/>
                </a:lnTo>
                <a:lnTo>
                  <a:pt x="16109" y="20175"/>
                </a:lnTo>
                <a:lnTo>
                  <a:pt x="16109" y="12986"/>
                </a:lnTo>
                <a:lnTo>
                  <a:pt x="5491" y="12986"/>
                </a:lnTo>
                <a:lnTo>
                  <a:pt x="5491" y="20175"/>
                </a:lnTo>
                <a:lnTo>
                  <a:pt x="9877" y="20175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Line 2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спираль"/>
          <p:cNvPicPr/>
          <p:nvPr/>
        </p:nvPicPr>
        <p:blipFill>
          <a:blip r:embed="rId1"/>
          <a:stretch/>
        </p:blipFill>
        <p:spPr>
          <a:xfrm>
            <a:off x="0" y="0"/>
            <a:ext cx="35712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5867280" y="2852640"/>
            <a:ext cx="295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клетка"/>
          <p:cNvPicPr/>
          <p:nvPr/>
        </p:nvPicPr>
        <p:blipFill>
          <a:blip r:embed="rId2"/>
          <a:stretch/>
        </p:blipFill>
        <p:spPr>
          <a:xfrm>
            <a:off x="357120" y="0"/>
            <a:ext cx="878688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914400" y="0"/>
            <a:ext cx="72295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Проверь себ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9"/>
          <p:cNvSpPr/>
          <p:nvPr/>
        </p:nvSpPr>
        <p:spPr>
          <a:xfrm>
            <a:off x="8604360" y="6237360"/>
            <a:ext cx="358560" cy="43164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998">
                <a:moveTo>
                  <a:pt x="0" y="0"/>
                </a:moveTo>
                <a:lnTo>
                  <a:pt x="21600" y="0"/>
                </a:lnTo>
                <a:lnTo>
                  <a:pt x="21600" y="25998"/>
                </a:lnTo>
                <a:lnTo>
                  <a:pt x="0" y="25998"/>
                </a:lnTo>
                <a:close/>
              </a:path>
              <a:path fill="lightenLess" w="21600" h="259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98">
                <a:moveTo>
                  <a:pt x="21600" y="0"/>
                </a:moveTo>
                <a:lnTo>
                  <a:pt x="21600" y="25998"/>
                </a:lnTo>
                <a:lnTo>
                  <a:pt x="20200" y="24598"/>
                </a:lnTo>
                <a:lnTo>
                  <a:pt x="20200" y="1400"/>
                </a:lnTo>
                <a:close/>
              </a:path>
              <a:path fill="darkenLess" w="21600" h="25998">
                <a:moveTo>
                  <a:pt x="21600" y="25998"/>
                </a:moveTo>
                <a:lnTo>
                  <a:pt x="0" y="25998"/>
                </a:lnTo>
                <a:lnTo>
                  <a:pt x="1400" y="24598"/>
                </a:lnTo>
                <a:lnTo>
                  <a:pt x="20200" y="24598"/>
                </a:lnTo>
                <a:close/>
              </a:path>
              <a:path fill="lighten" w="21600" h="25998">
                <a:moveTo>
                  <a:pt x="0" y="259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98"/>
                </a:lnTo>
                <a:close/>
              </a:path>
              <a:path fill="darken" w="21600" h="25998">
                <a:moveTo>
                  <a:pt x="10800" y="6036"/>
                </a:moveTo>
                <a:lnTo>
                  <a:pt x="13376" y="8647"/>
                </a:lnTo>
                <a:lnTo>
                  <a:pt x="13376" y="6906"/>
                </a:lnTo>
                <a:lnTo>
                  <a:pt x="15152" y="6906"/>
                </a:lnTo>
                <a:lnTo>
                  <a:pt x="15152" y="10423"/>
                </a:lnTo>
                <a:lnTo>
                  <a:pt x="17763" y="12999"/>
                </a:lnTo>
                <a:lnTo>
                  <a:pt x="16109" y="12999"/>
                </a:lnTo>
                <a:lnTo>
                  <a:pt x="16109" y="20188"/>
                </a:lnTo>
                <a:lnTo>
                  <a:pt x="5491" y="20188"/>
                </a:lnTo>
                <a:lnTo>
                  <a:pt x="5491" y="12999"/>
                </a:lnTo>
                <a:lnTo>
                  <a:pt x="3837" y="12999"/>
                </a:lnTo>
                <a:close/>
              </a:path>
              <a:path fill="darkenLess" w="21600" h="25998">
                <a:moveTo>
                  <a:pt x="13376" y="8647"/>
                </a:moveTo>
                <a:lnTo>
                  <a:pt x="13376" y="6906"/>
                </a:lnTo>
                <a:lnTo>
                  <a:pt x="15152" y="6906"/>
                </a:lnTo>
                <a:lnTo>
                  <a:pt x="15152" y="10423"/>
                </a:lnTo>
                <a:close/>
              </a:path>
              <a:path fill="darkenLess" w="21600" h="25998">
                <a:moveTo>
                  <a:pt x="9877" y="16498"/>
                </a:moveTo>
                <a:lnTo>
                  <a:pt x="11723" y="16498"/>
                </a:lnTo>
                <a:lnTo>
                  <a:pt x="11723" y="20188"/>
                </a:lnTo>
                <a:lnTo>
                  <a:pt x="16109" y="20188"/>
                </a:lnTo>
                <a:lnTo>
                  <a:pt x="16109" y="12999"/>
                </a:lnTo>
                <a:lnTo>
                  <a:pt x="5491" y="12999"/>
                </a:lnTo>
                <a:lnTo>
                  <a:pt x="5491" y="20188"/>
                </a:lnTo>
                <a:lnTo>
                  <a:pt x="9877" y="20188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1"/>
          <p:cNvSpPr/>
          <p:nvPr/>
        </p:nvSpPr>
        <p:spPr>
          <a:xfrm>
            <a:off x="0" y="214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42960" y="1000080"/>
          <a:ext cx="8001000" cy="5078520"/>
        </p:xfrm>
        <a:graphic>
          <a:graphicData uri="http://schemas.openxmlformats.org/drawingml/2006/table">
            <a:tbl>
              <a:tblPr/>
              <a:tblGrid>
                <a:gridCol w="2786040"/>
                <a:gridCol w="2071800"/>
                <a:gridCol w="31431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а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1224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ие выра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1224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йство логарифм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12240">
                      <a:solidFill>
                        <a:srgbClr val="2d2d8a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1224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1224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1224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</a:tr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</a:tr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</a:tr>
              <a:tr h="63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80" name="Object 51"/>
              <p:cNvSpPr txBox="1"/>
              <p:nvPr/>
            </p:nvSpPr>
            <p:spPr>
              <a:xfrm>
                <a:off x="771480" y="1785960"/>
                <a:ext cx="23004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52"/>
              <p:cNvSpPr txBox="1"/>
              <p:nvPr/>
            </p:nvSpPr>
            <p:spPr>
              <a:xfrm>
                <a:off x="785880" y="2357280"/>
                <a:ext cx="1349280" cy="3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53"/>
              <p:cNvSpPr txBox="1"/>
              <p:nvPr/>
            </p:nvSpPr>
            <p:spPr>
              <a:xfrm>
                <a:off x="776160" y="2943360"/>
                <a:ext cx="144792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7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54"/>
              <p:cNvSpPr txBox="1"/>
              <p:nvPr/>
            </p:nvSpPr>
            <p:spPr>
              <a:xfrm>
                <a:off x="857160" y="3643200"/>
                <a:ext cx="92880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sub>
                    </m:sSub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55"/>
              <p:cNvSpPr txBox="1"/>
              <p:nvPr/>
            </p:nvSpPr>
            <p:spPr>
              <a:xfrm>
                <a:off x="785880" y="4286160"/>
                <a:ext cx="1782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4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56"/>
              <p:cNvSpPr txBox="1"/>
              <p:nvPr/>
            </p:nvSpPr>
            <p:spPr>
              <a:xfrm>
                <a:off x="857160" y="4857840"/>
                <a:ext cx="15256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3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57"/>
              <p:cNvSpPr txBox="1"/>
              <p:nvPr/>
            </p:nvSpPr>
            <p:spPr>
              <a:xfrm>
                <a:off x="714240" y="5572080"/>
                <a:ext cx="22147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ad>
                      <m:deg>
                        <m:r>
                          <m:t xml:space="preserve">4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2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спираль"/>
          <p:cNvPicPr/>
          <p:nvPr/>
        </p:nvPicPr>
        <p:blipFill>
          <a:blip r:embed="rId1"/>
          <a:stretch/>
        </p:blipFill>
        <p:spPr>
          <a:xfrm>
            <a:off x="0" y="0"/>
            <a:ext cx="50004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5867280" y="2852640"/>
            <a:ext cx="295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клетка"/>
          <p:cNvPicPr/>
          <p:nvPr/>
        </p:nvPicPr>
        <p:blipFill>
          <a:blip r:embed="rId2"/>
          <a:stretch/>
        </p:blipFill>
        <p:spPr>
          <a:xfrm>
            <a:off x="500040" y="0"/>
            <a:ext cx="864396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TEACHER1"/>
          <p:cNvPicPr/>
          <p:nvPr/>
        </p:nvPicPr>
        <p:blipFill>
          <a:blip r:embed="rId3"/>
          <a:stretch/>
        </p:blipFill>
        <p:spPr>
          <a:xfrm>
            <a:off x="571680" y="0"/>
            <a:ext cx="1380960" cy="1143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1785960" y="0"/>
            <a:ext cx="55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Спеши видеть и ответ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500040" y="785880"/>
            <a:ext cx="8643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8"/>
          <p:cNvSpPr/>
          <p:nvPr/>
        </p:nvSpPr>
        <p:spPr>
          <a:xfrm>
            <a:off x="8785080" y="6426360"/>
            <a:ext cx="358920" cy="43164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972">
                <a:moveTo>
                  <a:pt x="0" y="0"/>
                </a:moveTo>
                <a:lnTo>
                  <a:pt x="21600" y="0"/>
                </a:lnTo>
                <a:lnTo>
                  <a:pt x="21600" y="25972"/>
                </a:lnTo>
                <a:lnTo>
                  <a:pt x="0" y="25972"/>
                </a:lnTo>
                <a:close/>
              </a:path>
              <a:path fill="lightenLess" w="21600" h="259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72">
                <a:moveTo>
                  <a:pt x="21600" y="0"/>
                </a:moveTo>
                <a:lnTo>
                  <a:pt x="21600" y="25972"/>
                </a:lnTo>
                <a:lnTo>
                  <a:pt x="20200" y="24572"/>
                </a:lnTo>
                <a:lnTo>
                  <a:pt x="20200" y="1400"/>
                </a:lnTo>
                <a:close/>
              </a:path>
              <a:path fill="darkenLess" w="21600" h="25972">
                <a:moveTo>
                  <a:pt x="21600" y="25972"/>
                </a:moveTo>
                <a:lnTo>
                  <a:pt x="0" y="25972"/>
                </a:lnTo>
                <a:lnTo>
                  <a:pt x="1400" y="24572"/>
                </a:lnTo>
                <a:lnTo>
                  <a:pt x="20200" y="24572"/>
                </a:lnTo>
                <a:close/>
              </a:path>
              <a:path fill="lighten" w="21600" h="25972">
                <a:moveTo>
                  <a:pt x="0" y="259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72"/>
                </a:lnTo>
                <a:close/>
              </a:path>
              <a:path fill="darken" w="21600" h="25972">
                <a:moveTo>
                  <a:pt x="10800" y="6023"/>
                </a:moveTo>
                <a:lnTo>
                  <a:pt x="13376" y="8634"/>
                </a:lnTo>
                <a:lnTo>
                  <a:pt x="13376" y="6893"/>
                </a:lnTo>
                <a:lnTo>
                  <a:pt x="15152" y="6893"/>
                </a:lnTo>
                <a:lnTo>
                  <a:pt x="15152" y="10410"/>
                </a:lnTo>
                <a:lnTo>
                  <a:pt x="17763" y="12986"/>
                </a:lnTo>
                <a:lnTo>
                  <a:pt x="16109" y="12986"/>
                </a:lnTo>
                <a:lnTo>
                  <a:pt x="16109" y="20175"/>
                </a:lnTo>
                <a:lnTo>
                  <a:pt x="5491" y="20175"/>
                </a:lnTo>
                <a:lnTo>
                  <a:pt x="5491" y="12986"/>
                </a:lnTo>
                <a:lnTo>
                  <a:pt x="3837" y="12986"/>
                </a:lnTo>
                <a:close/>
              </a:path>
              <a:path fill="darkenLess" w="21600" h="25972">
                <a:moveTo>
                  <a:pt x="13376" y="8634"/>
                </a:moveTo>
                <a:lnTo>
                  <a:pt x="13376" y="6893"/>
                </a:lnTo>
                <a:lnTo>
                  <a:pt x="15152" y="6893"/>
                </a:lnTo>
                <a:lnTo>
                  <a:pt x="15152" y="10410"/>
                </a:lnTo>
                <a:close/>
              </a:path>
              <a:path fill="darkenLess" w="21600" h="25972">
                <a:moveTo>
                  <a:pt x="9877" y="16485"/>
                </a:moveTo>
                <a:lnTo>
                  <a:pt x="11723" y="16485"/>
                </a:lnTo>
                <a:lnTo>
                  <a:pt x="11723" y="20175"/>
                </a:lnTo>
                <a:lnTo>
                  <a:pt x="16109" y="20175"/>
                </a:lnTo>
                <a:lnTo>
                  <a:pt x="16109" y="12986"/>
                </a:lnTo>
                <a:lnTo>
                  <a:pt x="5491" y="12986"/>
                </a:lnTo>
                <a:lnTo>
                  <a:pt x="5491" y="20175"/>
                </a:lnTo>
                <a:lnTo>
                  <a:pt x="9877" y="20175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10"/>
              <p:cNvSpPr txBox="1"/>
              <p:nvPr/>
            </p:nvSpPr>
            <p:spPr>
              <a:xfrm>
                <a:off x="2092320" y="1062000"/>
                <a:ext cx="6486480" cy="490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|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0,7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&lt;</m:t>
                        </m:r>
                        <m:r>
                          <m:t xml:space="preserve">−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96" name="TextBox 22"/>
          <p:cNvSpPr/>
          <p:nvPr/>
        </p:nvSpPr>
        <p:spPr>
          <a:xfrm>
            <a:off x="1214280" y="128592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4"/>
          <p:cNvSpPr/>
          <p:nvPr/>
        </p:nvSpPr>
        <p:spPr>
          <a:xfrm>
            <a:off x="1285920" y="20001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5"/>
          <p:cNvSpPr/>
          <p:nvPr/>
        </p:nvSpPr>
        <p:spPr>
          <a:xfrm>
            <a:off x="1285920" y="27147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6"/>
          <p:cNvSpPr/>
          <p:nvPr/>
        </p:nvSpPr>
        <p:spPr>
          <a:xfrm>
            <a:off x="1285920" y="357192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7"/>
          <p:cNvSpPr/>
          <p:nvPr/>
        </p:nvSpPr>
        <p:spPr>
          <a:xfrm>
            <a:off x="1285920" y="43578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8"/>
          <p:cNvSpPr/>
          <p:nvPr/>
        </p:nvSpPr>
        <p:spPr>
          <a:xfrm>
            <a:off x="1285920" y="492912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Line 2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спираль"/>
          <p:cNvPicPr/>
          <p:nvPr/>
        </p:nvPicPr>
        <p:blipFill>
          <a:blip r:embed="rId1"/>
          <a:stretch/>
        </p:blipFill>
        <p:spPr>
          <a:xfrm>
            <a:off x="0" y="0"/>
            <a:ext cx="50004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"/>
          <p:cNvSpPr/>
          <p:nvPr/>
        </p:nvSpPr>
        <p:spPr>
          <a:xfrm>
            <a:off x="5867280" y="2852640"/>
            <a:ext cx="295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клетка"/>
          <p:cNvPicPr/>
          <p:nvPr/>
        </p:nvPicPr>
        <p:blipFill>
          <a:blip r:embed="rId2"/>
          <a:stretch/>
        </p:blipFill>
        <p:spPr>
          <a:xfrm>
            <a:off x="500040" y="0"/>
            <a:ext cx="864396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TEACHER1"/>
          <p:cNvPicPr/>
          <p:nvPr/>
        </p:nvPicPr>
        <p:blipFill>
          <a:blip r:embed="rId3"/>
          <a:stretch/>
        </p:blipFill>
        <p:spPr>
          <a:xfrm>
            <a:off x="571680" y="0"/>
            <a:ext cx="1380960" cy="1143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7"/>
          <p:cNvSpPr/>
          <p:nvPr/>
        </p:nvSpPr>
        <p:spPr>
          <a:xfrm>
            <a:off x="1785960" y="0"/>
            <a:ext cx="55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Спеши видеть и ответ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500040" y="785880"/>
            <a:ext cx="8643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8"/>
          <p:cNvSpPr/>
          <p:nvPr/>
        </p:nvSpPr>
        <p:spPr>
          <a:xfrm>
            <a:off x="8785080" y="6426360"/>
            <a:ext cx="358920" cy="43164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972">
                <a:moveTo>
                  <a:pt x="0" y="0"/>
                </a:moveTo>
                <a:lnTo>
                  <a:pt x="21600" y="0"/>
                </a:lnTo>
                <a:lnTo>
                  <a:pt x="21600" y="25972"/>
                </a:lnTo>
                <a:lnTo>
                  <a:pt x="0" y="25972"/>
                </a:lnTo>
                <a:close/>
              </a:path>
              <a:path fill="lightenLess" w="21600" h="259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72">
                <a:moveTo>
                  <a:pt x="21600" y="0"/>
                </a:moveTo>
                <a:lnTo>
                  <a:pt x="21600" y="25972"/>
                </a:lnTo>
                <a:lnTo>
                  <a:pt x="20200" y="24572"/>
                </a:lnTo>
                <a:lnTo>
                  <a:pt x="20200" y="1400"/>
                </a:lnTo>
                <a:close/>
              </a:path>
              <a:path fill="darkenLess" w="21600" h="25972">
                <a:moveTo>
                  <a:pt x="21600" y="25972"/>
                </a:moveTo>
                <a:lnTo>
                  <a:pt x="0" y="25972"/>
                </a:lnTo>
                <a:lnTo>
                  <a:pt x="1400" y="24572"/>
                </a:lnTo>
                <a:lnTo>
                  <a:pt x="20200" y="24572"/>
                </a:lnTo>
                <a:close/>
              </a:path>
              <a:path fill="lighten" w="21600" h="25972">
                <a:moveTo>
                  <a:pt x="0" y="259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72"/>
                </a:lnTo>
                <a:close/>
              </a:path>
              <a:path fill="darken" w="21600" h="25972">
                <a:moveTo>
                  <a:pt x="10800" y="6023"/>
                </a:moveTo>
                <a:lnTo>
                  <a:pt x="13376" y="8634"/>
                </a:lnTo>
                <a:lnTo>
                  <a:pt x="13376" y="6893"/>
                </a:lnTo>
                <a:lnTo>
                  <a:pt x="15152" y="6893"/>
                </a:lnTo>
                <a:lnTo>
                  <a:pt x="15152" y="10410"/>
                </a:lnTo>
                <a:lnTo>
                  <a:pt x="17763" y="12986"/>
                </a:lnTo>
                <a:lnTo>
                  <a:pt x="16109" y="12986"/>
                </a:lnTo>
                <a:lnTo>
                  <a:pt x="16109" y="20175"/>
                </a:lnTo>
                <a:lnTo>
                  <a:pt x="5491" y="20175"/>
                </a:lnTo>
                <a:lnTo>
                  <a:pt x="5491" y="12986"/>
                </a:lnTo>
                <a:lnTo>
                  <a:pt x="3837" y="12986"/>
                </a:lnTo>
                <a:close/>
              </a:path>
              <a:path fill="darkenLess" w="21600" h="25972">
                <a:moveTo>
                  <a:pt x="13376" y="8634"/>
                </a:moveTo>
                <a:lnTo>
                  <a:pt x="13376" y="6893"/>
                </a:lnTo>
                <a:lnTo>
                  <a:pt x="15152" y="6893"/>
                </a:lnTo>
                <a:lnTo>
                  <a:pt x="15152" y="10410"/>
                </a:lnTo>
                <a:close/>
              </a:path>
              <a:path fill="darkenLess" w="21600" h="25972">
                <a:moveTo>
                  <a:pt x="9877" y="16485"/>
                </a:moveTo>
                <a:lnTo>
                  <a:pt x="11723" y="16485"/>
                </a:lnTo>
                <a:lnTo>
                  <a:pt x="11723" y="20175"/>
                </a:lnTo>
                <a:lnTo>
                  <a:pt x="16109" y="20175"/>
                </a:lnTo>
                <a:lnTo>
                  <a:pt x="16109" y="12986"/>
                </a:lnTo>
                <a:lnTo>
                  <a:pt x="5491" y="12986"/>
                </a:lnTo>
                <a:lnTo>
                  <a:pt x="5491" y="20175"/>
                </a:lnTo>
                <a:lnTo>
                  <a:pt x="9877" y="20175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10"/>
              <p:cNvSpPr txBox="1"/>
              <p:nvPr/>
            </p:nvSpPr>
            <p:spPr>
              <a:xfrm>
                <a:off x="1571760" y="1000080"/>
                <a:ext cx="4411440" cy="535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0,3</m:t>
                            </m:r>
                          </m:sub>
                        </m:sSub>
                        <m:r>
                          <m:t xml:space="preserve">0,7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5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2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sub>
                        </m:sSub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1" name="TextBox 22"/>
          <p:cNvSpPr/>
          <p:nvPr/>
        </p:nvSpPr>
        <p:spPr>
          <a:xfrm>
            <a:off x="1071720" y="128592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5"/>
          <p:cNvSpPr/>
          <p:nvPr/>
        </p:nvSpPr>
        <p:spPr>
          <a:xfrm>
            <a:off x="1071720" y="27147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6"/>
          <p:cNvSpPr/>
          <p:nvPr/>
        </p:nvSpPr>
        <p:spPr>
          <a:xfrm>
            <a:off x="1071720" y="357192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7"/>
          <p:cNvSpPr/>
          <p:nvPr/>
        </p:nvSpPr>
        <p:spPr>
          <a:xfrm>
            <a:off x="1285920" y="4357800"/>
            <a:ext cx="5000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8"/>
          <p:cNvSpPr/>
          <p:nvPr/>
        </p:nvSpPr>
        <p:spPr>
          <a:xfrm>
            <a:off x="928800" y="450072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Line 2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спираль"/>
          <p:cNvPicPr/>
          <p:nvPr/>
        </p:nvPicPr>
        <p:blipFill>
          <a:blip r:embed="rId1"/>
          <a:stretch/>
        </p:blipFill>
        <p:spPr>
          <a:xfrm>
            <a:off x="0" y="0"/>
            <a:ext cx="50004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5867280" y="2852640"/>
            <a:ext cx="295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клетка"/>
          <p:cNvPicPr/>
          <p:nvPr/>
        </p:nvPicPr>
        <p:blipFill>
          <a:blip r:embed="rId2"/>
          <a:stretch/>
        </p:blipFill>
        <p:spPr>
          <a:xfrm>
            <a:off x="500040" y="0"/>
            <a:ext cx="864396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TEACHER1"/>
          <p:cNvPicPr/>
          <p:nvPr/>
        </p:nvPicPr>
        <p:blipFill>
          <a:blip r:embed="rId3"/>
          <a:stretch/>
        </p:blipFill>
        <p:spPr>
          <a:xfrm>
            <a:off x="571680" y="0"/>
            <a:ext cx="1380960" cy="1143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7"/>
          <p:cNvSpPr/>
          <p:nvPr/>
        </p:nvSpPr>
        <p:spPr>
          <a:xfrm>
            <a:off x="1785960" y="0"/>
            <a:ext cx="55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Спеши видеть и ответ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500040" y="785880"/>
            <a:ext cx="8643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8"/>
          <p:cNvSpPr/>
          <p:nvPr/>
        </p:nvSpPr>
        <p:spPr>
          <a:xfrm>
            <a:off x="8785080" y="6426360"/>
            <a:ext cx="358920" cy="43164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972">
                <a:moveTo>
                  <a:pt x="0" y="0"/>
                </a:moveTo>
                <a:lnTo>
                  <a:pt x="21600" y="0"/>
                </a:lnTo>
                <a:lnTo>
                  <a:pt x="21600" y="25972"/>
                </a:lnTo>
                <a:lnTo>
                  <a:pt x="0" y="25972"/>
                </a:lnTo>
                <a:close/>
              </a:path>
              <a:path fill="lightenLess" w="21600" h="259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72">
                <a:moveTo>
                  <a:pt x="21600" y="0"/>
                </a:moveTo>
                <a:lnTo>
                  <a:pt x="21600" y="25972"/>
                </a:lnTo>
                <a:lnTo>
                  <a:pt x="20200" y="24572"/>
                </a:lnTo>
                <a:lnTo>
                  <a:pt x="20200" y="1400"/>
                </a:lnTo>
                <a:close/>
              </a:path>
              <a:path fill="darkenLess" w="21600" h="25972">
                <a:moveTo>
                  <a:pt x="21600" y="25972"/>
                </a:moveTo>
                <a:lnTo>
                  <a:pt x="0" y="25972"/>
                </a:lnTo>
                <a:lnTo>
                  <a:pt x="1400" y="24572"/>
                </a:lnTo>
                <a:lnTo>
                  <a:pt x="20200" y="24572"/>
                </a:lnTo>
                <a:close/>
              </a:path>
              <a:path fill="lighten" w="21600" h="25972">
                <a:moveTo>
                  <a:pt x="0" y="259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72"/>
                </a:lnTo>
                <a:close/>
              </a:path>
              <a:path fill="darken" w="21600" h="25972">
                <a:moveTo>
                  <a:pt x="10800" y="6023"/>
                </a:moveTo>
                <a:lnTo>
                  <a:pt x="13376" y="8634"/>
                </a:lnTo>
                <a:lnTo>
                  <a:pt x="13376" y="6893"/>
                </a:lnTo>
                <a:lnTo>
                  <a:pt x="15152" y="6893"/>
                </a:lnTo>
                <a:lnTo>
                  <a:pt x="15152" y="10410"/>
                </a:lnTo>
                <a:lnTo>
                  <a:pt x="17763" y="12986"/>
                </a:lnTo>
                <a:lnTo>
                  <a:pt x="16109" y="12986"/>
                </a:lnTo>
                <a:lnTo>
                  <a:pt x="16109" y="20175"/>
                </a:lnTo>
                <a:lnTo>
                  <a:pt x="5491" y="20175"/>
                </a:lnTo>
                <a:lnTo>
                  <a:pt x="5491" y="12986"/>
                </a:lnTo>
                <a:lnTo>
                  <a:pt x="3837" y="12986"/>
                </a:lnTo>
                <a:close/>
              </a:path>
              <a:path fill="darkenLess" w="21600" h="25972">
                <a:moveTo>
                  <a:pt x="13376" y="8634"/>
                </a:moveTo>
                <a:lnTo>
                  <a:pt x="13376" y="6893"/>
                </a:lnTo>
                <a:lnTo>
                  <a:pt x="15152" y="6893"/>
                </a:lnTo>
                <a:lnTo>
                  <a:pt x="15152" y="10410"/>
                </a:lnTo>
                <a:close/>
              </a:path>
              <a:path fill="darkenLess" w="21600" h="25972">
                <a:moveTo>
                  <a:pt x="9877" y="16485"/>
                </a:moveTo>
                <a:lnTo>
                  <a:pt x="11723" y="16485"/>
                </a:lnTo>
                <a:lnTo>
                  <a:pt x="11723" y="20175"/>
                </a:lnTo>
                <a:lnTo>
                  <a:pt x="16109" y="20175"/>
                </a:lnTo>
                <a:lnTo>
                  <a:pt x="16109" y="12986"/>
                </a:lnTo>
                <a:lnTo>
                  <a:pt x="5491" y="12986"/>
                </a:lnTo>
                <a:lnTo>
                  <a:pt x="5491" y="20175"/>
                </a:lnTo>
                <a:lnTo>
                  <a:pt x="9877" y="20175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10"/>
              <p:cNvSpPr txBox="1"/>
              <p:nvPr/>
            </p:nvSpPr>
            <p:spPr>
              <a:xfrm>
                <a:off x="2143080" y="1168560"/>
                <a:ext cx="5469120" cy="491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5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5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;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lg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lg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;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r>
                      <m:t xml:space="preserve">;</m:t>
                    </m:r>
                    <m:r>
                      <m:t xml:space="preserve">2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TextBox 22"/>
          <p:cNvSpPr/>
          <p:nvPr/>
        </p:nvSpPr>
        <p:spPr>
          <a:xfrm>
            <a:off x="1071720" y="128592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5"/>
          <p:cNvSpPr/>
          <p:nvPr/>
        </p:nvSpPr>
        <p:spPr>
          <a:xfrm>
            <a:off x="1071720" y="27147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6"/>
          <p:cNvSpPr/>
          <p:nvPr/>
        </p:nvSpPr>
        <p:spPr>
          <a:xfrm>
            <a:off x="1071720" y="400068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7"/>
          <p:cNvSpPr/>
          <p:nvPr/>
        </p:nvSpPr>
        <p:spPr>
          <a:xfrm>
            <a:off x="1285920" y="4357800"/>
            <a:ext cx="5000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8"/>
          <p:cNvSpPr/>
          <p:nvPr/>
        </p:nvSpPr>
        <p:spPr>
          <a:xfrm flipV="1" rot="10800000">
            <a:off x="928440" y="517896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Line 2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спираль"/>
          <p:cNvPicPr/>
          <p:nvPr/>
        </p:nvPicPr>
        <p:blipFill>
          <a:blip r:embed="rId1"/>
          <a:stretch/>
        </p:blipFill>
        <p:spPr>
          <a:xfrm>
            <a:off x="0" y="0"/>
            <a:ext cx="64296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5867280" y="2852640"/>
            <a:ext cx="295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клетка"/>
          <p:cNvPicPr/>
          <p:nvPr/>
        </p:nvPicPr>
        <p:blipFill>
          <a:blip r:embed="rId2"/>
          <a:stretch/>
        </p:blipFill>
        <p:spPr>
          <a:xfrm>
            <a:off x="642960" y="0"/>
            <a:ext cx="850104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6"/>
          <p:cNvSpPr/>
          <p:nvPr/>
        </p:nvSpPr>
        <p:spPr>
          <a:xfrm>
            <a:off x="539640" y="0"/>
            <a:ext cx="7696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Получи пятёр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8604360" y="6237360"/>
            <a:ext cx="358560" cy="43164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998">
                <a:moveTo>
                  <a:pt x="0" y="0"/>
                </a:moveTo>
                <a:lnTo>
                  <a:pt x="21600" y="0"/>
                </a:lnTo>
                <a:lnTo>
                  <a:pt x="21600" y="25998"/>
                </a:lnTo>
                <a:lnTo>
                  <a:pt x="0" y="25998"/>
                </a:lnTo>
                <a:close/>
              </a:path>
              <a:path fill="lightenLess" w="21600" h="259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98">
                <a:moveTo>
                  <a:pt x="21600" y="0"/>
                </a:moveTo>
                <a:lnTo>
                  <a:pt x="21600" y="25998"/>
                </a:lnTo>
                <a:lnTo>
                  <a:pt x="20200" y="24598"/>
                </a:lnTo>
                <a:lnTo>
                  <a:pt x="20200" y="1400"/>
                </a:lnTo>
                <a:close/>
              </a:path>
              <a:path fill="darkenLess" w="21600" h="25998">
                <a:moveTo>
                  <a:pt x="21600" y="25998"/>
                </a:moveTo>
                <a:lnTo>
                  <a:pt x="0" y="25998"/>
                </a:lnTo>
                <a:lnTo>
                  <a:pt x="1400" y="24598"/>
                </a:lnTo>
                <a:lnTo>
                  <a:pt x="20200" y="24598"/>
                </a:lnTo>
                <a:close/>
              </a:path>
              <a:path fill="lighten" w="21600" h="25998">
                <a:moveTo>
                  <a:pt x="0" y="259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98"/>
                </a:lnTo>
                <a:close/>
              </a:path>
              <a:path fill="darken" w="21600" h="25998">
                <a:moveTo>
                  <a:pt x="10800" y="6036"/>
                </a:moveTo>
                <a:lnTo>
                  <a:pt x="13376" y="8647"/>
                </a:lnTo>
                <a:lnTo>
                  <a:pt x="13376" y="6906"/>
                </a:lnTo>
                <a:lnTo>
                  <a:pt x="15152" y="6906"/>
                </a:lnTo>
                <a:lnTo>
                  <a:pt x="15152" y="10423"/>
                </a:lnTo>
                <a:lnTo>
                  <a:pt x="17763" y="12999"/>
                </a:lnTo>
                <a:lnTo>
                  <a:pt x="16109" y="12999"/>
                </a:lnTo>
                <a:lnTo>
                  <a:pt x="16109" y="20188"/>
                </a:lnTo>
                <a:lnTo>
                  <a:pt x="5491" y="20188"/>
                </a:lnTo>
                <a:lnTo>
                  <a:pt x="5491" y="12999"/>
                </a:lnTo>
                <a:lnTo>
                  <a:pt x="3837" y="12999"/>
                </a:lnTo>
                <a:close/>
              </a:path>
              <a:path fill="darkenLess" w="21600" h="25998">
                <a:moveTo>
                  <a:pt x="13376" y="8647"/>
                </a:moveTo>
                <a:lnTo>
                  <a:pt x="13376" y="6906"/>
                </a:lnTo>
                <a:lnTo>
                  <a:pt x="15152" y="6906"/>
                </a:lnTo>
                <a:lnTo>
                  <a:pt x="15152" y="10423"/>
                </a:lnTo>
                <a:close/>
              </a:path>
              <a:path fill="darkenLess" w="21600" h="25998">
                <a:moveTo>
                  <a:pt x="9877" y="16498"/>
                </a:moveTo>
                <a:lnTo>
                  <a:pt x="11723" y="16498"/>
                </a:lnTo>
                <a:lnTo>
                  <a:pt x="11723" y="20188"/>
                </a:lnTo>
                <a:lnTo>
                  <a:pt x="16109" y="20188"/>
                </a:lnTo>
                <a:lnTo>
                  <a:pt x="16109" y="12999"/>
                </a:lnTo>
                <a:lnTo>
                  <a:pt x="5491" y="12999"/>
                </a:lnTo>
                <a:lnTo>
                  <a:pt x="5491" y="20188"/>
                </a:lnTo>
                <a:lnTo>
                  <a:pt x="9877" y="20188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57200" y="785880"/>
          <a:ext cx="7643880" cy="5357880"/>
        </p:xfrm>
        <a:graphic>
          <a:graphicData uri="http://schemas.openxmlformats.org/drawingml/2006/table">
            <a:tbl>
              <a:tblPr/>
              <a:tblGrid>
                <a:gridCol w="7643880"/>
              </a:tblGrid>
              <a:tr h="5357880"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йдите наименьшее целое решение неравенства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жите наименьшее целое положительное решение неравенства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   Найдите сумму наименьшего и наибольшего целых решений неравенства 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11"/>
              <p:cNvSpPr txBox="1"/>
              <p:nvPr/>
            </p:nvSpPr>
            <p:spPr>
              <a:xfrm>
                <a:off x="1832040" y="1233360"/>
                <a:ext cx="33145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lt;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13"/>
              <p:cNvSpPr txBox="1"/>
              <p:nvPr/>
            </p:nvSpPr>
            <p:spPr>
              <a:xfrm>
                <a:off x="2071800" y="4214880"/>
                <a:ext cx="30970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,5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15"/>
              <p:cNvSpPr txBox="1"/>
              <p:nvPr/>
            </p:nvSpPr>
            <p:spPr>
              <a:xfrm>
                <a:off x="1890720" y="2571840"/>
                <a:ext cx="33004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9"/>
              <p:cNvSpPr txBox="1"/>
              <p:nvPr/>
            </p:nvSpPr>
            <p:spPr>
              <a:xfrm>
                <a:off x="6049800" y="1370160"/>
                <a:ext cx="1576440" cy="37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вет</m:t>
                    </m:r>
                    <m:r>
                      <m:t xml:space="preserve">: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10"/>
              <p:cNvSpPr txBox="1"/>
              <p:nvPr/>
            </p:nvSpPr>
            <p:spPr>
              <a:xfrm>
                <a:off x="6610320" y="2567160"/>
                <a:ext cx="1390680" cy="37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вет</m:t>
                    </m:r>
                    <m:r>
                      <m:t xml:space="preserve">: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20"/>
              <p:cNvSpPr txBox="1"/>
              <p:nvPr/>
            </p:nvSpPr>
            <p:spPr>
              <a:xfrm>
                <a:off x="6143760" y="4286160"/>
                <a:ext cx="141120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вет</m:t>
                    </m:r>
                    <m:r>
                      <m:t xml:space="preserve">: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Line 2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спираль"/>
          <p:cNvPicPr/>
          <p:nvPr/>
        </p:nvPicPr>
        <p:blipFill>
          <a:blip r:embed="rId1"/>
          <a:stretch/>
        </p:blipFill>
        <p:spPr>
          <a:xfrm>
            <a:off x="0" y="0"/>
            <a:ext cx="75564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5867280" y="2852640"/>
            <a:ext cx="295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клетка"/>
          <p:cNvPicPr/>
          <p:nvPr/>
        </p:nvPicPr>
        <p:blipFill>
          <a:blip r:embed="rId2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6"/>
          <p:cNvSpPr/>
          <p:nvPr/>
        </p:nvSpPr>
        <p:spPr>
          <a:xfrm>
            <a:off x="642960" y="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Проверим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70"/>
          <p:cNvSpPr/>
          <p:nvPr/>
        </p:nvSpPr>
        <p:spPr>
          <a:xfrm>
            <a:off x="8785080" y="6426360"/>
            <a:ext cx="358920" cy="43164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972">
                <a:moveTo>
                  <a:pt x="0" y="0"/>
                </a:moveTo>
                <a:lnTo>
                  <a:pt x="21600" y="0"/>
                </a:lnTo>
                <a:lnTo>
                  <a:pt x="21600" y="25972"/>
                </a:lnTo>
                <a:lnTo>
                  <a:pt x="0" y="25972"/>
                </a:lnTo>
                <a:close/>
              </a:path>
              <a:path fill="lightenLess" w="21600" h="259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72">
                <a:moveTo>
                  <a:pt x="21600" y="0"/>
                </a:moveTo>
                <a:lnTo>
                  <a:pt x="21600" y="25972"/>
                </a:lnTo>
                <a:lnTo>
                  <a:pt x="20200" y="24572"/>
                </a:lnTo>
                <a:lnTo>
                  <a:pt x="20200" y="1400"/>
                </a:lnTo>
                <a:close/>
              </a:path>
              <a:path fill="darkenLess" w="21600" h="25972">
                <a:moveTo>
                  <a:pt x="21600" y="25972"/>
                </a:moveTo>
                <a:lnTo>
                  <a:pt x="0" y="25972"/>
                </a:lnTo>
                <a:lnTo>
                  <a:pt x="1400" y="24572"/>
                </a:lnTo>
                <a:lnTo>
                  <a:pt x="20200" y="24572"/>
                </a:lnTo>
                <a:close/>
              </a:path>
              <a:path fill="lighten" w="21600" h="25972">
                <a:moveTo>
                  <a:pt x="0" y="259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72"/>
                </a:lnTo>
                <a:close/>
              </a:path>
              <a:path fill="darken" w="21600" h="25972">
                <a:moveTo>
                  <a:pt x="10800" y="6023"/>
                </a:moveTo>
                <a:lnTo>
                  <a:pt x="13376" y="8634"/>
                </a:lnTo>
                <a:lnTo>
                  <a:pt x="13376" y="6893"/>
                </a:lnTo>
                <a:lnTo>
                  <a:pt x="15152" y="6893"/>
                </a:lnTo>
                <a:lnTo>
                  <a:pt x="15152" y="10410"/>
                </a:lnTo>
                <a:lnTo>
                  <a:pt x="17763" y="12986"/>
                </a:lnTo>
                <a:lnTo>
                  <a:pt x="16109" y="12986"/>
                </a:lnTo>
                <a:lnTo>
                  <a:pt x="16109" y="20175"/>
                </a:lnTo>
                <a:lnTo>
                  <a:pt x="5491" y="20175"/>
                </a:lnTo>
                <a:lnTo>
                  <a:pt x="5491" y="12986"/>
                </a:lnTo>
                <a:lnTo>
                  <a:pt x="3837" y="12986"/>
                </a:lnTo>
                <a:close/>
              </a:path>
              <a:path fill="darkenLess" w="21600" h="25972">
                <a:moveTo>
                  <a:pt x="13376" y="8634"/>
                </a:moveTo>
                <a:lnTo>
                  <a:pt x="13376" y="6893"/>
                </a:lnTo>
                <a:lnTo>
                  <a:pt x="15152" y="6893"/>
                </a:lnTo>
                <a:lnTo>
                  <a:pt x="15152" y="10410"/>
                </a:lnTo>
                <a:close/>
              </a:path>
              <a:path fill="darkenLess" w="21600" h="25972">
                <a:moveTo>
                  <a:pt x="9877" y="16485"/>
                </a:moveTo>
                <a:lnTo>
                  <a:pt x="11723" y="16485"/>
                </a:lnTo>
                <a:lnTo>
                  <a:pt x="11723" y="20175"/>
                </a:lnTo>
                <a:lnTo>
                  <a:pt x="16109" y="20175"/>
                </a:lnTo>
                <a:lnTo>
                  <a:pt x="16109" y="12986"/>
                </a:lnTo>
                <a:lnTo>
                  <a:pt x="5491" y="12986"/>
                </a:lnTo>
                <a:lnTo>
                  <a:pt x="5491" y="20175"/>
                </a:lnTo>
                <a:lnTo>
                  <a:pt x="9877" y="20175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3"/>
          <p:cNvSpPr/>
          <p:nvPr/>
        </p:nvSpPr>
        <p:spPr>
          <a:xfrm flipH="1">
            <a:off x="4668840" y="857160"/>
            <a:ext cx="46080" cy="514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857160" y="928800"/>
            <a:ext cx="5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4786200" y="928800"/>
            <a:ext cx="5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9"/>
              <p:cNvSpPr txBox="1"/>
              <p:nvPr/>
            </p:nvSpPr>
            <p:spPr>
              <a:xfrm>
                <a:off x="1214280" y="928800"/>
                <a:ext cx="331488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&lt;</m:t>
                        </m:r>
                        <m:r>
                          <m:t xml:space="preserve">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10"/>
              <p:cNvSpPr txBox="1"/>
              <p:nvPr/>
            </p:nvSpPr>
            <p:spPr>
              <a:xfrm>
                <a:off x="5364000" y="955800"/>
                <a:ext cx="335448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15:55:08Z</dcterms:created>
  <dc:creator>Zver</dc:creator>
  <dc:description/>
  <dc:language>en-US</dc:language>
  <cp:lastModifiedBy>1</cp:lastModifiedBy>
  <dcterms:modified xsi:type="dcterms:W3CDTF">2014-10-12T09:31:09Z</dcterms:modified>
  <cp:revision>103</cp:revision>
  <dc:subject/>
  <dc:title>Слайд 1</dc:title>
</cp:coreProperties>
</file>