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8.gif" ContentType="image/gif"/>
  <Override PartName="/ppt/media/image6.jpeg" ContentType="image/jpeg"/>
  <Override PartName="/ppt/media/image12.wmf" ContentType="image/x-wmf"/>
  <Override PartName="/ppt/media/image5.jpeg" ContentType="image/jpeg"/>
  <Override PartName="/ppt/media/image7.gif" ContentType="image/gif"/>
  <Override PartName="/ppt/media/image9.jpeg" ContentType="image/jpeg"/>
  <Override PartName="/ppt/media/image4.jpeg" ContentType="image/jpeg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F18-8B78-4C62-BF44-6189513C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D70-AD6F-4C4A-81F1-8AABC33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D97-01E9-49BC-BD71-F99ACCB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F79-A4C0-4F4F-86E1-2897D7FE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770-E30A-436F-A22E-4C915A38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2B90-05AE-471A-A732-B08B9D7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D86B-3FC0-4B8F-8C83-F0CE144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A1AF-2847-41CD-B0C8-036C790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D1C-FC00-49D6-B798-5A47E4B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8F5-78DA-41EB-890F-4D1B67F8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B663-A886-4A99-AB87-FA6B20B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8DA-45CE-48E2-82F9-91ED922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3A8F-533E-4ABF-BA44-9993947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D62E-2C6A-4AFD-BF31-72877B9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65F-9390-4FD8-A395-9758288E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836C-2E9A-48A8-8BCE-6958340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C37-5BDF-4B68-B65C-0AFEDD60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258-AA49-461B-A1BE-AC4A0FF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0AA-72B2-48BD-AB03-2F04EE5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36-64BE-427A-954C-538A4E3F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E04-C37A-4592-A0E3-35669B06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D13-29F8-41EB-949C-D8B1B6C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691-1EE0-4FA1-AB5E-07A3495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A2E-ACE6-4109-BE19-673F7DD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706-368F-4350-906F-A6D3DD6EA8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8EC-134C-4BEA-B9F1-942C0D1334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137440" cy="316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тер –класс учителя МОУ «Хомутовская средняя общеобразовательная школа№2» Коротенко Галины Анатольевны по</a:t>
            </a:r>
            <a:r>
              <a:rPr b="0" lang="ru-RU" sz="2800" spc="-1" strike="noStrike">
                <a:solidFill>
                  <a:srgbClr val="c534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е: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3357720"/>
            <a:ext cx="72248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как средство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я младших школьников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преемственности обучения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зультатив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124000" y="4292640"/>
          <a:ext cx="27352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292640"/>
                    <a:ext cx="27352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724360" y="4149720"/>
          <a:ext cx="2376720" cy="175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149720"/>
                    <a:ext cx="2376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1916280"/>
          <a:ext cx="2519280" cy="1752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916280"/>
                    <a:ext cx="25192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276720" y="1916280"/>
          <a:ext cx="2447640" cy="1752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1916280"/>
                    <a:ext cx="24476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867280" y="1844640"/>
          <a:ext cx="2448000" cy="1800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1844640"/>
                    <a:ext cx="24480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оздание условий для перехода к учебной деятельности посредством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56080" y="2168280"/>
            <a:ext cx="15278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КОММУКАТИ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АВЫ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213000"/>
            <a:ext cx="2016000" cy="1152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2060640"/>
            <a:ext cx="244800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РАЗВИТИЕ ПОЗНАВА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4508640"/>
            <a:ext cx="230508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ПСИХИЧЕСКИХ 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653000"/>
            <a:ext cx="237672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РАЗВИТИЕ НАВЫКОВ ПОЗНАВА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4076640"/>
            <a:ext cx="7999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708280"/>
            <a:ext cx="7999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132000" y="4436640"/>
            <a:ext cx="7192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435640" y="2852280"/>
            <a:ext cx="647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04920" y="808200"/>
            <a:ext cx="3314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РЕЕМ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413000"/>
            <a:ext cx="14860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дошк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219640" y="1341360"/>
            <a:ext cx="13716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Младший шк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206064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ВИД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565360"/>
            <a:ext cx="11430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Comic Sans MS"/>
              </a:rPr>
              <a:t>игр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2421000"/>
            <a:ext cx="11412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Comic Sans MS"/>
              </a:rPr>
              <a:t>учеб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Используемы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0841400">
            <a:off x="523440" y="3930120"/>
            <a:ext cx="1023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Сюжетно-роле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933720"/>
            <a:ext cx="18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дид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3933720"/>
            <a:ext cx="1297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 rot="10800000">
            <a:off x="6516360" y="4076640"/>
            <a:ext cx="13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подви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724280"/>
            <a:ext cx="12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dff"/>
                </a:solidFill>
                <a:latin typeface="Comic Sans MS"/>
              </a:rPr>
              <a:t>Игры-путе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724280"/>
            <a:ext cx="10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dff"/>
                </a:solidFill>
                <a:latin typeface="Comic Sans MS"/>
              </a:rPr>
              <a:t>Игры-пор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4797360"/>
            <a:ext cx="151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dff"/>
                </a:solidFill>
                <a:latin typeface="Comic Sans MS"/>
              </a:rPr>
              <a:t>Игры-предпо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66100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dff"/>
                </a:solidFill>
                <a:latin typeface="Comic Sans MS"/>
              </a:rPr>
              <a:t>Игры-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5661000"/>
            <a:ext cx="131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dff"/>
                </a:solidFill>
                <a:latin typeface="Comic Sans MS"/>
              </a:rPr>
              <a:t>Игры -бес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76360" y="105264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162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995280" y="1628640"/>
            <a:ext cx="11653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35280" y="2565360"/>
            <a:ext cx="1800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162864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256536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651280" y="2997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3213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02920" y="3645000"/>
            <a:ext cx="13813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203280" y="3645000"/>
            <a:ext cx="36036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645000"/>
            <a:ext cx="2764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835280" y="4437000"/>
            <a:ext cx="3744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4437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443700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3645000"/>
            <a:ext cx="17161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796000" y="4724280"/>
            <a:ext cx="22575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27280" y="2349360"/>
            <a:ext cx="3543480" cy="2057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987640" y="3068640"/>
            <a:ext cx="287028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ИДАКТИЧЕСКАЯ ИГР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07280" y="4508640"/>
            <a:ext cx="205740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79280" y="4365720"/>
            <a:ext cx="2171880" cy="217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68360" y="5300640"/>
            <a:ext cx="1446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96000" y="4941720"/>
            <a:ext cx="1714320" cy="11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дведе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тогов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результаты)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0920" y="620640"/>
            <a:ext cx="2171520" cy="2171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48000" y="115920"/>
            <a:ext cx="2160720" cy="19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11280" y="1125360"/>
            <a:ext cx="2057400" cy="2057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125360"/>
            <a:ext cx="17287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овы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ейств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35280" y="476280"/>
            <a:ext cx="16891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ова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27640" y="1700280"/>
            <a:ext cx="17146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дактическ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2060640"/>
            <a:ext cx="0" cy="288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492000" y="4292640"/>
            <a:ext cx="14292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867280" y="2637000"/>
            <a:ext cx="217440" cy="2109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2492280"/>
            <a:ext cx="504720" cy="5000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4365720"/>
            <a:ext cx="216000" cy="4269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гра в учебной 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274760" cy="1590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6920" y="2349360"/>
            <a:ext cx="17146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ЧАЛ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573360"/>
            <a:ext cx="2511360" cy="103032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ИСПОЛЬЗУЕТСЯ С ЦЕЛЬЮ ОРГАНИЗОВАННОСТИ, ЗАИНТЕРЕСОВАННОСТИ, СТИМУЛИРОВАНИЯ И АКТИВНОСТИ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2205000"/>
            <a:ext cx="171432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СЕРЕДИНА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3573360"/>
            <a:ext cx="251460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ЕШАЕТ ЗАДАЧУ УСВОЕНИЯ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88000" y="2276640"/>
            <a:ext cx="1712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ОНЕЦ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500280"/>
            <a:ext cx="251460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ОСИТ ПОИСКОВ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33520" y="1020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49520" y="10417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2565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068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2637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3068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9242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284720" y="4869000"/>
            <a:ext cx="20113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56000" y="1341360"/>
            <a:ext cx="194292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1341360"/>
            <a:ext cx="182880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лияние игры на личностные качества ребе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2664000" cy="3009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аблица рационального использования иг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                                                 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844640"/>
          <a:ext cx="7696080" cy="469440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уализация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Игры на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нимательный чит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еселый сч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знай бук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-на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ов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ерем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 гостях у Знай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олшебницы –букв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-путеше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епление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удесный мешоче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рятки с цифр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то самый зор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-путеше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акончи фраз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гадай-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Цепочка пожела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dff"/>
                      </a:solidFill>
                    </a:lnL>
                    <a:lnR w="13680">
                      <a:solidFill>
                        <a:srgbClr val="703dff"/>
                      </a:solidFill>
                    </a:lnR>
                    <a:lnT w="13680">
                      <a:solidFill>
                        <a:srgbClr val="703dff"/>
                      </a:solidFill>
                    </a:lnT>
                    <a:lnB w="13680">
                      <a:solidFill>
                        <a:srgbClr val="703d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6cfa"/>
                </a:solidFill>
                <a:latin typeface="Comic Sans MS"/>
              </a:rPr>
              <a:t>Внеурочная деятельност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1114200" cy="1224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9280" y="134136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теше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20000" y="126828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р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80536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язь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0000" y="587700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36836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268360" y="2133720"/>
            <a:ext cx="496908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59280" y="2637000"/>
            <a:ext cx="2592360" cy="86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Работа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197000"/>
            <a:ext cx="262872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рганизация учебно-воспит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341360"/>
            <a:ext cx="26287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одительский лектор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Консуль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3640" y="4076640"/>
            <a:ext cx="297180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Дополните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933720"/>
            <a:ext cx="274320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Взаимодействие с психологическим цент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651640" y="2133360"/>
            <a:ext cx="1081080" cy="85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997360"/>
            <a:ext cx="108108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835280" y="2204640"/>
            <a:ext cx="122400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619280" y="3141720"/>
            <a:ext cx="1440000" cy="64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1:06:26Z</dcterms:created>
  <dc:creator>Дом</dc:creator>
  <dc:description/>
  <dc:language>en-US</dc:language>
  <cp:lastModifiedBy>Дом</cp:lastModifiedBy>
  <dcterms:modified xsi:type="dcterms:W3CDTF">2006-11-08T22:00:17Z</dcterms:modified>
  <cp:revision>12</cp:revision>
  <dc:subject/>
  <dc:title>Мастер –класс учителя МОУ «Хомутовская средняя общеобразовательная школа№2» Коротенко Галины Анатольевны по теме:</dc:title>
</cp:coreProperties>
</file>