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C61-F6CC-4095-A0DF-DB7BE237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4FD-BDCA-428F-A385-CFDBA1A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EB4-2BE6-494B-B0FD-A0F7FFF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72F-F35D-4378-8479-C48D9322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D980F-3773-4081-B7BF-FE5B36D0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4BAF1-2030-493B-A41F-C5691F2B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E8E22-FFEE-43CB-9761-58B3854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2E2A6-50BA-4F1F-924A-70EE9E3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02993-47ED-44D4-B038-7730CDCA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211B-A1EE-4B44-9551-6B517FB4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8354F-3E15-488A-AE11-01CCFC14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8B3-7F1D-460A-8DA1-0FF3B804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3A01C-1369-41B1-88E3-5E51ADE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1F971-92EA-4204-824D-1F3E089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4A977-C94C-4A1E-A920-8F62D8E0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813A7-DFCE-4BD4-83A4-8BCD7A27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E271A-81B5-4468-9A39-308436FB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68C-3FF3-4BF9-80B8-69C5011E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326-63FC-4D5E-B441-B3876133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7E2-78FD-48F8-B20C-011D504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2BF-EDBB-4FAC-B835-07E193A2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B02-B500-427C-B7A7-436F7740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9A1-9A81-43D5-B531-789EE8CC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9A0-D220-4958-8B2D-C7818146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01CB-B21F-4EAB-A88C-157C3BD21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F646-3F48-4C41-BEEB-34ECEF9C7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eternaltown.com.ua/images/D/9/titov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zagubernii.ru/files/571894bbe2_b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5005/marina1961-4-24.0/0_59a00_9bcb0639_X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lancer.ru/forum/punbb/attachment.php?item=70486&amp;download=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Виктори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56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К  занятию   по  тем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« Первые шаги в космос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9647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лавный  конструктор космической   техник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-111240"/>
            <a:ext cx="8964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4508280"/>
            <a:ext cx="302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ерг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авлови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Королё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8206" t="5165" r="8337" b="23464"/>
          <a:stretch/>
        </p:blipFill>
        <p:spPr>
          <a:xfrm>
            <a:off x="2556000" y="379440"/>
            <a:ext cx="6413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де   лучше   размещать космодромы?          Почему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дали от густонаселённых районов т.к. требуют больших площадей и чтобы отработавшие спутники ракетоносителя не смогли нанести  разру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5292720" cy="3538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105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91600"/>
            <a:ext cx="871380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ервая   женщина- космонавт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38275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алент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ладимиров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Терешкова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05160" y="54936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36280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смонавт №2.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                   Наш земляк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3313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Герм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тепан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Тит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89320" y="189000"/>
            <a:ext cx="4560840" cy="645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3 из 8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92280"/>
            <a:ext cx="29019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.  Кто  первым  полетел  в космос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-2221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259920"/>
            <a:ext cx="289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Юр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лексееви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Гагар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Картинка 79 из 15896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56536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859280" y="260280"/>
            <a:ext cx="40878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то  первым  совершил прогулку  в  космос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-257760"/>
            <a:ext cx="8893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3322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лекс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рхипови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Леон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Картинка 15 из 447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260280"/>
            <a:ext cx="4932360" cy="2878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319640" cy="300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79280" y="2637000"/>
            <a:ext cx="478800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азовите  спутник  Земл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9500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226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Л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74232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7854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ндивидуальное  снаряжение, обеспечивающее   условия  жизнедеятельности   и работоспособности  космонавта  в  космос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9080"/>
            <a:ext cx="8964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3600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Скафан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Картинка 309 из 49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197000"/>
            <a:ext cx="253368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3516" t="2588" r="12085" b="4186"/>
          <a:stretch/>
        </p:blipFill>
        <p:spPr>
          <a:xfrm>
            <a:off x="5867280" y="1989000"/>
            <a:ext cx="3119400" cy="468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rcRect l="0" t="0" r="2514" b="5108"/>
          <a:stretch/>
        </p:blipFill>
        <p:spPr>
          <a:xfrm>
            <a:off x="179280" y="2421000"/>
            <a:ext cx="2952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0:37Z</dcterms:created>
  <dc:creator>Office</dc:creator>
  <dc:description/>
  <dc:language>en-US</dc:language>
  <cp:lastModifiedBy>Office</cp:lastModifiedBy>
  <dcterms:modified xsi:type="dcterms:W3CDTF">2003-12-31T18:59:58Z</dcterms:modified>
  <cp:revision>4</cp:revision>
  <dc:subject/>
  <dc:title>Викторина </dc:title>
</cp:coreProperties>
</file>