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29E-D3B7-4FD0-A1ED-0273CC17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7DE-9361-4D95-B889-D4279FF0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2D6-94F7-4BE0-B8F3-68369681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9E0-B928-4F14-B4F5-8FDE0308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8FC5-BFC5-4DDF-97FA-4D2EC891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6B56-95AB-4D11-BA81-6828F2F3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EEBA-7939-4B98-B61D-B7BA075A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E432-0670-4EEE-9B31-36C879D5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4343-CED3-4209-A1F0-6AB9C18F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E4B8-9FF4-4C57-B061-DA7EE394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D7F4-BE99-4B68-BCEE-92881AE2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4BD-57F9-4310-B2E0-259C73C3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18E0-AA4F-457F-9D4B-68890F1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9616-E31F-4093-98F4-A5911A82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B70E-BD16-440B-BFCE-5035F569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6B2A-E91E-4BD6-98E5-6FE81BDE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0D9-B0F5-4E87-8969-944DD9D0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90F-F53B-44C9-A3C6-D02B7925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048-9362-41EC-8B9D-49B0959F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622-3B0D-42F6-AA56-9192F81D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CA1-3D2A-496C-A997-9AA1CCE0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07D-0195-4512-B538-145504BE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6A4-C743-4ABA-9BBE-3F1C66D1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1C4-31CF-455D-BC9F-4DA8576F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22F5-D35D-4BDD-85D7-4D3B6399D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6BEE-E439-4EBC-8727-CE9B0FAC7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145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264280" y="1752480"/>
            <a:ext cx="3651120" cy="403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60400" y="5859360"/>
            <a:ext cx="294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867280"/>
            <a:ext cx="388620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54 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5867280"/>
            <a:ext cx="4114800" cy="70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? на 15 м ниж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79520" y="906480"/>
            <a:ext cx="759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)54-15= 39(м)-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высота берё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Ответ: 39 метр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295800" cy="3295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581640" cy="3294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3352680" cy="2766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410080" y="4270320"/>
            <a:ext cx="3505320" cy="235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048120" y="2133720"/>
            <a:ext cx="289548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1000" y="433440"/>
            <a:ext cx="89820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-117720"/>
            <a:ext cx="8305920" cy="43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Мне было интересно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Мы сегодня работали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Мне было трудно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Завтра я хочу на уроке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8305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Спасибо вам за хорошую работу и за 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радость</a:t>
            </a: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, которую мы друг другу доставили!</a:t>
            </a: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257800" y="3720960"/>
            <a:ext cx="38862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8759880" cy="6811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24040" y="57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7800" y="243036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37240" y="952560"/>
            <a:ext cx="70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0" y="73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5200" y="4030560"/>
            <a:ext cx="89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55760" y="4991040"/>
            <a:ext cx="62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03480" y="552456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75680" y="560088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2800" y="333360"/>
            <a:ext cx="82584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32          32       3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14        14     1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6130800"/>
            <a:ext cx="76320" cy="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080" bIns="28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457200"/>
            <a:ext cx="8381880" cy="33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Физминутка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95640" y="1346040"/>
            <a:ext cx="1247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comic"/>
              </a:rPr>
              <a:t>«Письменное вычитание двузначных чисел с переходом через разряд»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610480" y="6019920"/>
            <a:ext cx="76320" cy="1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23 октября.</a:t>
            </a:r>
            <a:br>
              <a:rPr sz="4400"/>
            </a:b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Классная работ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686800" y="6130800"/>
            <a:ext cx="763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3-10-22T03:11:2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