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809-FC34-4033-BA7D-FD741334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C55-4FFD-4EC8-82CB-C83340C7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C19-71A6-4D68-A292-F8C8FF0B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909-7110-4998-987D-B0AFF707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2B5C-538B-403E-B61D-593A029C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462DF-79F0-40F1-8225-38C68FA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D9D1-C5B3-4291-84B9-8CC9CEF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E21FF-8597-4F44-B9E8-37BDE99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651A4-9BA7-4C4C-A5FC-7D0FCFC4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D6BC0-91C3-4E01-8BA0-7FCB91D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AA2C4-B848-49CB-8A8A-41167B7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D05-9769-4773-A87F-D40FD6BE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C39BC-A3C2-4222-A278-03E42CF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B927F-1A3E-4296-99C8-9D1B9C5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F7695-F9F3-4457-91F8-E649AE2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A0991-03E6-4D8D-9158-AA2AE73D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DEFF3-DDC2-47DF-AC3B-C160D096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CEC-AA48-41D5-AFC4-A36393B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A6C-E1D4-4EBB-A413-6BE9FCA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98-13D0-43F2-9447-2CD223A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C3C-BF65-4690-B10D-0F06088B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D04-0ABD-46C9-8C1A-791D5E9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146-2505-4EBC-A38B-039910F2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DB-C7E7-4B8C-BC6E-E7F74ED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1CD-7E8C-4179-BA63-3E17CDB4F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13D-59DD-438F-9A27-273B563F4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OX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»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хнология будущег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ериферически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инимает данные из центрального отд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спечатка да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нешний отдел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пределяет состав слю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едает информацию в центральный от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19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д рабо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оим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50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чики-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20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язычка-8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25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а,мелкие детали-1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500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x – (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0" lang="ru-RU" sz="4400" spc="-1" strike="noStrike">
                <a:solidFill>
                  <a:srgbClr val="ffffff"/>
                </a:solidFill>
                <a:latin typeface="Blackadder ITC"/>
              </a:rPr>
              <a:t>латинског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язы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язык, вкусовой орган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кусовой рецеп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03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енсорный анализат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Использование прибора для выявления заболеваний в ротовой полости, определение химического состава, определение заболеван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болевания ротовой пол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болевания ротовой пол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роение и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905120"/>
            <a:ext cx="8228880" cy="4113360"/>
            <a:chOff x="457200" y="1905120"/>
            <a:chExt cx="8228880" cy="4113360"/>
          </a:xfrm>
        </p:grpSpPr>
        <p:cxnSp>
          <p:nvCxnSpPr>
            <p:cNvPr id="106" name="_s26646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599800" y="252072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26645"/>
            <p:cNvCxnSpPr>
              <a:stCxn id="110" idx="0"/>
              <a:endCxn id="108" idx="2"/>
            </p:cNvCxnSpPr>
            <p:nvPr/>
          </p:nvCxnSpPr>
          <p:spPr>
            <a:xfrm flipV="1">
              <a:off x="4571280" y="354960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26644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719800" y="252108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26640"/>
            <p:cNvSpPr/>
            <p:nvPr/>
          </p:nvSpPr>
          <p:spPr>
            <a:xfrm>
              <a:off x="3337200" y="190512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Главный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корпу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6641"/>
            <p:cNvSpPr/>
            <p:nvPr/>
          </p:nvSpPr>
          <p:spPr>
            <a:xfrm>
              <a:off x="45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централь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6642"/>
            <p:cNvSpPr/>
            <p:nvPr/>
          </p:nvSpPr>
          <p:spPr>
            <a:xfrm>
              <a:off x="333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перифериче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6643"/>
            <p:cNvSpPr/>
            <p:nvPr/>
          </p:nvSpPr>
          <p:spPr>
            <a:xfrm>
              <a:off x="621756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внеш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нтральны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инимает информацию от язы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ерабатывает информ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правляет ее в периферический от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27:07Z</dcterms:created>
  <dc:creator>Мерген</dc:creator>
  <dc:description/>
  <dc:language>en-US</dc:language>
  <cp:lastModifiedBy>Мерген</cp:lastModifiedBy>
  <dcterms:modified xsi:type="dcterms:W3CDTF">2013-03-14T04:56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