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727-BFCE-456F-8E89-0621AEE0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4D6-2D2F-4931-940D-5C7F0734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984-B323-41FA-A9D7-4EB12CB4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B9D-C76C-4E41-9D7B-60E8B060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5BDEE-F5D1-4F04-B693-4D565FC7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917AB-3C4F-48C7-A0FA-21DB397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B836-B580-43ED-83CD-BCBB07F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9BB4A-01E7-405D-9C0E-3077ACDC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0BEC8-48C7-4B70-8608-2C1EEC9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6DA4-B18F-44BA-B72D-80EF3EED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F518B-8360-4422-BAEC-D93AAEA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0BB-2790-47B0-ACEE-7DB022F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418B-B7FF-42ED-8F5E-C707F92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46791-AFA9-4252-9F5A-A346100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7D728-C5C4-43F1-85ED-2973E6C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B7926-29FE-4A8A-9065-BF38BD68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73DD2-AA71-4486-B458-47FDE47C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F8E-7BC5-4345-A0F7-FDE240E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704-E886-407C-A71C-3F9FEDE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5D0-AC5C-4D6A-A824-1B59053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491-8050-4D60-A546-9A3E919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712-E097-4E98-8651-8E1D164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3C0-A22B-4110-9264-0C801EC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FC3-7EF2-4E8C-925C-D0954DF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363-5A54-4F06-B589-FAD4C5DF5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81A-9937-4730-B55B-D6D08289E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OX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»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хнология будущег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ериферически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инимает данные из центрального отд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спечатка да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нешний отдел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пределяет состав слю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едает информацию в центральный от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19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д рабо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оим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50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чики-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20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язычка-8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25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а,мелкие детали-1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5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x – (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0" lang="ru-RU" sz="4400" spc="-1" strike="noStrike">
                <a:solidFill>
                  <a:srgbClr val="ffffff"/>
                </a:solidFill>
                <a:latin typeface="Blackadder ITC"/>
              </a:rPr>
              <a:t>латинског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язы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язык, вкусовой орган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кусовой рецеп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03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енсорный анализат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Использование прибора для выявления заболеваний в ротовой полости, определение химического состава, определение заболеван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болевания ротовой пол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болевания ротовой пол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роение и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905120"/>
            <a:ext cx="8228880" cy="4113360"/>
            <a:chOff x="457200" y="1905120"/>
            <a:chExt cx="8228880" cy="4113360"/>
          </a:xfrm>
        </p:grpSpPr>
        <p:cxnSp>
          <p:nvCxnSpPr>
            <p:cNvPr id="106" name="_s26646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599800" y="252072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26645"/>
            <p:cNvCxnSpPr>
              <a:stCxn id="110" idx="0"/>
              <a:endCxn id="108" idx="2"/>
            </p:cNvCxnSpPr>
            <p:nvPr/>
          </p:nvCxnSpPr>
          <p:spPr>
            <a:xfrm flipV="1">
              <a:off x="4571280" y="354960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26644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719800" y="252108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26640"/>
            <p:cNvSpPr/>
            <p:nvPr/>
          </p:nvSpPr>
          <p:spPr>
            <a:xfrm>
              <a:off x="3337200" y="190512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Главный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корпу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6641"/>
            <p:cNvSpPr/>
            <p:nvPr/>
          </p:nvSpPr>
          <p:spPr>
            <a:xfrm>
              <a:off x="45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централь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6642"/>
            <p:cNvSpPr/>
            <p:nvPr/>
          </p:nvSpPr>
          <p:spPr>
            <a:xfrm>
              <a:off x="333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перифериче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6643"/>
            <p:cNvSpPr/>
            <p:nvPr/>
          </p:nvSpPr>
          <p:spPr>
            <a:xfrm>
              <a:off x="621756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внеш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нтральны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инимает информацию от язы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ерабатывает информ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правляет ее в периферический от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27:07Z</dcterms:created>
  <dc:creator>Мерген</dc:creator>
  <dc:description/>
  <dc:language>en-US</dc:language>
  <cp:lastModifiedBy>Мерген</cp:lastModifiedBy>
  <dcterms:modified xsi:type="dcterms:W3CDTF">2013-03-14T04:56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