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612-5794-4293-9A17-931175E3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EC1-64C7-44A5-86BC-78382DD1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ADD-945D-48BA-8D7B-598D604D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D29-DBB5-4335-A91D-A79BE9AF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E6A-C264-4DA6-8E53-B599ED00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CC9-B121-40C5-9467-5BE17EE5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C1F-EDE6-4879-9C34-CAEA00CD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8F7-CCC1-4D0B-AB86-1F6AD16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795-A9A2-486A-B45E-30A77AF4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D37-F221-4675-BE76-ADD479D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B40-D230-45AD-AE4D-FB4A61D2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221-EEA5-490F-8F74-FECAF1CE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BA35-DA1B-48FE-A13F-922041E52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5" name="Группа 29"/>
          <p:cNvGrpSpPr/>
          <p:nvPr/>
        </p:nvGrpSpPr>
        <p:grpSpPr>
          <a:xfrm>
            <a:off x="-396720" y="-360"/>
            <a:ext cx="10144080" cy="7036200"/>
            <a:chOff x="-396720" y="-360"/>
            <a:chExt cx="10144080" cy="7036200"/>
          </a:xfrm>
        </p:grpSpPr>
        <p:sp>
          <p:nvSpPr>
            <p:cNvPr id="46" name="Дуга 9"/>
            <p:cNvSpPr/>
            <p:nvPr/>
          </p:nvSpPr>
          <p:spPr>
            <a:xfrm rot="16200000">
              <a:off x="1198800" y="-1271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Группа 18"/>
            <p:cNvGrpSpPr/>
            <p:nvPr/>
          </p:nvGrpSpPr>
          <p:grpSpPr>
            <a:xfrm>
              <a:off x="-396720" y="-360"/>
              <a:ext cx="10144080" cy="7036200"/>
              <a:chOff x="-396720" y="-360"/>
              <a:chExt cx="10144080" cy="7036200"/>
            </a:xfrm>
          </p:grpSpPr>
          <p:sp>
            <p:nvSpPr>
              <p:cNvPr id="48" name="Дуга 10"/>
              <p:cNvSpPr/>
              <p:nvPr/>
            </p:nvSpPr>
            <p:spPr>
              <a:xfrm rot="16200000">
                <a:off x="1224360" y="-1165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Группа 17"/>
              <p:cNvGrpSpPr/>
              <p:nvPr/>
            </p:nvGrpSpPr>
            <p:grpSpPr>
              <a:xfrm>
                <a:off x="-396720" y="-360"/>
                <a:ext cx="10144080" cy="7036200"/>
                <a:chOff x="-396720" y="-360"/>
                <a:chExt cx="10144080" cy="7036200"/>
              </a:xfrm>
            </p:grpSpPr>
            <p:grpSp>
              <p:nvGrpSpPr>
                <p:cNvPr id="50" name="Группа 16"/>
                <p:cNvGrpSpPr/>
                <p:nvPr/>
              </p:nvGrpSpPr>
              <p:grpSpPr>
                <a:xfrm>
                  <a:off x="-396720" y="-360"/>
                  <a:ext cx="10144080" cy="7035840"/>
                  <a:chOff x="-396720" y="-360"/>
                  <a:chExt cx="10144080" cy="7035840"/>
                </a:xfrm>
              </p:grpSpPr>
              <p:sp>
                <p:nvSpPr>
                  <p:cNvPr id="51" name="Дуга 6"/>
                  <p:cNvSpPr/>
                  <p:nvPr/>
                </p:nvSpPr>
                <p:spPr>
                  <a:xfrm rot="16200000">
                    <a:off x="1233360" y="-1630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Дуга 7"/>
                  <p:cNvSpPr/>
                  <p:nvPr/>
                </p:nvSpPr>
                <p:spPr>
                  <a:xfrm rot="16200000">
                    <a:off x="1233720" y="-1478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Дуга 8"/>
                  <p:cNvSpPr/>
                  <p:nvPr/>
                </p:nvSpPr>
                <p:spPr>
                  <a:xfrm rot="16200000">
                    <a:off x="1228680" y="-1392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Дуга 11"/>
                  <p:cNvSpPr/>
                  <p:nvPr/>
                </p:nvSpPr>
                <p:spPr>
                  <a:xfrm rot="16200000">
                    <a:off x="1260000" y="-1049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" name="Дуга 12"/>
                <p:cNvSpPr/>
                <p:nvPr/>
              </p:nvSpPr>
              <p:spPr>
                <a:xfrm rot="16200000">
                  <a:off x="1296360" y="-932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1" descr="бк2.png"/>
          <p:cNvPicPr/>
          <p:nvPr/>
        </p:nvPicPr>
        <p:blipFill>
          <a:blip r:embed="rId10"/>
          <a:stretch/>
        </p:blipFill>
        <p:spPr>
          <a:xfrm rot="19782000">
            <a:off x="5364000" y="270792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2" descr="бк3.jpg"/>
          <p:cNvPicPr/>
          <p:nvPr/>
        </p:nvPicPr>
        <p:blipFill>
          <a:blip r:embed="rId11"/>
          <a:stretch/>
        </p:blipFill>
        <p:spPr>
          <a:xfrm rot="5856000">
            <a:off x="2232000" y="1089000"/>
            <a:ext cx="490320" cy="41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8"/>
          <p:cNvSpPr/>
          <p:nvPr/>
        </p:nvSpPr>
        <p:spPr>
          <a:xfrm>
            <a:off x="1403280" y="1268280"/>
            <a:ext cx="640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Музыкальные загадки по му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0"/>
          <p:cNvSpPr/>
          <p:nvPr/>
        </p:nvSpPr>
        <p:spPr>
          <a:xfrm>
            <a:off x="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1"/>
          <p:cNvSpPr/>
          <p:nvPr/>
        </p:nvSpPr>
        <p:spPr>
          <a:xfrm>
            <a:off x="2843280" y="3500280"/>
            <a:ext cx="52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4"/>
          <p:cNvSpPr/>
          <p:nvPr/>
        </p:nvSpPr>
        <p:spPr>
          <a:xfrm>
            <a:off x="2340000" y="4437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оставили учащиеся 2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учитель музы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липцева Р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Нота на консоль встаёт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И сольфеджи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260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261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263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265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266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71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Эта нота есть в гуляке, 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И в каляке, и в маляке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В землянике на полянке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А ещё в стеклянной скля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283" name="Группа 29"/>
          <p:cNvGrpSpPr/>
          <p:nvPr/>
        </p:nvGrpSpPr>
        <p:grpSpPr>
          <a:xfrm>
            <a:off x="-324000" y="764640"/>
            <a:ext cx="10144440" cy="7036200"/>
            <a:chOff x="-324000" y="764640"/>
            <a:chExt cx="10144440" cy="7036200"/>
          </a:xfrm>
        </p:grpSpPr>
        <p:sp>
          <p:nvSpPr>
            <p:cNvPr id="284" name="Дуга 9"/>
            <p:cNvSpPr/>
            <p:nvPr/>
          </p:nvSpPr>
          <p:spPr>
            <a:xfrm rot="16200000">
              <a:off x="1271880" y="-507240"/>
              <a:ext cx="6883560" cy="973188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880"/>
                <a:gd name="textAreaBottom" fmla="*/ 9709560 h 973188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Группа 18"/>
            <p:cNvGrpSpPr/>
            <p:nvPr/>
          </p:nvGrpSpPr>
          <p:grpSpPr>
            <a:xfrm>
              <a:off x="-324000" y="764640"/>
              <a:ext cx="10144440" cy="7036200"/>
              <a:chOff x="-324000" y="764640"/>
              <a:chExt cx="10144440" cy="7036200"/>
            </a:xfrm>
          </p:grpSpPr>
          <p:sp>
            <p:nvSpPr>
              <p:cNvPr id="286" name="Дуга 10"/>
              <p:cNvSpPr/>
              <p:nvPr/>
            </p:nvSpPr>
            <p:spPr>
              <a:xfrm rot="16200000">
                <a:off x="1297080" y="-400680"/>
                <a:ext cx="6821640" cy="958104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1040"/>
                  <a:gd name="textAreaBottom" fmla="*/ 9535680 h 958104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Группа 17"/>
              <p:cNvGrpSpPr/>
              <p:nvPr/>
            </p:nvGrpSpPr>
            <p:grpSpPr>
              <a:xfrm>
                <a:off x="-324000" y="764640"/>
                <a:ext cx="10144440" cy="7036200"/>
                <a:chOff x="-324000" y="764640"/>
                <a:chExt cx="10144440" cy="7036200"/>
              </a:xfrm>
            </p:grpSpPr>
            <p:grpSp>
              <p:nvGrpSpPr>
                <p:cNvPr id="288" name="Группа 16"/>
                <p:cNvGrpSpPr/>
                <p:nvPr/>
              </p:nvGrpSpPr>
              <p:grpSpPr>
                <a:xfrm>
                  <a:off x="-324000" y="764640"/>
                  <a:ext cx="10144440" cy="7035840"/>
                  <a:chOff x="-324000" y="764640"/>
                  <a:chExt cx="10144440" cy="7035840"/>
                </a:xfrm>
              </p:grpSpPr>
              <p:sp>
                <p:nvSpPr>
                  <p:cNvPr id="289" name="Дуга 6"/>
                  <p:cNvSpPr/>
                  <p:nvPr/>
                </p:nvSpPr>
                <p:spPr>
                  <a:xfrm rot="16200000">
                    <a:off x="1306440" y="-865800"/>
                    <a:ext cx="6883560" cy="1014444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440"/>
                      <a:gd name="textAreaBottom" fmla="*/ 10119240 h 1014444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Дуга 7"/>
                  <p:cNvSpPr/>
                  <p:nvPr/>
                </p:nvSpPr>
                <p:spPr>
                  <a:xfrm rot="16200000">
                    <a:off x="1306440" y="-713520"/>
                    <a:ext cx="6883560" cy="998280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800"/>
                      <a:gd name="textAreaBottom" fmla="*/ 9958680 h 998280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Дуга 8"/>
                  <p:cNvSpPr/>
                  <p:nvPr/>
                </p:nvSpPr>
                <p:spPr>
                  <a:xfrm rot="16200000">
                    <a:off x="1301760" y="-627840"/>
                    <a:ext cx="6883560" cy="997308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3080"/>
                      <a:gd name="textAreaBottom" fmla="*/ 9932040 h 997308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Дуга 11"/>
                  <p:cNvSpPr/>
                  <p:nvPr/>
                </p:nvSpPr>
                <p:spPr>
                  <a:xfrm rot="16200000">
                    <a:off x="1332720" y="-284040"/>
                    <a:ext cx="6750360" cy="941904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9040"/>
                      <a:gd name="textAreaBottom" fmla="*/ 9397800 h 941904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Дуга 12"/>
                <p:cNvSpPr/>
                <p:nvPr/>
              </p:nvSpPr>
              <p:spPr>
                <a:xfrm rot="16200000">
                  <a:off x="1369080" y="-167760"/>
                  <a:ext cx="6678720" cy="925884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840"/>
                    <a:gd name="textAreaBottom" fmla="*/ 9238320 h 925884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94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Нота говорит: "Мерси!"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Ездит только на такси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Обожает мокасины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Силачей и апельс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306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307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309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311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312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17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Звуки   выстроились  в  ряд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Получился  . . . .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329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330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332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334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335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9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40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1.Скрипичный 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2.Басовый 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3.Нотный 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4.Н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5.Нота «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6.Нота «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7.Нота «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8.Нота «Ф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9.Нота «Со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10.Нота «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11.Нота «С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12.Звуко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14" descr="подс1.jpg"/>
          <p:cNvPicPr/>
          <p:nvPr/>
        </p:nvPicPr>
        <p:blipFill>
          <a:blip r:embed="rId1"/>
          <a:stretch/>
        </p:blipFill>
        <p:spPr>
          <a:xfrm>
            <a:off x="6877080" y="5445000"/>
            <a:ext cx="928800" cy="14130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352" name="Группа 29"/>
          <p:cNvGrpSpPr/>
          <p:nvPr/>
        </p:nvGrpSpPr>
        <p:grpSpPr>
          <a:xfrm>
            <a:off x="-612720" y="-360"/>
            <a:ext cx="10144080" cy="7036200"/>
            <a:chOff x="-612720" y="-360"/>
            <a:chExt cx="10144080" cy="7036200"/>
          </a:xfrm>
        </p:grpSpPr>
        <p:sp>
          <p:nvSpPr>
            <p:cNvPr id="353" name="Дуга 9"/>
            <p:cNvSpPr/>
            <p:nvPr/>
          </p:nvSpPr>
          <p:spPr>
            <a:xfrm rot="16200000">
              <a:off x="982800" y="-1271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Группа 18"/>
            <p:cNvGrpSpPr/>
            <p:nvPr/>
          </p:nvGrpSpPr>
          <p:grpSpPr>
            <a:xfrm>
              <a:off x="-612720" y="-360"/>
              <a:ext cx="10144080" cy="7036200"/>
              <a:chOff x="-612720" y="-360"/>
              <a:chExt cx="10144080" cy="7036200"/>
            </a:xfrm>
          </p:grpSpPr>
          <p:sp>
            <p:nvSpPr>
              <p:cNvPr id="355" name="Дуга 10"/>
              <p:cNvSpPr/>
              <p:nvPr/>
            </p:nvSpPr>
            <p:spPr>
              <a:xfrm rot="16200000">
                <a:off x="1008360" y="-1165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Группа 17"/>
              <p:cNvGrpSpPr/>
              <p:nvPr/>
            </p:nvGrpSpPr>
            <p:grpSpPr>
              <a:xfrm>
                <a:off x="-612720" y="-360"/>
                <a:ext cx="10144080" cy="7036200"/>
                <a:chOff x="-612720" y="-360"/>
                <a:chExt cx="10144080" cy="7036200"/>
              </a:xfrm>
            </p:grpSpPr>
            <p:grpSp>
              <p:nvGrpSpPr>
                <p:cNvPr id="357" name="Группа 16"/>
                <p:cNvGrpSpPr/>
                <p:nvPr/>
              </p:nvGrpSpPr>
              <p:grpSpPr>
                <a:xfrm>
                  <a:off x="-612720" y="-360"/>
                  <a:ext cx="10144080" cy="7035840"/>
                  <a:chOff x="-612720" y="-360"/>
                  <a:chExt cx="10144080" cy="7035840"/>
                </a:xfrm>
              </p:grpSpPr>
              <p:sp>
                <p:nvSpPr>
                  <p:cNvPr id="358" name="Дуга 6"/>
                  <p:cNvSpPr/>
                  <p:nvPr/>
                </p:nvSpPr>
                <p:spPr>
                  <a:xfrm rot="16200000">
                    <a:off x="1017360" y="-1630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Дуга 7"/>
                  <p:cNvSpPr/>
                  <p:nvPr/>
                </p:nvSpPr>
                <p:spPr>
                  <a:xfrm rot="16200000">
                    <a:off x="1017720" y="-1478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Дуга 8"/>
                  <p:cNvSpPr/>
                  <p:nvPr/>
                </p:nvSpPr>
                <p:spPr>
                  <a:xfrm rot="16200000">
                    <a:off x="1012680" y="-1392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Дуга 11"/>
                  <p:cNvSpPr/>
                  <p:nvPr/>
                </p:nvSpPr>
                <p:spPr>
                  <a:xfrm rot="16200000">
                    <a:off x="1044000" y="-1049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Дуга 12"/>
                <p:cNvSpPr/>
                <p:nvPr/>
              </p:nvSpPr>
              <p:spPr>
                <a:xfrm rot="16200000">
                  <a:off x="1080720" y="-932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63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3" descr="подс1.jpg"/>
          <p:cNvPicPr/>
          <p:nvPr/>
        </p:nvPicPr>
        <p:blipFill>
          <a:blip r:embed="rId7"/>
          <a:stretch/>
        </p:blipFill>
        <p:spPr>
          <a:xfrm>
            <a:off x="7524720" y="544500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5" descr="подс1.jpg"/>
          <p:cNvPicPr/>
          <p:nvPr/>
        </p:nvPicPr>
        <p:blipFill>
          <a:blip r:embed="rId8"/>
          <a:stretch/>
        </p:blipFill>
        <p:spPr>
          <a:xfrm>
            <a:off x="7380360" y="5708520"/>
            <a:ext cx="928440" cy="114948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31" descr="бк2.png"/>
          <p:cNvPicPr/>
          <p:nvPr/>
        </p:nvPicPr>
        <p:blipFill>
          <a:blip r:embed="rId10"/>
          <a:stretch/>
        </p:blipFill>
        <p:spPr>
          <a:xfrm>
            <a:off x="179280" y="6165720"/>
            <a:ext cx="576360" cy="4636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375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376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378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380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381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5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86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  <p:sp>
        <p:nvSpPr>
          <p:cNvPr id="393" name="WordArt 30"/>
          <p:cNvSpPr txBox="1"/>
          <p:nvPr/>
        </p:nvSpPr>
        <p:spPr>
          <a:xfrm>
            <a:off x="2124000" y="2603520"/>
            <a:ext cx="54910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7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ную работу выполни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ащиеся 2 кла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4" name="Picture 31" descr=""/>
          <p:cNvPicPr/>
          <p:nvPr/>
        </p:nvPicPr>
        <p:blipFill>
          <a:blip r:embed="rId12"/>
          <a:stretch/>
        </p:blipFill>
        <p:spPr>
          <a:xfrm>
            <a:off x="1258920" y="3716280"/>
            <a:ext cx="2663640" cy="1800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2" descr=""/>
          <p:cNvPicPr/>
          <p:nvPr/>
        </p:nvPicPr>
        <p:blipFill>
          <a:blip r:embed="rId13"/>
          <a:stretch/>
        </p:blipFill>
        <p:spPr>
          <a:xfrm>
            <a:off x="5292720" y="3716280"/>
            <a:ext cx="2730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01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402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404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406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407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1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12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6" descr=""/>
          <p:cNvPicPr/>
          <p:nvPr/>
        </p:nvPicPr>
        <p:blipFill>
          <a:blip r:embed="rId12"/>
          <a:stretch/>
        </p:blipFill>
        <p:spPr>
          <a:xfrm>
            <a:off x="1979640" y="1628640"/>
            <a:ext cx="2462040" cy="1852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8" descr=""/>
          <p:cNvPicPr/>
          <p:nvPr/>
        </p:nvPicPr>
        <p:blipFill>
          <a:blip r:embed="rId13"/>
          <a:stretch/>
        </p:blipFill>
        <p:spPr>
          <a:xfrm>
            <a:off x="539640" y="3573360"/>
            <a:ext cx="2462400" cy="1513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0" descr="Фото0516"/>
          <p:cNvPicPr/>
          <p:nvPr/>
        </p:nvPicPr>
        <p:blipFill>
          <a:blip r:embed="rId14"/>
          <a:stretch/>
        </p:blipFill>
        <p:spPr>
          <a:xfrm>
            <a:off x="3276720" y="4437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1" descr=""/>
          <p:cNvPicPr/>
          <p:nvPr/>
        </p:nvPicPr>
        <p:blipFill>
          <a:blip r:embed="rId15"/>
          <a:stretch/>
        </p:blipFill>
        <p:spPr>
          <a:xfrm>
            <a:off x="4788000" y="1484280"/>
            <a:ext cx="2334960" cy="1768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2" descr=""/>
          <p:cNvPicPr/>
          <p:nvPr/>
        </p:nvPicPr>
        <p:blipFill>
          <a:blip r:embed="rId16"/>
          <a:stretch/>
        </p:blipFill>
        <p:spPr>
          <a:xfrm>
            <a:off x="6372360" y="3789360"/>
            <a:ext cx="24746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14" descr="подс1.jpg"/>
          <p:cNvPicPr/>
          <p:nvPr/>
        </p:nvPicPr>
        <p:blipFill>
          <a:blip r:embed="rId1"/>
          <a:stretch/>
        </p:blipFill>
        <p:spPr>
          <a:xfrm>
            <a:off x="6877080" y="5445000"/>
            <a:ext cx="928800" cy="14130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29" name="Группа 29"/>
          <p:cNvGrpSpPr/>
          <p:nvPr/>
        </p:nvGrpSpPr>
        <p:grpSpPr>
          <a:xfrm>
            <a:off x="-612720" y="-360"/>
            <a:ext cx="10144080" cy="7036200"/>
            <a:chOff x="-612720" y="-360"/>
            <a:chExt cx="10144080" cy="7036200"/>
          </a:xfrm>
        </p:grpSpPr>
        <p:sp>
          <p:nvSpPr>
            <p:cNvPr id="430" name="Дуга 9"/>
            <p:cNvSpPr/>
            <p:nvPr/>
          </p:nvSpPr>
          <p:spPr>
            <a:xfrm rot="16200000">
              <a:off x="982800" y="-1271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Группа 18"/>
            <p:cNvGrpSpPr/>
            <p:nvPr/>
          </p:nvGrpSpPr>
          <p:grpSpPr>
            <a:xfrm>
              <a:off x="-612720" y="-360"/>
              <a:ext cx="10144080" cy="7036200"/>
              <a:chOff x="-612720" y="-360"/>
              <a:chExt cx="10144080" cy="7036200"/>
            </a:xfrm>
          </p:grpSpPr>
          <p:sp>
            <p:nvSpPr>
              <p:cNvPr id="432" name="Дуга 10"/>
              <p:cNvSpPr/>
              <p:nvPr/>
            </p:nvSpPr>
            <p:spPr>
              <a:xfrm rot="16200000">
                <a:off x="1008360" y="-1165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Группа 17"/>
              <p:cNvGrpSpPr/>
              <p:nvPr/>
            </p:nvGrpSpPr>
            <p:grpSpPr>
              <a:xfrm>
                <a:off x="-612720" y="-360"/>
                <a:ext cx="10144080" cy="7036200"/>
                <a:chOff x="-612720" y="-360"/>
                <a:chExt cx="10144080" cy="7036200"/>
              </a:xfrm>
            </p:grpSpPr>
            <p:grpSp>
              <p:nvGrpSpPr>
                <p:cNvPr id="434" name="Группа 16"/>
                <p:cNvGrpSpPr/>
                <p:nvPr/>
              </p:nvGrpSpPr>
              <p:grpSpPr>
                <a:xfrm>
                  <a:off x="-612720" y="-360"/>
                  <a:ext cx="10144080" cy="7035840"/>
                  <a:chOff x="-612720" y="-360"/>
                  <a:chExt cx="10144080" cy="7035840"/>
                </a:xfrm>
              </p:grpSpPr>
              <p:sp>
                <p:nvSpPr>
                  <p:cNvPr id="435" name="Дуга 6"/>
                  <p:cNvSpPr/>
                  <p:nvPr/>
                </p:nvSpPr>
                <p:spPr>
                  <a:xfrm rot="16200000">
                    <a:off x="1017360" y="-1630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Дуга 7"/>
                  <p:cNvSpPr/>
                  <p:nvPr/>
                </p:nvSpPr>
                <p:spPr>
                  <a:xfrm rot="16200000">
                    <a:off x="1017720" y="-1478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Дуга 8"/>
                  <p:cNvSpPr/>
                  <p:nvPr/>
                </p:nvSpPr>
                <p:spPr>
                  <a:xfrm rot="16200000">
                    <a:off x="1012680" y="-1392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Дуга 11"/>
                  <p:cNvSpPr/>
                  <p:nvPr/>
                </p:nvSpPr>
                <p:spPr>
                  <a:xfrm rot="16200000">
                    <a:off x="1044000" y="-1049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Дуга 12"/>
                <p:cNvSpPr/>
                <p:nvPr/>
              </p:nvSpPr>
              <p:spPr>
                <a:xfrm rot="16200000">
                  <a:off x="1080720" y="-932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40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13" descr="подс1.jpg"/>
          <p:cNvPicPr/>
          <p:nvPr/>
        </p:nvPicPr>
        <p:blipFill>
          <a:blip r:embed="rId7"/>
          <a:stretch/>
        </p:blipFill>
        <p:spPr>
          <a:xfrm>
            <a:off x="7524720" y="544500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15" descr="подс1.jpg"/>
          <p:cNvPicPr/>
          <p:nvPr/>
        </p:nvPicPr>
        <p:blipFill>
          <a:blip r:embed="rId8"/>
          <a:stretch/>
        </p:blipFill>
        <p:spPr>
          <a:xfrm>
            <a:off x="7380360" y="5708520"/>
            <a:ext cx="928440" cy="11494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1" descr="бк2.png"/>
          <p:cNvPicPr/>
          <p:nvPr/>
        </p:nvPicPr>
        <p:blipFill>
          <a:blip r:embed="rId10"/>
          <a:stretch/>
        </p:blipFill>
        <p:spPr>
          <a:xfrm>
            <a:off x="179280" y="6165720"/>
            <a:ext cx="576360" cy="46368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  <p:sp>
        <p:nvSpPr>
          <p:cNvPr id="447" name="WordArt 25"/>
          <p:cNvSpPr txBox="1"/>
          <p:nvPr/>
        </p:nvSpPr>
        <p:spPr>
          <a:xfrm>
            <a:off x="2700360" y="3156120"/>
            <a:ext cx="39592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8" name="Picture 26" descr=""/>
          <p:cNvPicPr/>
          <p:nvPr/>
        </p:nvPicPr>
        <p:blipFill>
          <a:blip r:embed="rId12"/>
          <a:stretch/>
        </p:blipFill>
        <p:spPr>
          <a:xfrm>
            <a:off x="3492360" y="1484280"/>
            <a:ext cx="2152800" cy="12254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7" descr=""/>
          <p:cNvPicPr/>
          <p:nvPr/>
        </p:nvPicPr>
        <p:blipFill>
          <a:blip r:embed="rId13"/>
          <a:stretch/>
        </p:blipFill>
        <p:spPr>
          <a:xfrm>
            <a:off x="971640" y="4005360"/>
            <a:ext cx="2103480" cy="11952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8" descr=""/>
          <p:cNvPicPr/>
          <p:nvPr/>
        </p:nvPicPr>
        <p:blipFill>
          <a:blip r:embed="rId14"/>
          <a:stretch/>
        </p:blipFill>
        <p:spPr>
          <a:xfrm>
            <a:off x="5796000" y="4076640"/>
            <a:ext cx="19749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Открывает  нотный  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Музыкальный  капитан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Капитан  отличный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Славный  ключ  . . . . . . .</a:t>
            </a:r>
            <a:r>
              <a:rPr b="1" lang="ru-RU" sz="3200" spc="-1" strike="noStrike">
                <a:solidFill>
                  <a:srgbClr val="00cc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72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73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75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77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78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3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"/>
          <p:cNvPicPr/>
          <p:nvPr/>
        </p:nvPicPr>
        <p:blipFill>
          <a:blip r:embed="rId12"/>
          <a:srcRect l="1240" t="19424" r="93803" b="72731"/>
          <a:stretch/>
        </p:blipFill>
        <p:spPr>
          <a:xfrm>
            <a:off x="3924360" y="4581360"/>
            <a:ext cx="1307880" cy="1554480"/>
          </a:xfrm>
          <a:prstGeom prst="rect">
            <a:avLst/>
          </a:prstGeom>
          <a:ln w="0">
            <a:noFill/>
          </a:ln>
        </p:spPr>
      </p:pic>
      <p:pic>
        <p:nvPicPr>
          <p:cNvPr id="91" name="Выглянуло солнышко.mp3" descr=""/>
          <p:cNvPicPr/>
          <p:nvPr/>
        </p:nvPicPr>
        <p:blipFill>
          <a:blip r:embed="rId13"/>
          <a:stretch/>
        </p:blipFill>
        <p:spPr>
          <a:xfrm>
            <a:off x="7380360" y="5318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11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На четвёртой снизу строчке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Запятая и две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29"/>
          <p:cNvGrpSpPr/>
          <p:nvPr/>
        </p:nvGrpSpPr>
        <p:grpSpPr>
          <a:xfrm>
            <a:off x="-396720" y="691920"/>
            <a:ext cx="10144080" cy="7036200"/>
            <a:chOff x="-396720" y="691920"/>
            <a:chExt cx="10144080" cy="7036200"/>
          </a:xfrm>
        </p:grpSpPr>
        <p:sp>
          <p:nvSpPr>
            <p:cNvPr id="98" name="Дуга 9"/>
            <p:cNvSpPr/>
            <p:nvPr/>
          </p:nvSpPr>
          <p:spPr>
            <a:xfrm rot="16200000">
              <a:off x="1198800" y="-57960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Группа 18"/>
            <p:cNvGrpSpPr/>
            <p:nvPr/>
          </p:nvGrpSpPr>
          <p:grpSpPr>
            <a:xfrm>
              <a:off x="-396720" y="691920"/>
              <a:ext cx="10144080" cy="7036200"/>
              <a:chOff x="-396720" y="691920"/>
              <a:chExt cx="10144080" cy="7036200"/>
            </a:xfrm>
          </p:grpSpPr>
          <p:sp>
            <p:nvSpPr>
              <p:cNvPr id="100" name="Дуга 10"/>
              <p:cNvSpPr/>
              <p:nvPr/>
            </p:nvSpPr>
            <p:spPr>
              <a:xfrm rot="16200000">
                <a:off x="1224360" y="-47340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Группа 17"/>
              <p:cNvGrpSpPr/>
              <p:nvPr/>
            </p:nvGrpSpPr>
            <p:grpSpPr>
              <a:xfrm>
                <a:off x="-396720" y="691920"/>
                <a:ext cx="10144080" cy="7036200"/>
                <a:chOff x="-396720" y="691920"/>
                <a:chExt cx="10144080" cy="7036200"/>
              </a:xfrm>
            </p:grpSpPr>
            <p:grpSp>
              <p:nvGrpSpPr>
                <p:cNvPr id="102" name="Группа 16"/>
                <p:cNvGrpSpPr/>
                <p:nvPr/>
              </p:nvGrpSpPr>
              <p:grpSpPr>
                <a:xfrm>
                  <a:off x="-396720" y="691920"/>
                  <a:ext cx="10144080" cy="7035840"/>
                  <a:chOff x="-396720" y="691920"/>
                  <a:chExt cx="10144080" cy="7035840"/>
                </a:xfrm>
              </p:grpSpPr>
              <p:sp>
                <p:nvSpPr>
                  <p:cNvPr id="103" name="Дуга 6"/>
                  <p:cNvSpPr/>
                  <p:nvPr/>
                </p:nvSpPr>
                <p:spPr>
                  <a:xfrm rot="16200000">
                    <a:off x="1233360" y="-93816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Дуга 7"/>
                  <p:cNvSpPr/>
                  <p:nvPr/>
                </p:nvSpPr>
                <p:spPr>
                  <a:xfrm rot="16200000">
                    <a:off x="1233720" y="-78624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Дуга 8"/>
                  <p:cNvSpPr/>
                  <p:nvPr/>
                </p:nvSpPr>
                <p:spPr>
                  <a:xfrm rot="16200000">
                    <a:off x="1228680" y="-70020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Дуга 11"/>
                  <p:cNvSpPr/>
                  <p:nvPr/>
                </p:nvSpPr>
                <p:spPr>
                  <a:xfrm rot="16200000">
                    <a:off x="1260000" y="-35676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Дуга 12"/>
                <p:cNvSpPr/>
                <p:nvPr/>
              </p:nvSpPr>
              <p:spPr>
                <a:xfrm rot="16200000">
                  <a:off x="1296360" y="-24048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8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"/>
          <p:cNvPicPr/>
          <p:nvPr/>
        </p:nvPicPr>
        <p:blipFill>
          <a:blip r:embed="rId12"/>
          <a:srcRect l="1860" t="31407" r="94268" b="63430"/>
          <a:stretch/>
        </p:blipFill>
        <p:spPr>
          <a:xfrm>
            <a:off x="3851280" y="4292640"/>
            <a:ext cx="1657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Пять верёвочек висят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С них сто птичек гол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122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124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126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127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32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9" descr=""/>
          <p:cNvPicPr/>
          <p:nvPr/>
        </p:nvPicPr>
        <p:blipFill>
          <a:blip r:embed="rId12"/>
          <a:stretch/>
        </p:blipFill>
        <p:spPr>
          <a:xfrm>
            <a:off x="1619280" y="4437000"/>
            <a:ext cx="612144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На  листочке,  на  страничке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То  ли  точки,  то  ли  птички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Всё  сидят    на  лесенке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И  щебечут  песенки 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5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146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148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150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151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56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Эта нота в каждом доме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   В каждой будочке живёт.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То лежит она в ладони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То на лодочке плы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169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171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173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174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79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Нота мчит на бал в карете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Плещет в море и в реке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Есть она и в винегрете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И в ремне, и в терем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192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194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196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197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02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Любима  она  взрослыми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Любима  и  детьми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Мягкая  и  нежная,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Простая нота . . . . 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214" name="Группа 29"/>
          <p:cNvGrpSpPr/>
          <p:nvPr/>
        </p:nvGrpSpPr>
        <p:grpSpPr>
          <a:xfrm>
            <a:off x="-396720" y="764640"/>
            <a:ext cx="10144080" cy="7036200"/>
            <a:chOff x="-396720" y="764640"/>
            <a:chExt cx="10144080" cy="7036200"/>
          </a:xfrm>
        </p:grpSpPr>
        <p:sp>
          <p:nvSpPr>
            <p:cNvPr id="215" name="Дуга 9"/>
            <p:cNvSpPr/>
            <p:nvPr/>
          </p:nvSpPr>
          <p:spPr>
            <a:xfrm rot="16200000">
              <a:off x="119880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Группа 18"/>
            <p:cNvGrpSpPr/>
            <p:nvPr/>
          </p:nvGrpSpPr>
          <p:grpSpPr>
            <a:xfrm>
              <a:off x="-396720" y="764640"/>
              <a:ext cx="10144080" cy="7036200"/>
              <a:chOff x="-396720" y="764640"/>
              <a:chExt cx="10144080" cy="7036200"/>
            </a:xfrm>
          </p:grpSpPr>
          <p:sp>
            <p:nvSpPr>
              <p:cNvPr id="217" name="Дуга 10"/>
              <p:cNvSpPr/>
              <p:nvPr/>
            </p:nvSpPr>
            <p:spPr>
              <a:xfrm rot="16200000">
                <a:off x="122436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Группа 17"/>
              <p:cNvGrpSpPr/>
              <p:nvPr/>
            </p:nvGrpSpPr>
            <p:grpSpPr>
              <a:xfrm>
                <a:off x="-396720" y="764640"/>
                <a:ext cx="10144080" cy="7036200"/>
                <a:chOff x="-396720" y="764640"/>
                <a:chExt cx="10144080" cy="7036200"/>
              </a:xfrm>
            </p:grpSpPr>
            <p:grpSp>
              <p:nvGrpSpPr>
                <p:cNvPr id="219" name="Группа 16"/>
                <p:cNvGrpSpPr/>
                <p:nvPr/>
              </p:nvGrpSpPr>
              <p:grpSpPr>
                <a:xfrm>
                  <a:off x="-396720" y="764640"/>
                  <a:ext cx="10144080" cy="7035840"/>
                  <a:chOff x="-396720" y="764640"/>
                  <a:chExt cx="10144080" cy="7035840"/>
                </a:xfrm>
              </p:grpSpPr>
              <p:sp>
                <p:nvSpPr>
                  <p:cNvPr id="220" name="Дуга 6"/>
                  <p:cNvSpPr/>
                  <p:nvPr/>
                </p:nvSpPr>
                <p:spPr>
                  <a:xfrm rot="16200000">
                    <a:off x="123336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Дуга 7"/>
                  <p:cNvSpPr/>
                  <p:nvPr/>
                </p:nvSpPr>
                <p:spPr>
                  <a:xfrm rot="16200000">
                    <a:off x="123372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Дуга 8"/>
                  <p:cNvSpPr/>
                  <p:nvPr/>
                </p:nvSpPr>
                <p:spPr>
                  <a:xfrm rot="16200000">
                    <a:off x="122868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Дуга 11"/>
                  <p:cNvSpPr/>
                  <p:nvPr/>
                </p:nvSpPr>
                <p:spPr>
                  <a:xfrm rot="16200000">
                    <a:off x="126000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Дуга 12"/>
                <p:cNvSpPr/>
                <p:nvPr/>
              </p:nvSpPr>
              <p:spPr>
                <a:xfrm rot="16200000">
                  <a:off x="129636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25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56"/>
          <p:cNvSpPr/>
          <p:nvPr/>
        </p:nvSpPr>
        <p:spPr>
          <a:xfrm>
            <a:off x="642960" y="714240"/>
            <a:ext cx="7929720" cy="5500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Облачившись в сарафаны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И фату из целлоф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Нота-фараон опять</a:t>
            </a:r>
            <a:br>
              <a:rPr sz="3200"/>
            </a:b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В саркофаг ложится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14" descr="подс1.jpg"/>
          <p:cNvPicPr/>
          <p:nvPr/>
        </p:nvPicPr>
        <p:blipFill>
          <a:blip r:embed="rId1"/>
          <a:stretch/>
        </p:blipFill>
        <p:spPr>
          <a:xfrm>
            <a:off x="64296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тр4.jpg"/>
          <p:cNvPicPr/>
          <p:nvPr/>
        </p:nvPicPr>
        <p:blipFill>
          <a:blip r:embed="rId4"/>
          <a:stretch/>
        </p:blipFill>
        <p:spPr>
          <a:xfrm>
            <a:off x="557208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237" name="Группа 29"/>
          <p:cNvGrpSpPr/>
          <p:nvPr/>
        </p:nvGrpSpPr>
        <p:grpSpPr>
          <a:xfrm>
            <a:off x="-468360" y="764640"/>
            <a:ext cx="10144080" cy="7036200"/>
            <a:chOff x="-468360" y="764640"/>
            <a:chExt cx="10144080" cy="7036200"/>
          </a:xfrm>
        </p:grpSpPr>
        <p:sp>
          <p:nvSpPr>
            <p:cNvPr id="238" name="Дуга 9"/>
            <p:cNvSpPr/>
            <p:nvPr/>
          </p:nvSpPr>
          <p:spPr>
            <a:xfrm rot="16200000">
              <a:off x="1127160" y="-506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8"/>
                  </a:lnTo>
                  <a:cubicBezTo>
                    <a:pt x="5564564" y="269309"/>
                    <a:pt x="6883197" y="2117471"/>
                    <a:pt x="6883197" y="4317456"/>
                  </a:cubicBezTo>
                  <a:cubicBezTo>
                    <a:pt x="6883197" y="6541037"/>
                    <a:pt x="5536968" y="8400969"/>
                    <a:pt x="3772692" y="8614886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Группа 18"/>
            <p:cNvGrpSpPr/>
            <p:nvPr/>
          </p:nvGrpSpPr>
          <p:grpSpPr>
            <a:xfrm>
              <a:off x="-468360" y="764640"/>
              <a:ext cx="10144080" cy="7036200"/>
              <a:chOff x="-468360" y="764640"/>
              <a:chExt cx="10144080" cy="7036200"/>
            </a:xfrm>
          </p:grpSpPr>
          <p:sp>
            <p:nvSpPr>
              <p:cNvPr id="240" name="Дуга 10"/>
              <p:cNvSpPr/>
              <p:nvPr/>
            </p:nvSpPr>
            <p:spPr>
              <a:xfrm rot="16200000">
                <a:off x="1152720" y="-400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2"/>
                    </a:lnTo>
                    <a:cubicBezTo>
                      <a:pt x="5513143" y="263376"/>
                      <a:pt x="6821286" y="2083486"/>
                      <a:pt x="6821286" y="4250546"/>
                    </a:cubicBezTo>
                    <a:cubicBezTo>
                      <a:pt x="6821286" y="6371920"/>
                      <a:pt x="5566227" y="8168521"/>
                      <a:pt x="3880245" y="8460608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Группа 17"/>
              <p:cNvGrpSpPr/>
              <p:nvPr/>
            </p:nvGrpSpPr>
            <p:grpSpPr>
              <a:xfrm>
                <a:off x="-468360" y="764640"/>
                <a:ext cx="10144080" cy="7036200"/>
                <a:chOff x="-468360" y="764640"/>
                <a:chExt cx="10144080" cy="7036200"/>
              </a:xfrm>
            </p:grpSpPr>
            <p:grpSp>
              <p:nvGrpSpPr>
                <p:cNvPr id="242" name="Группа 16"/>
                <p:cNvGrpSpPr/>
                <p:nvPr/>
              </p:nvGrpSpPr>
              <p:grpSpPr>
                <a:xfrm>
                  <a:off x="-468360" y="764640"/>
                  <a:ext cx="10144080" cy="7035840"/>
                  <a:chOff x="-468360" y="764640"/>
                  <a:chExt cx="10144080" cy="7035840"/>
                </a:xfrm>
              </p:grpSpPr>
              <p:sp>
                <p:nvSpPr>
                  <p:cNvPr id="243" name="Дуга 6"/>
                  <p:cNvSpPr/>
                  <p:nvPr/>
                </p:nvSpPr>
                <p:spPr>
                  <a:xfrm rot="16200000">
                    <a:off x="1161720" y="-865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09" y="29878"/>
                        </a:lnTo>
                        <a:cubicBezTo>
                          <a:pt x="5573481" y="292772"/>
                          <a:pt x="6883198" y="2215277"/>
                          <a:pt x="6883198" y="4500578"/>
                        </a:cubicBezTo>
                        <a:cubicBezTo>
                          <a:pt x="6883198" y="6811475"/>
                          <a:pt x="5544843" y="8746833"/>
                          <a:pt x="3786598" y="8978486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Дуга 7"/>
                  <p:cNvSpPr/>
                  <p:nvPr/>
                </p:nvSpPr>
                <p:spPr>
                  <a:xfrm rot="16200000">
                    <a:off x="1162080" y="-713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7" y="27594"/>
                        </a:lnTo>
                        <a:cubicBezTo>
                          <a:pt x="5566577" y="278920"/>
                          <a:pt x="6883197" y="2173823"/>
                          <a:pt x="6883197" y="4428738"/>
                        </a:cubicBezTo>
                        <a:cubicBezTo>
                          <a:pt x="6883197" y="6705447"/>
                          <a:pt x="5541756" y="8611250"/>
                          <a:pt x="3781144" y="883586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Дуга 8"/>
                  <p:cNvSpPr/>
                  <p:nvPr/>
                </p:nvSpPr>
                <p:spPr>
                  <a:xfrm rot="16200000">
                    <a:off x="1157040" y="-627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4" y="28398"/>
                        </a:lnTo>
                        <a:cubicBezTo>
                          <a:pt x="5569783" y="282906"/>
                          <a:pt x="6883198" y="2174573"/>
                          <a:pt x="6883198" y="4424512"/>
                        </a:cubicBezTo>
                        <a:cubicBezTo>
                          <a:pt x="6883198" y="6649041"/>
                          <a:pt x="5598461" y="8527693"/>
                          <a:pt x="3882364" y="88125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Дуга 11"/>
                  <p:cNvSpPr/>
                  <p:nvPr/>
                </p:nvSpPr>
                <p:spPr>
                  <a:xfrm rot="16200000">
                    <a:off x="1188360" y="-284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2" y="24895"/>
                        </a:lnTo>
                        <a:cubicBezTo>
                          <a:pt x="5454071" y="257223"/>
                          <a:pt x="6749850" y="2047141"/>
                          <a:pt x="6749850" y="4178706"/>
                        </a:cubicBezTo>
                        <a:cubicBezTo>
                          <a:pt x="6749850" y="6332824"/>
                          <a:pt x="5427324" y="8133966"/>
                          <a:pt x="3695417" y="833852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Дуга 12"/>
                <p:cNvSpPr/>
                <p:nvPr/>
              </p:nvSpPr>
              <p:spPr>
                <a:xfrm rot="16200000">
                  <a:off x="1225080" y="-167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6"/>
                      </a:lnTo>
                      <a:cubicBezTo>
                        <a:pt x="5395034" y="251181"/>
                        <a:pt x="6678416" y="2011184"/>
                        <a:pt x="6678416" y="4107570"/>
                      </a:cubicBezTo>
                      <a:cubicBezTo>
                        <a:pt x="6678416" y="6225986"/>
                        <a:pt x="5368725" y="7996944"/>
                        <a:pt x="3654261" y="819681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48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3" descr="подс1.jpg"/>
          <p:cNvPicPr/>
          <p:nvPr/>
        </p:nvPicPr>
        <p:blipFill>
          <a:blip r:embed="rId7"/>
          <a:stretch/>
        </p:blipFill>
        <p:spPr>
          <a:xfrm>
            <a:off x="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5" descr="подс1.jpg"/>
          <p:cNvPicPr/>
          <p:nvPr/>
        </p:nvPicPr>
        <p:blipFill>
          <a:blip r:embed="rId8"/>
          <a:stretch/>
        </p:blipFill>
        <p:spPr>
          <a:xfrm>
            <a:off x="357120" y="514368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30" descr="ромашка5.jpg"/>
          <p:cNvPicPr/>
          <p:nvPr/>
        </p:nvPicPr>
        <p:blipFill>
          <a:blip r:embed="rId9"/>
          <a:stretch/>
        </p:blipFill>
        <p:spPr>
          <a:xfrm rot="1176000">
            <a:off x="8259840" y="6162840"/>
            <a:ext cx="731880" cy="6775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31" descr="бк2.png"/>
          <p:cNvPicPr/>
          <p:nvPr/>
        </p:nvPicPr>
        <p:blipFill>
          <a:blip r:embed="rId10"/>
          <a:stretch/>
        </p:blipFill>
        <p:spPr>
          <a:xfrm>
            <a:off x="1500120" y="6357960"/>
            <a:ext cx="381240" cy="3063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2" descr="бк3.jpg"/>
          <p:cNvPicPr/>
          <p:nvPr/>
        </p:nvPicPr>
        <p:blipFill>
          <a:blip r:embed="rId11"/>
          <a:stretch/>
        </p:blipFill>
        <p:spPr>
          <a:xfrm rot="1855200">
            <a:off x="8224560" y="546588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3:49:13Z</dcterms:created>
  <dc:creator>www.PHILka.RU</dc:creator>
  <dc:description/>
  <dc:language>en-US</dc:language>
  <cp:lastModifiedBy>1</cp:lastModifiedBy>
  <dcterms:modified xsi:type="dcterms:W3CDTF">2014-09-28T17:09:33Z</dcterms:modified>
  <cp:revision>53</cp:revision>
  <dc:subject/>
  <dc:title>Слайд 1</dc:title>
</cp:coreProperties>
</file>