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74DE-D042-4C95-A4E3-8085D926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23B-0479-4DB9-B8E2-DF13C393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408-589F-430A-A44E-A96E05D5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586-F291-459B-B299-DFEF9428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FB8-C994-42A4-A99D-70E88DAC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C69-FD03-4DE3-8B86-730ACF67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F9F-1066-4E3A-A2DE-61DD64B6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4B4-9FA2-4CF7-884E-D0EDE0D8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63B-3AA6-4E48-9B0B-DF0DC56F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E3A-9CEA-49EF-B76D-ABD4B316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4BE-C9F4-4285-8BA9-1E52A695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3C2-03FF-4C38-AB8E-F0B072F6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5447-8A3A-413F-9F65-1136373DA8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Рисунок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Загадки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«Музыкальные инструменты»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по музыке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340000" y="4000680"/>
            <a:ext cx="463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Составили учащиеся 3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учитель музы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МБОУ   СОШ №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Тлипцева Р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Прямоугольник 4"/>
          <p:cNvGrpSpPr/>
          <p:nvPr/>
        </p:nvGrpSpPr>
        <p:grpSpPr>
          <a:xfrm>
            <a:off x="1511280" y="1657440"/>
            <a:ext cx="6346800" cy="3762360"/>
            <a:chOff x="1511280" y="1657440"/>
            <a:chExt cx="6346800" cy="3762360"/>
          </a:xfrm>
        </p:grpSpPr>
        <p:pic>
          <p:nvPicPr>
            <p:cNvPr id="10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11280" y="1657440"/>
              <a:ext cx="634680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535040" y="1679400"/>
              <a:ext cx="6299280" cy="37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7"/>
          <p:cNvSpPr/>
          <p:nvPr/>
        </p:nvSpPr>
        <p:spPr>
          <a:xfrm>
            <a:off x="1476360" y="1809000"/>
            <a:ext cx="65055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У   него  есть   язык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Он   болтать   им   привык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Но,  когда   болтает   он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Слышно  не   слова,   а   звон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284720" y="5445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Колоколь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Прямоугольник 4"/>
          <p:cNvGrpSpPr/>
          <p:nvPr/>
        </p:nvGrpSpPr>
        <p:grpSpPr>
          <a:xfrm>
            <a:off x="1579680" y="1725480"/>
            <a:ext cx="6278400" cy="3694320"/>
            <a:chOff x="1579680" y="1725480"/>
            <a:chExt cx="6278400" cy="3694320"/>
          </a:xfrm>
        </p:grpSpPr>
        <p:pic>
          <p:nvPicPr>
            <p:cNvPr id="111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7"/>
          <p:cNvSpPr/>
          <p:nvPr/>
        </p:nvSpPr>
        <p:spPr>
          <a:xfrm>
            <a:off x="1505880" y="2421360"/>
            <a:ext cx="642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Все  затихли,  замолчали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Вдруг …….. зазвучали. 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Медные,  тонкие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Звонкие,  звонк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508720" y="54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Таре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Прямоугольник 4"/>
          <p:cNvGrpSpPr/>
          <p:nvPr/>
        </p:nvGrpSpPr>
        <p:grpSpPr>
          <a:xfrm>
            <a:off x="1579680" y="1725480"/>
            <a:ext cx="6278400" cy="3694320"/>
            <a:chOff x="1579680" y="1725480"/>
            <a:chExt cx="6278400" cy="3694320"/>
          </a:xfrm>
        </p:grpSpPr>
        <p:pic>
          <p:nvPicPr>
            <p:cNvPr id="118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7"/>
          <p:cNvSpPr/>
          <p:nvPr/>
        </p:nvSpPr>
        <p:spPr>
          <a:xfrm>
            <a:off x="1258920" y="243252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То  толстеет, то  худеет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    На  весь   дом   голосит.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    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508720" y="54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Гармо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Прямоугольник 4"/>
          <p:cNvGrpSpPr/>
          <p:nvPr/>
        </p:nvGrpSpPr>
        <p:grpSpPr>
          <a:xfrm>
            <a:off x="1579680" y="1725480"/>
            <a:ext cx="6278400" cy="3694320"/>
            <a:chOff x="1579680" y="1725480"/>
            <a:chExt cx="6278400" cy="3694320"/>
          </a:xfrm>
        </p:grpSpPr>
        <p:pic>
          <p:nvPicPr>
            <p:cNvPr id="12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7"/>
          <p:cNvSpPr/>
          <p:nvPr/>
        </p:nvSpPr>
        <p:spPr>
          <a:xfrm>
            <a:off x="1547640" y="278028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Молодёжь  из  разных 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Лихо  пляшет  под  . . . . . 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508720" y="54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Бая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Прямоугольник 4"/>
          <p:cNvGrpSpPr/>
          <p:nvPr/>
        </p:nvGrpSpPr>
        <p:grpSpPr>
          <a:xfrm>
            <a:off x="1579680" y="1725480"/>
            <a:ext cx="6278400" cy="3694320"/>
            <a:chOff x="1579680" y="1725480"/>
            <a:chExt cx="6278400" cy="3694320"/>
          </a:xfrm>
        </p:grpSpPr>
        <p:pic>
          <p:nvPicPr>
            <p:cNvPr id="132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7"/>
          <p:cNvSpPr/>
          <p:nvPr/>
        </p:nvSpPr>
        <p:spPr>
          <a:xfrm>
            <a:off x="1685520" y="1845360"/>
            <a:ext cx="60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Очень  весело  поёт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Если  дуете  в  неё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Вы  все  на  ней  играете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И  сразу  отгадаете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Ду-ду, ду-ду-ду, да-да-да, да-да!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Вот  так  поёт  она  всегда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Не  палочка,  не  трубочка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А  что  же  это? .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508720" y="54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Дуд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Прямоугольник 4"/>
          <p:cNvGrpSpPr/>
          <p:nvPr/>
        </p:nvGrpSpPr>
        <p:grpSpPr>
          <a:xfrm>
            <a:off x="1579680" y="1725480"/>
            <a:ext cx="6278400" cy="3694320"/>
            <a:chOff x="1579680" y="1725480"/>
            <a:chExt cx="6278400" cy="3694320"/>
          </a:xfrm>
        </p:grpSpPr>
        <p:pic>
          <p:nvPicPr>
            <p:cNvPr id="13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7"/>
          <p:cNvSpPr/>
          <p:nvPr/>
        </p:nvSpPr>
        <p:spPr>
          <a:xfrm>
            <a:off x="1774440" y="1485360"/>
            <a:ext cx="56030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В  руки  ты  её  возьмёшь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То  растянешь,  то  сожмёшь!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Звонкая,  нарядная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Русская двухрядная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Заиграет,  только тронь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Как  зовут  её? . . . . . . . 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Рада  вам  она  играть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Приглашает  попляс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5508720" y="54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Гармо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Прямоугольник 4"/>
          <p:cNvGrpSpPr/>
          <p:nvPr/>
        </p:nvGrpSpPr>
        <p:grpSpPr>
          <a:xfrm>
            <a:off x="1579680" y="1725480"/>
            <a:ext cx="6278400" cy="3694320"/>
            <a:chOff x="1579680" y="1725480"/>
            <a:chExt cx="6278400" cy="3694320"/>
          </a:xfrm>
        </p:grpSpPr>
        <p:pic>
          <p:nvPicPr>
            <p:cNvPr id="14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7"/>
          <p:cNvSpPr/>
          <p:nvPr/>
        </p:nvSpPr>
        <p:spPr>
          <a:xfrm>
            <a:off x="1541880" y="2348640"/>
            <a:ext cx="6398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Тут,  сверкая  чёрным  лаком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В  наступившей  тишине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Белозубый  и  трёхлапый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Подошёл …….. ко  мне.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508720" y="54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Роя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Прямоугольник 4"/>
          <p:cNvGrpSpPr/>
          <p:nvPr/>
        </p:nvGrpSpPr>
        <p:grpSpPr>
          <a:xfrm>
            <a:off x="1262160" y="1689120"/>
            <a:ext cx="7338960" cy="3693960"/>
            <a:chOff x="1262160" y="1689120"/>
            <a:chExt cx="7338960" cy="3693960"/>
          </a:xfrm>
        </p:grpSpPr>
        <p:pic>
          <p:nvPicPr>
            <p:cNvPr id="15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262160" y="1689120"/>
              <a:ext cx="7338960" cy="36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285920" y="1714680"/>
              <a:ext cx="72896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7"/>
          <p:cNvSpPr/>
          <p:nvPr/>
        </p:nvSpPr>
        <p:spPr>
          <a:xfrm>
            <a:off x="1187280" y="2781360"/>
            <a:ext cx="692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Прямоугольник 4"/>
          <p:cNvGrpSpPr/>
          <p:nvPr/>
        </p:nvGrpSpPr>
        <p:grpSpPr>
          <a:xfrm>
            <a:off x="1579680" y="1725480"/>
            <a:ext cx="6278400" cy="3621240"/>
            <a:chOff x="1579680" y="1725480"/>
            <a:chExt cx="6278400" cy="3621240"/>
          </a:xfrm>
        </p:grpSpPr>
        <p:pic>
          <p:nvPicPr>
            <p:cNvPr id="4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604880" y="1749600"/>
              <a:ext cx="6229440" cy="35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2"/>
          <p:cNvSpPr/>
          <p:nvPr/>
        </p:nvSpPr>
        <p:spPr>
          <a:xfrm>
            <a:off x="1685520" y="1431000"/>
            <a:ext cx="55634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  <a:ea typeface="Tahoma"/>
              </a:rPr>
              <a:t>Ой,  звенит  она,  звенит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  <a:ea typeface="Tahoma"/>
              </a:rPr>
              <a:t>Всех  игрою веселит!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  <a:ea typeface="Tahoma"/>
              </a:rPr>
              <a:t>А  всего-то  три  струны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  <a:ea typeface="Tahoma"/>
              </a:rPr>
              <a:t>Ей  для  музыки  нужны.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  <a:ea typeface="Tahoma"/>
              </a:rPr>
              <a:t>Кто  такая?  Отгадай-ка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  <a:ea typeface="Tahoma"/>
              </a:rPr>
              <a:t>Это  наша . . .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859280" y="537516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  <a:ea typeface="Tahoma"/>
              </a:rPr>
              <a:t>Балалай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Прямоугольник 4"/>
          <p:cNvGrpSpPr/>
          <p:nvPr/>
        </p:nvGrpSpPr>
        <p:grpSpPr>
          <a:xfrm>
            <a:off x="1579680" y="1725480"/>
            <a:ext cx="6278400" cy="3694320"/>
            <a:chOff x="1579680" y="1725480"/>
            <a:chExt cx="6278400" cy="3694320"/>
          </a:xfrm>
        </p:grpSpPr>
        <p:pic>
          <p:nvPicPr>
            <p:cNvPr id="5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1655640" y="1916640"/>
            <a:ext cx="61592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Я  стою  на  трёх  ногах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Ноги  в  чёрных  сапогах.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Зубы  белые,   педаль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Как  зовут  меня? . . . . .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796000" y="5589720"/>
            <a:ext cx="21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5940360" y="55166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Роя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Прямоугольник 4"/>
          <p:cNvGrpSpPr/>
          <p:nvPr/>
        </p:nvGrpSpPr>
        <p:grpSpPr>
          <a:xfrm>
            <a:off x="1579680" y="1725480"/>
            <a:ext cx="6278400" cy="3694320"/>
            <a:chOff x="1579680" y="1725480"/>
            <a:chExt cx="6278400" cy="3694320"/>
          </a:xfrm>
        </p:grpSpPr>
        <p:pic>
          <p:nvPicPr>
            <p:cNvPr id="62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7"/>
          <p:cNvSpPr/>
          <p:nvPr/>
        </p:nvSpPr>
        <p:spPr>
          <a:xfrm>
            <a:off x="1815120" y="1715760"/>
            <a:ext cx="4638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Дом   пустой, 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Голос  густой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Дробь  отбивает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Ребят   созывает.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5508720" y="5516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Бараб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Прямоугольник 4"/>
          <p:cNvGrpSpPr/>
          <p:nvPr/>
        </p:nvGrpSpPr>
        <p:grpSpPr>
          <a:xfrm>
            <a:off x="1579680" y="1444680"/>
            <a:ext cx="6278400" cy="3968640"/>
            <a:chOff x="1579680" y="1444680"/>
            <a:chExt cx="6278400" cy="3968640"/>
          </a:xfrm>
        </p:grpSpPr>
        <p:pic>
          <p:nvPicPr>
            <p:cNvPr id="6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444680"/>
              <a:ext cx="6278400" cy="39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604880" y="1467000"/>
              <a:ext cx="6229440" cy="39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7"/>
          <p:cNvSpPr/>
          <p:nvPr/>
        </p:nvSpPr>
        <p:spPr>
          <a:xfrm>
            <a:off x="1835280" y="1078920"/>
            <a:ext cx="564984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6600"/>
                </a:solidFill>
                <a:latin typeface="Tahoma"/>
              </a:rPr>
              <a:t>Есть   у   меня   колёсик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6600"/>
                </a:solidFill>
                <a:latin typeface="Tahoma"/>
              </a:rPr>
              <a:t>Есть   у   меня   педал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6600"/>
                </a:solidFill>
                <a:latin typeface="Tahoma"/>
              </a:rPr>
              <a:t>Но   сколько   б   вы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6600"/>
                </a:solidFill>
                <a:latin typeface="Tahoma"/>
              </a:rPr>
              <a:t>На   них   не   нажимали –</a:t>
            </a:r>
            <a:br>
              <a:rPr sz="2600"/>
            </a:br>
            <a:r>
              <a:rPr b="1" lang="ru-RU" sz="2600" spc="-1" strike="noStrike">
                <a:solidFill>
                  <a:srgbClr val="ff6600"/>
                </a:solidFill>
                <a:latin typeface="Tahoma"/>
              </a:rPr>
              <a:t>Не  тронусь  с  места  я,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6600"/>
                </a:solidFill>
                <a:latin typeface="Tahoma"/>
              </a:rPr>
              <a:t>А  в  мировые   дали</a:t>
            </a:r>
            <a:br>
              <a:rPr sz="2600"/>
            </a:br>
            <a:r>
              <a:rPr b="1" lang="ru-RU" sz="2600" spc="-1" strike="noStrike">
                <a:solidFill>
                  <a:srgbClr val="ff6600"/>
                </a:solidFill>
                <a:latin typeface="Tahoma"/>
              </a:rPr>
              <a:t>Я   музыкой   вас   увезти   могу Скажите,  вы   меня   уже   узнали? 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500720" y="5516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Фортепи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763640" y="1600200"/>
            <a:ext cx="59040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Прямоугольник 4"/>
          <p:cNvGrpSpPr/>
          <p:nvPr/>
        </p:nvGrpSpPr>
        <p:grpSpPr>
          <a:xfrm>
            <a:off x="1579680" y="1657440"/>
            <a:ext cx="6278400" cy="3762360"/>
            <a:chOff x="1579680" y="1657440"/>
            <a:chExt cx="6278400" cy="3762360"/>
          </a:xfrm>
        </p:grpSpPr>
        <p:pic>
          <p:nvPicPr>
            <p:cNvPr id="7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657440"/>
              <a:ext cx="627840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604880" y="1679400"/>
              <a:ext cx="6229440" cy="37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7"/>
          <p:cNvSpPr/>
          <p:nvPr/>
        </p:nvSpPr>
        <p:spPr>
          <a:xfrm>
            <a:off x="1619280" y="2443680"/>
            <a:ext cx="655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Имя  вам  моё  известно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Знаменит  я  повсеместно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Я  в  оркестре  главный  бас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Потому  что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932360" y="5516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Контраб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Прямоугольник 4"/>
          <p:cNvGrpSpPr/>
          <p:nvPr/>
        </p:nvGrpSpPr>
        <p:grpSpPr>
          <a:xfrm>
            <a:off x="1579680" y="1725480"/>
            <a:ext cx="6278400" cy="3694320"/>
            <a:chOff x="1579680" y="1725480"/>
            <a:chExt cx="6278400" cy="3694320"/>
          </a:xfrm>
        </p:grpSpPr>
        <p:pic>
          <p:nvPicPr>
            <p:cNvPr id="8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7"/>
          <p:cNvSpPr/>
          <p:nvPr/>
        </p:nvSpPr>
        <p:spPr>
          <a:xfrm>
            <a:off x="1641600" y="2419920"/>
            <a:ext cx="6136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Не  сдержав  тогда  улыбки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Зазвенели  сёстры ……..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Захихикали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Запилик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508720" y="54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Скрип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Прямоугольник 4"/>
          <p:cNvGrpSpPr/>
          <p:nvPr/>
        </p:nvGrpSpPr>
        <p:grpSpPr>
          <a:xfrm>
            <a:off x="1579680" y="1725480"/>
            <a:ext cx="6278400" cy="3694320"/>
            <a:chOff x="1579680" y="1725480"/>
            <a:chExt cx="6278400" cy="3694320"/>
          </a:xfrm>
        </p:grpSpPr>
        <p:pic>
          <p:nvPicPr>
            <p:cNvPr id="9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1663200" y="2349000"/>
            <a:ext cx="61257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Вышла  дудочка  точёная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Вся  изящная  и  чёрная: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 «Я  на  весь  известен  свет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 А зовут  меня …….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508720" y="54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Клар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Прямоугольник 4"/>
          <p:cNvGrpSpPr/>
          <p:nvPr/>
        </p:nvGrpSpPr>
        <p:grpSpPr>
          <a:xfrm>
            <a:off x="1365120" y="1584360"/>
            <a:ext cx="6566040" cy="3835440"/>
            <a:chOff x="1365120" y="1584360"/>
            <a:chExt cx="6566040" cy="3835440"/>
          </a:xfrm>
        </p:grpSpPr>
        <p:pic>
          <p:nvPicPr>
            <p:cNvPr id="9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365120" y="1584360"/>
              <a:ext cx="6566040" cy="38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392120" y="1609560"/>
              <a:ext cx="6512040" cy="37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7"/>
          <p:cNvSpPr/>
          <p:nvPr/>
        </p:nvSpPr>
        <p:spPr>
          <a:xfrm>
            <a:off x="1437480" y="2205360"/>
            <a:ext cx="6392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«Не  люблю  я  шуток  странных!–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Глухо  вымолвил  ………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Я  из  рода  деревянных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Я  из  группы  духовых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Уважает  меня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Деревянная  родн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508720" y="54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Фаг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Хазерталь</cp:lastModifiedBy>
  <dcterms:modified xsi:type="dcterms:W3CDTF">2014-11-04T08:01:39Z</dcterms:modified>
  <cp:revision>56</cp:revision>
  <dc:subject/>
  <dc:title>Слайд 1</dc:title>
</cp:coreProperties>
</file>