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23A-4A3B-4B65-A407-1728054C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433-DBF5-421D-BDA5-BE588865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8C1-4D6A-4FBA-A84B-FA87E0FD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911-70FE-460D-B2A0-CC7B16E3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4DDF-3172-40A9-9732-126CCB9C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89B0-3C94-448E-8CB5-6E50E052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01D9-79C2-4A14-A3E9-229A7293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E440-0564-476A-BDA3-541BD345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3667-ED5E-4B44-954C-DC12CB90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6DF9-78ED-4D1E-8ACF-835D1866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A36D-E92B-4DFB-8DA1-FAEDAF7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737-4E08-449D-A199-2006A92F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45FD-E5A2-40BA-9447-12DBABE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9E54-F556-465E-B946-41B38C0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8122-2CA6-4C63-8B03-D534D198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2E32-36BE-4A5B-B968-697EDD6F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4F89-4A3A-4BC1-8941-E9EA7272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450-9144-4E09-976B-80C6C5EC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80A-C84B-46C8-9A53-3B36078B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2E4-0901-44F0-8A59-616E1856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422-7052-4F45-814B-FC3CA615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287-3DA8-4CE8-A6C5-B49481E2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AF4-D866-4E3F-B018-AA2C0164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829-B1A3-4C55-863A-4E8D5C70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7EF5-27B1-456F-BB22-A8026540E3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2554-2937-4C67-BB93-C9C5CB354A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48578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тема урока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Распределение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тепла и света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на Земле</a:t>
            </a: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-39852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333360"/>
          <a:ext cx="8496360" cy="3600360"/>
        </p:xfrm>
        <a:graphic>
          <a:graphicData uri="http://schemas.openxmlformats.org/drawingml/2006/table">
            <a:tbl>
              <a:tblPr/>
              <a:tblGrid>
                <a:gridCol w="2022480"/>
                <a:gridCol w="2993760"/>
                <a:gridCol w="3480120"/>
              </a:tblGrid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 декабр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) освещено меньше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) день короче ноч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) вся приполярная часть в течение суток — в тени до 66,50с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полярная ноч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зимнее солнцестоян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) освещено больше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) день длиннее ночи;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) вся приполярная часть в течение суток освещена до 66,5°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.ш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полярный день)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) лучи Солнца падают отвесно на 23,50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тнеесолнцестояни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79280" y="4365720"/>
          <a:ext cx="8964720" cy="2492280"/>
        </p:xfrm>
        <a:graphic>
          <a:graphicData uri="http://schemas.openxmlformats.org/drawingml/2006/table">
            <a:tbl>
              <a:tblPr/>
              <a:tblGrid>
                <a:gridCol w="2089080"/>
                <a:gridCol w="687564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 март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) оба полушария освещены одинаково, день равен ночи (по 12 ч)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) лучи Солнца падают отвесно на экваторе; (весеннее равноденствие) (осеннее равноденств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Продолжительность полярного</a:t>
            </a:r>
            <a:r>
              <a:rPr b="1" lang="en-US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дня и полярной  ночи</a:t>
            </a:r>
            <a:br>
              <a:rPr sz="2400"/>
            </a:b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на различных широтах Северного полушария (</a:t>
            </a:r>
            <a:r>
              <a:rPr b="1" i="1" lang="en-US" sz="2400" spc="-1" strike="noStrike">
                <a:solidFill>
                  <a:srgbClr val="00ccff"/>
                </a:solidFill>
                <a:latin typeface="Tahoma"/>
              </a:rPr>
              <a:t>сутки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Широта    Продолжительность               Продолжительность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полярного дня                          полярной ночи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6,5°          1                   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0°           64                  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80°          133                 12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0°          186                 17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Это нужно знать! Тропик – параллель 23,5° широты, на которой один раз в год, в о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22 июня – день летнего солнцестояния (самый длинный день)22 декабря – день зимне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Запомни!Укол наклона земной оси к плоскости орбиты Земли равен 66,5°В течение го"/>
          <p:cNvPicPr/>
          <p:nvPr/>
        </p:nvPicPr>
        <p:blipFill>
          <a:blip r:embed="rId2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Подумай и ответь!Рассмотрим, какой пояс получает больше всего тепла, какой меньш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Подумай и ответь! - что называется орбитой Земли?- почему происходит смена дня и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-489276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дание: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йти на карте города, где можно наблюдать полярную ночь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Мурманск, Норильск, Мончегорск, Воркута, Североморск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омашнее задание: записи в тетрад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111480"/>
            <a:ext cx="2142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5734080"/>
            <a:ext cx="84960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мена времен года зависит от вращения Земли вокруг Солнца и от того, что ось вращения планеты наклонена. Таким образом, Солнце освещает Землю неравномерно, то одну ее половину, то другую в большей степе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Распределение солнечного света и тепла на Земле"/>
          <p:cNvPicPr/>
          <p:nvPr/>
        </p:nvPicPr>
        <p:blipFill>
          <a:blip r:embed="rId2"/>
          <a:stretch/>
        </p:blipFill>
        <p:spPr>
          <a:xfrm>
            <a:off x="250920" y="0"/>
            <a:ext cx="756108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-49352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вещение Земли Солнц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Освещение Земли Солнцем"/>
          <p:cNvPicPr/>
          <p:nvPr/>
        </p:nvPicPr>
        <p:blipFill>
          <a:blip r:embed="rId2"/>
          <a:stretch/>
        </p:blipFill>
        <p:spPr>
          <a:xfrm>
            <a:off x="324000" y="1197000"/>
            <a:ext cx="860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49352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хема освещенности Земли Солнцем по зона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Схема освещенности Земли Солнцем по зонам"/>
          <p:cNvPicPr/>
          <p:nvPr/>
        </p:nvPicPr>
        <p:blipFill>
          <a:blip r:embed="rId2"/>
          <a:stretch/>
        </p:blipFill>
        <p:spPr>
          <a:xfrm>
            <a:off x="250920" y="620640"/>
            <a:ext cx="61927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712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72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Главная причина изменения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температуры воздуха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изменение угла падения солнечных лучей: чем более отвесно они падают на земную поверхность, тем лучше прогревают ее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Углы падения солнечных лучей"/>
          <p:cNvPicPr/>
          <p:nvPr/>
        </p:nvPicPr>
        <p:blipFill>
          <a:blip r:embed="rId2"/>
          <a:stretch/>
        </p:blipFill>
        <p:spPr>
          <a:xfrm>
            <a:off x="179280" y="1700280"/>
            <a:ext cx="87138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-5168520"/>
            <a:ext cx="133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-36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алехар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асположен на линии северного полярного круга. В этом городе установлен обелиск полярному круг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1847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497808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66,5° с.ш. —   Северный полярный кр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3,5° с.ш. —  Северный тропи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3,5° ю.ш. — Южный тропи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66,5° ю.ш. — Южный полярный круг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53708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еверный умеренный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бывает ни полярного дня, ни полярной ночи, Солнце никогда не стоит в зените</a:t>
            </a:r>
            <a:br>
              <a:rPr sz="2400"/>
            </a:br>
            <a:br>
              <a:rPr sz="24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ропический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лнце бывает в зените два раза в году на любой широте и один раз на широте тропиков</a:t>
            </a:r>
            <a:br>
              <a:rPr sz="2400"/>
            </a:br>
            <a:br>
              <a:rPr sz="24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Южный умеренный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лнце никогда не бывает в зените, не бывает ни полярного дня, ни полярной ночи</a:t>
            </a:r>
            <a:br>
              <a:rPr sz="2400"/>
            </a:br>
            <a:br>
              <a:rPr sz="24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Южный полярный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блюдается полярная ночь и полярный день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52034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89000"/>
          <a:ext cx="9215280" cy="3897000"/>
        </p:xfrm>
        <a:graphic>
          <a:graphicData uri="http://schemas.openxmlformats.org/drawingml/2006/table">
            <a:tbl>
              <a:tblPr/>
              <a:tblGrid>
                <a:gridCol w="1224000"/>
                <a:gridCol w="3816360"/>
                <a:gridCol w="4174920"/>
              </a:tblGrid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и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верное полушарие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жное полушарие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 нюн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) освещено больше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) день длиннее ноч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) вс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полярная часть в течение суток освещена до параллели 66,50 с. ш. (полярный день)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) Лучи Солнца падают отвесно на 23,50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. ш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летнее солнцестоян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) освещено меньше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) день короче ноч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) вся приполярная часть в течение суток в тени до параллели 66,5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.ш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полярная ноч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имнее солнцестояни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4365720"/>
          <a:ext cx="9144000" cy="2492280"/>
        </p:xfrm>
        <a:graphic>
          <a:graphicData uri="http://schemas.openxmlformats.org/drawingml/2006/table">
            <a:tbl>
              <a:tblPr/>
              <a:tblGrid>
                <a:gridCol w="2092320"/>
                <a:gridCol w="705168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 сентябр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) оба полушария освещены одинаково, день равен ночи (по 12 ч)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) лучи Солнца падают отвесно на экваторе; (осеннее равноденствие) (весеннее равноденств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3:19:54Z</dcterms:created>
  <dc:creator>Мзоков</dc:creator>
  <dc:description/>
  <dc:language>en-US</dc:language>
  <cp:lastModifiedBy>Мзоков</cp:lastModifiedBy>
  <dcterms:modified xsi:type="dcterms:W3CDTF">2014-04-20T15:16:39Z</dcterms:modified>
  <cp:revision>3</cp:revision>
  <dc:subject/>
  <dc:title>Слайд 1</dc:title>
</cp:coreProperties>
</file>